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wmf" ContentType="image/x-wmf"/>
  <Override PartName="/ppt/media/image27.png" ContentType="image/png"/>
  <Override PartName="/ppt/media/image4.png" ContentType="image/png"/>
  <Override PartName="/ppt/media/image8.png" ContentType="image/png"/>
  <Override PartName="/ppt/media/image20.png" ContentType="image/png"/>
  <Override PartName="/ppt/media/image34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0.png" ContentType="image/png"/>
  <Override PartName="/ppt/media/image7.jpeg" ContentType="image/jpeg"/>
  <Override PartName="/ppt/media/image28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12.png" ContentType="image/png"/>
  <Override PartName="/ppt/media/image11.png" ContentType="image/png"/>
  <Override PartName="/ppt/media/image9.jpeg" ContentType="image/jpeg"/>
  <Override PartName="/ppt/media/image10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35.png" ContentType="image/png"/>
  <Override PartName="/ppt/media/image15.png" ContentType="image/png"/>
  <Override PartName="/ppt/media/image1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5AAF-655F-45C6-8D56-0487A7575D5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3 Marcador de pie de página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aller “Del Indicador al Instrumento: Aporte de las Encuestas de Innovación al Diseño de Políticas Públic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EA16-268F-4AAF-A371-8CCDF435077C}" type="slidenum">
              <a:rPr b="0" lang="es-U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8E7B-95A3-4333-B463-C8E9D01B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9CC9-5ECA-4DF2-9E50-8300FF05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0FB0-078A-4B85-A19D-AFB3CCF5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28BA-CA8A-4636-9A89-5E3DE707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29D7-CA8B-4AF1-9773-F98A6B56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06CD-C7DB-4280-B41A-8001E9A7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C202-987F-4039-8780-DDC5988E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8266-FC30-4B9E-AEC2-EAD386D7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BE50-E816-4CB6-9145-9ECC10E0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1931-DAC0-4E02-BF2E-3D72E324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2DDA-F05C-427A-BA14-11B5C54A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3154-CA1A-4592-BB9B-A5E924E8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24E1-9D97-4539-9CAD-DBA21F41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6DFB-97A2-4771-81C8-70FEA6DC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743D-5C1B-40EB-A8D3-379CCA03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6352-6138-4A1E-B30F-FBD41217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95AD-9A32-4A34-826C-F6891212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0DC6AD-3F7C-4AA8-A103-124A7D2260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F70BDE-64EE-4B59-8A8B-078837DBA7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AA4BAF-E988-4B2B-8B49-485CD14B96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981EB5-7A24-473F-8556-22F71EE62C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012D6E-CB09-44A4-B6D4-DA106315FA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3B15-5432-47C9-923D-26CB0CAE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A403D7-0070-49B7-BCDE-A3EFC08010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E0ABC0-EE5B-4F14-8FA6-966B143EEB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5BDEED-E2E9-4D2B-9291-3E0D261E82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B05A2C-0AC8-4A96-9018-7D30B63941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539867-8F10-4D2F-97B4-ED39B6553F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E94B4C-024F-49DD-AF84-181C16EF7C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A779B4-BCCF-4181-9F19-0063F003935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66CCB1-AE2D-4283-98C2-44C76D4B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AA0CCB-1E30-416D-92F0-0F937CBE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600718-5D05-402D-91DC-9F6F2EE7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996A-A881-401D-8F91-E938AAE7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42F41E-BAC4-49F8-BAE5-58AC182B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5C34A5-919B-427B-9151-16000242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CDCDEF-42F8-46F1-9C2A-C0311CC1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4E2F41-D3BF-4E2E-8AED-19D8877B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BF8771-5631-4551-8079-7E671CED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4F30B3-B531-4AB4-AB81-BF041CF9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8C4984-6B3F-4495-BDE8-D3C07DB4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267F3A-FE63-441F-9A6C-6A039EB9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2FB2CE-7DFF-4838-8797-754BB40E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C9DDF0-96A7-4DA8-A503-8B605205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1013-8C2A-4F90-A89E-BC913C89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EA0E0D-040D-481B-8710-B7A54CEA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B86A26-232F-42BC-8339-9292826E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88D753-8D76-4516-85AA-4D278E25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DECB57-5377-4BC0-B997-C985CF34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08E8AC-C254-4CDB-8BA1-57502DB3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C2082C-246E-4FC9-A0A5-755F2E03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B41875-2A74-4B80-BA75-0D1EF56E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4DBD96-CAC7-4DA0-853F-EC9C0747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8FA88B-FC45-4C9F-A7B8-9300C8A6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03FDAD-4115-4B2C-B568-4A3046E1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8E11-B9A8-4871-9995-A2FD064E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14C3F1-88D9-4E1B-B085-0CD1A344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263954-BB16-4DA4-94C5-887241BC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CF7425-B154-404F-BB5B-01D37E7F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9098EF-71DA-4AF2-88B5-BC8E3B08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319A20-0141-4EC8-8B36-B9D57CEA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5EE995-5962-4CD4-9969-2C256EA7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EB4BB4-DE84-4CCD-90AD-866CD652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B20385-6AD6-455F-BE92-2A6B12C2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332872-9FDF-4D88-8422-A17E04AE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550943-E437-4A5B-8056-FD4B8640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AE5B-49C6-42EA-ABD9-CF38A275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C2E387-2A6E-4F89-8251-893BAD31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3EE0E5-35D5-43AC-9E7E-D64E389D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9150C9-47D1-4E04-ACD4-9527E59E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50C25E-657A-4DA3-8E57-82A5D4B8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277B2F-0AE3-49C4-BAEF-70BDDADA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028DD1-8831-48FE-B2C4-8E385E85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13A655-03D4-4C0A-AFDF-B9BA5A90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5897E7-D200-4ADB-87CA-E3F0BFC9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E2B30D-C89E-4451-8FD0-EAD3C5D4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2817CC-0333-4152-8402-78C551AB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FE79-CEFC-4CCB-8726-853E62D1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BC900A-1527-4292-B9DC-8D52C64D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4C8D92-3F49-42EF-BC43-B5FF00EB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D262F1-AF9B-452B-9F23-A3F6D3A6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8CE41A-1180-4D45-BFCF-46BD8199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192D67-9C95-45E8-BCE5-4A39C718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E6C6-6D4E-487F-B42A-7908055F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DAC5-A9E1-4067-9C09-4E6F6F5FB89A}" type="datetime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4F13-BA3E-421D-8154-CEE167EDDAD9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4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6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logocortoRGB"/>
          <p:cNvPicPr/>
          <p:nvPr/>
        </p:nvPicPr>
        <p:blipFill>
          <a:blip r:embed="rId5"/>
          <a:stretch/>
        </p:blipFill>
        <p:spPr>
          <a:xfrm>
            <a:off x="8501040" y="6081840"/>
            <a:ext cx="471600" cy="77616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5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5" descr="logocortoRGB"/>
          <p:cNvPicPr/>
          <p:nvPr/>
        </p:nvPicPr>
        <p:blipFill>
          <a:blip r:embed="rId5"/>
          <a:stretch/>
        </p:blipFill>
        <p:spPr>
          <a:xfrm>
            <a:off x="8501040" y="6081840"/>
            <a:ext cx="471600" cy="77616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3A8E-CFE6-4CD8-A915-9432D26B5C38}" type="datetime"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BA16-8933-45E1-81F3-42D34002AED6}" type="slidenum"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A05E-C25D-44A3-A59E-9B2614D139F8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4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7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357D-3DE9-447D-ADF3-A0C4CA0EA6B9}" type="datetime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379D-DD14-48BC-BF9D-264C6D4B76A9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E459-1E3D-4E72-8A24-55E231A3505B}" type="datetime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24CD-31D3-4753-8953-97DB07DA3C53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330B-B045-4C03-8A84-07453346DAD9}" type="datetime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3650-6169-4FA1-9C9B-079F384F15E9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10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15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5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78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B1B6-55AA-4780-92B8-2C150AE15C88}" type="datetime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ED9A-D37C-452F-A9A8-6258FDACC4A9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logocortoRGB"/>
          <p:cNvPicPr/>
          <p:nvPr/>
        </p:nvPicPr>
        <p:blipFill>
          <a:blip r:embed="rId5"/>
          <a:stretch/>
        </p:blipFill>
        <p:spPr>
          <a:xfrm>
            <a:off x="8501040" y="6081840"/>
            <a:ext cx="471600" cy="77616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6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logocortoRGB"/>
          <p:cNvPicPr/>
          <p:nvPr/>
        </p:nvPicPr>
        <p:blipFill>
          <a:blip r:embed="rId5"/>
          <a:stretch/>
        </p:blipFill>
        <p:spPr>
          <a:xfrm>
            <a:off x="8501040" y="6081840"/>
            <a:ext cx="471600" cy="7761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hyperlink" Target="http://www.anii.org.uy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6 Imagen" descr="ANNIrecortad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509" name="7 Rectángulo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0" y="1915920"/>
            <a:ext cx="91440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Lucida Sans Unicode"/>
              </a:rPr>
              <a:t>Consulta a Decisores en Políticas Pública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Lucida Sans Unicode"/>
              </a:rPr>
              <a:t>de Ciencia, Tecnología e Innovación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Lucida Sans Unicode"/>
              </a:rPr>
              <a:t>sobre sus Fuentes de Informació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Lucida Sans Unicode"/>
              </a:rPr>
              <a:t>-Principales Resultados-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</a:t>
            </a:r>
            <a:r>
              <a:rPr b="1" lang="es-CO" sz="2000" spc="-1" strike="noStrike">
                <a:solidFill>
                  <a:srgbClr val="000000"/>
                </a:solidFill>
                <a:latin typeface="Lucida Sans Unicode"/>
              </a:rPr>
              <a:t>Adolfo Garcé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1" name="1 Título" descr=""/>
          <p:cNvPicPr/>
          <p:nvPr/>
        </p:nvPicPr>
        <p:blipFill>
          <a:blip r:embed="rId2"/>
          <a:stretch/>
        </p:blipFill>
        <p:spPr>
          <a:xfrm>
            <a:off x="55440" y="92160"/>
            <a:ext cx="7966080" cy="1334880"/>
          </a:xfrm>
          <a:prstGeom prst="rect">
            <a:avLst/>
          </a:prstGeom>
          <a:ln w="0">
            <a:noFill/>
          </a:ln>
        </p:spPr>
      </p:pic>
      <p:pic>
        <p:nvPicPr>
          <p:cNvPr id="512" name="8 Imagen" descr="Logo 1,5cm CMYK.jpg"/>
          <p:cNvPicPr/>
          <p:nvPr/>
        </p:nvPicPr>
        <p:blipFill>
          <a:blip r:embed="rId3"/>
          <a:stretch/>
        </p:blipFill>
        <p:spPr>
          <a:xfrm>
            <a:off x="7929720" y="142920"/>
            <a:ext cx="834840" cy="1214280"/>
          </a:xfrm>
          <a:prstGeom prst="rect">
            <a:avLst/>
          </a:prstGeom>
          <a:ln w="0">
            <a:noFill/>
          </a:ln>
        </p:spPr>
      </p:pic>
      <p:sp>
        <p:nvSpPr>
          <p:cNvPr id="513" name="6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A508-803E-4D58-9C8C-D657858FD702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6 Imagen" descr="ANNIrecortad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555" name="7 Rectángulo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68360" y="19159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No hay que pensar que es simple y frecuente el uso directo de investigación en las política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Generalmente, la influencia de la investigación en las políticas no es directa ni inmediata (Carol Weiss)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one, Maxwell and Keating: “</a:t>
            </a: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he relationship between research and policy is often tenuous, quite often fraught” (2001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75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57" name="1 Título" descr=""/>
          <p:cNvPicPr/>
          <p:nvPr/>
        </p:nvPicPr>
        <p:blipFill>
          <a:blip r:embed="rId2"/>
          <a:stretch/>
        </p:blipFill>
        <p:spPr>
          <a:xfrm>
            <a:off x="281160" y="268200"/>
            <a:ext cx="8412120" cy="1158840"/>
          </a:xfrm>
          <a:prstGeom prst="rect">
            <a:avLst/>
          </a:prstGeom>
          <a:ln w="0">
            <a:noFill/>
          </a:ln>
        </p:spPr>
      </p:pic>
      <p:pic>
        <p:nvPicPr>
          <p:cNvPr id="558" name="8 Imagen" descr="Logo 1,5cm CMYK.jpg"/>
          <p:cNvPicPr/>
          <p:nvPr/>
        </p:nvPicPr>
        <p:blipFill>
          <a:blip r:embed="rId3"/>
          <a:stretch/>
        </p:blipFill>
        <p:spPr>
          <a:xfrm>
            <a:off x="7929720" y="142920"/>
            <a:ext cx="834840" cy="1214280"/>
          </a:xfrm>
          <a:prstGeom prst="rect">
            <a:avLst/>
          </a:prstGeom>
          <a:ln w="0">
            <a:noFill/>
          </a:ln>
        </p:spPr>
      </p:pic>
      <p:sp>
        <p:nvSpPr>
          <p:cNvPr id="559" name="8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8E5D-5DF4-4C7A-96B2-0DEB24564A69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El uso de investigación social está, en medida variable, matrizado por las estrategias políticas de los actores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La investigación es </a:t>
            </a:r>
            <a:r>
              <a:rPr b="1" i="1" lang="es-MX" sz="2300" spc="-1" strike="noStrike">
                <a:solidFill>
                  <a:srgbClr val="000000"/>
                </a:solidFill>
                <a:latin typeface="Lucida Sans Unicode"/>
              </a:rPr>
              <a:t>adaptada</a:t>
            </a: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 y no simplemente </a:t>
            </a:r>
            <a:r>
              <a:rPr b="1" i="1" lang="es-MX" sz="2300" spc="-1" strike="noStrike">
                <a:solidFill>
                  <a:srgbClr val="000000"/>
                </a:solidFill>
                <a:latin typeface="Lucida Sans Unicode"/>
              </a:rPr>
              <a:t>adoptada</a:t>
            </a:r>
            <a:r>
              <a:rPr b="0" i="1" lang="es-MX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por los policy make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3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A823-A9DF-4FCB-AB14-2E3CA27DAE28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UY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563" name="6 Imagen" descr="ANNIrecortad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564" name="6 Rectángulo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8 Imagen" descr="Logo 1,5cm CMYK.jpg"/>
          <p:cNvPicPr/>
          <p:nvPr/>
        </p:nvPicPr>
        <p:blipFill>
          <a:blip r:embed="rId2"/>
          <a:stretch/>
        </p:blipFill>
        <p:spPr>
          <a:xfrm>
            <a:off x="7929720" y="142920"/>
            <a:ext cx="834840" cy="1214280"/>
          </a:xfrm>
          <a:prstGeom prst="rect">
            <a:avLst/>
          </a:prstGeom>
          <a:ln w="0">
            <a:noFill/>
          </a:ln>
        </p:spPr>
      </p:pic>
      <p:pic>
        <p:nvPicPr>
          <p:cNvPr id="566" name="1 Título" descr=""/>
          <p:cNvPicPr/>
          <p:nvPr/>
        </p:nvPicPr>
        <p:blipFill>
          <a:blip r:embed="rId3"/>
          <a:stretch/>
        </p:blipFill>
        <p:spPr>
          <a:xfrm>
            <a:off x="433440" y="420840"/>
            <a:ext cx="84121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6 Imagen" descr="ANNIrecortad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pic>
        <p:nvPicPr>
          <p:cNvPr id="568" name="Rectangle 2" descr=""/>
          <p:cNvPicPr/>
          <p:nvPr/>
        </p:nvPicPr>
        <p:blipFill>
          <a:blip r:embed="rId2"/>
          <a:stretch/>
        </p:blipFill>
        <p:spPr>
          <a:xfrm>
            <a:off x="281160" y="268200"/>
            <a:ext cx="8412120" cy="115884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Lucida Sans Unicode"/>
              </a:rPr>
              <a:t>La literatura acerca de cuánto y cómo se utiliza la investigación en políticas públicas distingue tres factores diferentes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Oferta</a:t>
            </a: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Intersección entre oferta y demand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3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C101-DA0A-445E-90A0-CCBE1DEA21D5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6 Imagen" descr="ANNIrecortad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pic>
        <p:nvPicPr>
          <p:cNvPr id="572" name="Rectangle 2" descr=""/>
          <p:cNvPicPr/>
          <p:nvPr/>
        </p:nvPicPr>
        <p:blipFill>
          <a:blip r:embed="rId2"/>
          <a:stretch/>
        </p:blipFill>
        <p:spPr>
          <a:xfrm>
            <a:off x="281160" y="268200"/>
            <a:ext cx="8412120" cy="11588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Lucida Sans Unicode"/>
              </a:rPr>
              <a:t>Credibilidad</a:t>
            </a: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. Para ser usada, la investigación debe ser creíble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Lucida Sans Unicode"/>
              </a:rPr>
              <a:t>Relevancia</a:t>
            </a: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. Para ser usada, la investigación debe dar respuesta a los problemas que los policy makers enfrentan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Oportunidad</a:t>
            </a: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. Los resultados de la investigación deben estar a tiempo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Lucida Sans Unicode"/>
              </a:rPr>
              <a:t>Diseminación</a:t>
            </a: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. Los resultados deben ser divulgados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Lucida Sans Unicode"/>
              </a:rPr>
              <a:t>Claridad</a:t>
            </a: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. Los resultados deben ser comunicados en un vocabulario comprensible por la comunidad de policy mak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3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3A0E-4D32-4239-9446-BDB65656D1A4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6 Imagen" descr="ANNIrecortad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pic>
        <p:nvPicPr>
          <p:cNvPr id="576" name="Rectangle 2" descr=""/>
          <p:cNvPicPr/>
          <p:nvPr/>
        </p:nvPicPr>
        <p:blipFill>
          <a:blip r:embed="rId2"/>
          <a:stretch/>
        </p:blipFill>
        <p:spPr>
          <a:xfrm>
            <a:off x="281160" y="268200"/>
            <a:ext cx="8412120" cy="115884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457200" y="2046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Valoración de la investigación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 No todos los policy makers tienen la misma propensión a demandar investigación social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Lucida Sans Unicode"/>
              </a:rPr>
              <a:t>Nivel de formación.</a:t>
            </a: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 La demanda de investigación suele estar asociada al nivel de formación académica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Lucida Sans Unicode"/>
              </a:rPr>
              <a:t>Experiencia en investigación</a:t>
            </a: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. La demanda de investigación es más intensa cuando el policy maker tiene experiencia en el uso de investigación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Lucida Sans Unicode"/>
              </a:rPr>
              <a:t>Experiencia en el gobierno</a:t>
            </a: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. La demanda de investigación es más intensa cuando el policy maker lleva más tiempo en el cargo de gobierno.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3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727B-EC79-4377-BFB4-28CCF2F6ECE4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6 Imagen" descr="ANNIrecortad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pic>
        <p:nvPicPr>
          <p:cNvPr id="580" name="Rectangle 2" descr=""/>
          <p:cNvPicPr/>
          <p:nvPr/>
        </p:nvPicPr>
        <p:blipFill>
          <a:blip r:embed="rId2"/>
          <a:stretch/>
        </p:blipFill>
        <p:spPr>
          <a:xfrm>
            <a:off x="281160" y="268200"/>
            <a:ext cx="8412120" cy="115884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Para que el uso de investigación social se produzca deben “encontrarse” oferta y demanda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El “puente” entre oferta y demanda depende d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Lucida Sans Unicode"/>
              </a:rPr>
              <a:t>Contacto personal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. Formal o informal, institucionalizado o casual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Lucida Sans Unicode"/>
              </a:rPr>
              <a:t>Redes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. Cuando los expertos forman redes la capacidad de incidencia aument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Lucida Sans Unicode"/>
              </a:rPr>
              <a:t>Think tanks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. La formación de instituciones especializadas en incidencia potencia todavía más la incidencia de la investigación social en las política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Lucida Sans Unicode"/>
              </a:rPr>
              <a:t>Estructuras del Estado</a:t>
            </a: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. En algunos países el diseño institucional favorece más que en otros el contacto entre oferta y demanda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3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37EC-0E14-4121-8EA1-6DC7E405189B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6 Imagen" descr="ANNIrecortad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pic>
        <p:nvPicPr>
          <p:cNvPr id="584" name="Rectangle 2" descr=""/>
          <p:cNvPicPr/>
          <p:nvPr/>
        </p:nvPicPr>
        <p:blipFill>
          <a:blip r:embed="rId2"/>
          <a:stretch/>
        </p:blipFill>
        <p:spPr>
          <a:xfrm>
            <a:off x="36360" y="79200"/>
            <a:ext cx="7686720" cy="121320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Lucida Sans Unicode"/>
              </a:rPr>
              <a:t>La literatura también identifica problemas de oferta, demanda e intersecció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Oferta</a:t>
            </a: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. ¿Qué características tienen las encuestas? ¿Incorporan las necesidades de los policy makers? ¿Cómo se comunican sus resultados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Demanda</a:t>
            </a: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. ¿Qué características tienen los policy makers del sector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Intersección</a:t>
            </a: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. ¿Cómo se estructura la comunidad de expertos en innovación? ¿Cómo son las estructuras del Estado en el área de innovación, ciencia y tecnología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3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E992-D0C8-451D-8E48-6202594B403A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6 Imagen" descr="ANNIrecortad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pic>
        <p:nvPicPr>
          <p:cNvPr id="588" name="Rectangle 2" descr=""/>
          <p:cNvPicPr/>
          <p:nvPr/>
        </p:nvPicPr>
        <p:blipFill>
          <a:blip r:embed="rId2"/>
          <a:stretch/>
        </p:blipFill>
        <p:spPr>
          <a:xfrm>
            <a:off x="42840" y="115920"/>
            <a:ext cx="8406000" cy="117648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500040" y="11426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¿</a:t>
            </a: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Qué fuentes</a:t>
            </a: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 de información se priorizan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¿</a:t>
            </a: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Cuánto</a:t>
            </a: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 se utilizan las encuestas de innovación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¿</a:t>
            </a: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Para qué</a:t>
            </a: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 se utilizan las encuestas de innovación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¿Qué obstáculos se perciben del lado de la </a:t>
            </a: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oferta</a:t>
            </a: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¿Qué obstáculos se perciben del lado de la </a:t>
            </a: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demanda</a:t>
            </a: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¿Qué obstáculos se perciben en la </a:t>
            </a: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intersección</a:t>
            </a: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 entre oferta y demanda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¿Qué </a:t>
            </a: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áreas</a:t>
            </a: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 se consideran </a:t>
            </a: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débilmente atendidas</a:t>
            </a: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 por las encuestas de innovación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3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F6BF-4B43-4C77-A4F6-AC3E73E369AF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Rectangle 669" descr=""/>
          <p:cNvPicPr/>
          <p:nvPr/>
        </p:nvPicPr>
        <p:blipFill>
          <a:blip r:embed="rId1"/>
          <a:stretch/>
        </p:blipFill>
        <p:spPr>
          <a:xfrm>
            <a:off x="-73080" y="-6480"/>
            <a:ext cx="927756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2" name=""/>
          <p:cNvGraphicFramePr/>
          <p:nvPr/>
        </p:nvGraphicFramePr>
        <p:xfrm>
          <a:off x="214200" y="785880"/>
          <a:ext cx="8715600" cy="5172120"/>
        </p:xfrm>
        <a:graphic>
          <a:graphicData uri="http://schemas.openxmlformats.org/drawingml/2006/table">
            <a:tbl>
              <a:tblPr/>
              <a:tblGrid>
                <a:gridCol w="1308240"/>
                <a:gridCol w="2178000"/>
                <a:gridCol w="1743120"/>
                <a:gridCol w="1743120"/>
                <a:gridCol w="1743120"/>
              </a:tblGrid>
              <a:tr h="86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uentes de  Inform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iseño de políticas e instrumen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ediseño de políticas de instrumen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onitoreo y evalu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formación estadís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ocumentos de Estrate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nsultorías / investig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formació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ter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xperiencia pers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tern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formación estadís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nsultorías / investig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3" name="AutoShape 762"/>
          <p:cNvSpPr/>
          <p:nvPr/>
        </p:nvSpPr>
        <p:spPr>
          <a:xfrm>
            <a:off x="4429080" y="1857240"/>
            <a:ext cx="103320" cy="144720"/>
          </a:xfrm>
          <a:prstGeom prst="flowChartConnector">
            <a:avLst/>
          </a:prstGeom>
          <a:gradFill rotWithShape="0">
            <a:gsLst>
              <a:gs pos="0">
                <a:srgbClr val="4bacc6"/>
              </a:gs>
              <a:gs pos="100000">
                <a:srgbClr val="205867"/>
              </a:gs>
            </a:gsLst>
            <a:lin ang="2700000"/>
          </a:gra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b6dd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763"/>
          <p:cNvSpPr/>
          <p:nvPr/>
        </p:nvSpPr>
        <p:spPr>
          <a:xfrm>
            <a:off x="8001000" y="2500200"/>
            <a:ext cx="103320" cy="71640"/>
          </a:xfrm>
          <a:prstGeom prst="flowChartConnector">
            <a:avLst/>
          </a:prstGeom>
          <a:gradFill rotWithShape="0">
            <a:gsLst>
              <a:gs pos="0">
                <a:srgbClr val="4bacc6"/>
              </a:gs>
              <a:gs pos="100000">
                <a:srgbClr val="205867"/>
              </a:gs>
            </a:gsLst>
            <a:lin ang="2700000"/>
          </a:gra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b6dd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764"/>
          <p:cNvSpPr/>
          <p:nvPr/>
        </p:nvSpPr>
        <p:spPr>
          <a:xfrm>
            <a:off x="7929720" y="4500720"/>
            <a:ext cx="102960" cy="71280"/>
          </a:xfrm>
          <a:prstGeom prst="flowChartConnector">
            <a:avLst/>
          </a:prstGeom>
          <a:gradFill rotWithShape="0">
            <a:gsLst>
              <a:gs pos="0">
                <a:srgbClr val="4bacc6"/>
              </a:gs>
              <a:gs pos="100000">
                <a:srgbClr val="205867"/>
              </a:gs>
            </a:gsLst>
            <a:lin ang="2700000"/>
          </a:gra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b6dd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765"/>
          <p:cNvSpPr/>
          <p:nvPr/>
        </p:nvSpPr>
        <p:spPr>
          <a:xfrm>
            <a:off x="5940360" y="1785960"/>
            <a:ext cx="276120" cy="216000"/>
          </a:xfrm>
          <a:prstGeom prst="flowChartConnector">
            <a:avLst/>
          </a:prstGeom>
          <a:gradFill rotWithShape="0">
            <a:gsLst>
              <a:gs pos="0">
                <a:srgbClr val="4bacc6"/>
              </a:gs>
              <a:gs pos="100000">
                <a:srgbClr val="205867"/>
              </a:gs>
            </a:gsLst>
            <a:lin ang="2700000"/>
          </a:gra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b6dd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766"/>
          <p:cNvSpPr/>
          <p:nvPr/>
        </p:nvSpPr>
        <p:spPr>
          <a:xfrm>
            <a:off x="7883640" y="1855800"/>
            <a:ext cx="276120" cy="216000"/>
          </a:xfrm>
          <a:prstGeom prst="flowChartConnector">
            <a:avLst/>
          </a:prstGeom>
          <a:gradFill rotWithShape="0">
            <a:gsLst>
              <a:gs pos="0">
                <a:srgbClr val="4bacc6"/>
              </a:gs>
              <a:gs pos="100000">
                <a:srgbClr val="205867"/>
              </a:gs>
            </a:gsLst>
            <a:lin ang="2700000"/>
          </a:gra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b6dd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767"/>
          <p:cNvSpPr/>
          <p:nvPr/>
        </p:nvSpPr>
        <p:spPr>
          <a:xfrm>
            <a:off x="6000840" y="4286160"/>
            <a:ext cx="276120" cy="216000"/>
          </a:xfrm>
          <a:prstGeom prst="flowChartConnector">
            <a:avLst/>
          </a:prstGeom>
          <a:gradFill rotWithShape="0">
            <a:gsLst>
              <a:gs pos="0">
                <a:srgbClr val="4bacc6"/>
              </a:gs>
              <a:gs pos="100000">
                <a:srgbClr val="205867"/>
              </a:gs>
            </a:gsLst>
            <a:lin ang="2700000"/>
          </a:gra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b6dd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768"/>
          <p:cNvSpPr/>
          <p:nvPr/>
        </p:nvSpPr>
        <p:spPr>
          <a:xfrm>
            <a:off x="4286160" y="4286160"/>
            <a:ext cx="276480" cy="216000"/>
          </a:xfrm>
          <a:prstGeom prst="flowChartConnector">
            <a:avLst/>
          </a:prstGeom>
          <a:gradFill rotWithShape="0">
            <a:gsLst>
              <a:gs pos="0">
                <a:srgbClr val="4bacc6"/>
              </a:gs>
              <a:gs pos="100000">
                <a:srgbClr val="205867"/>
              </a:gs>
            </a:gsLst>
            <a:lin ang="2700000"/>
          </a:gra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b6dd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769"/>
          <p:cNvSpPr/>
          <p:nvPr/>
        </p:nvSpPr>
        <p:spPr>
          <a:xfrm>
            <a:off x="4286160" y="4857840"/>
            <a:ext cx="276480" cy="215640"/>
          </a:xfrm>
          <a:prstGeom prst="flowChartConnector">
            <a:avLst/>
          </a:prstGeom>
          <a:gradFill rotWithShape="0">
            <a:gsLst>
              <a:gs pos="0">
                <a:srgbClr val="4bacc6"/>
              </a:gs>
              <a:gs pos="100000">
                <a:srgbClr val="205867"/>
              </a:gs>
            </a:gsLst>
            <a:lin ang="2700000"/>
          </a:gra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b6dd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70"/>
          <p:cNvSpPr/>
          <p:nvPr/>
        </p:nvSpPr>
        <p:spPr>
          <a:xfrm>
            <a:off x="6000840" y="4929120"/>
            <a:ext cx="276120" cy="216000"/>
          </a:xfrm>
          <a:prstGeom prst="flowChartConnector">
            <a:avLst/>
          </a:prstGeom>
          <a:gradFill rotWithShape="0">
            <a:gsLst>
              <a:gs pos="0">
                <a:srgbClr val="4bacc6"/>
              </a:gs>
              <a:gs pos="100000">
                <a:srgbClr val="205867"/>
              </a:gs>
            </a:gsLst>
            <a:lin ang="2700000"/>
          </a:gra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b6dd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771"/>
          <p:cNvSpPr/>
          <p:nvPr/>
        </p:nvSpPr>
        <p:spPr>
          <a:xfrm>
            <a:off x="6000840" y="5429160"/>
            <a:ext cx="276120" cy="216000"/>
          </a:xfrm>
          <a:prstGeom prst="flowChartConnector">
            <a:avLst/>
          </a:prstGeom>
          <a:gradFill rotWithShape="0">
            <a:gsLst>
              <a:gs pos="0">
                <a:srgbClr val="4bacc6"/>
              </a:gs>
              <a:gs pos="100000">
                <a:srgbClr val="205867"/>
              </a:gs>
            </a:gsLst>
            <a:lin ang="2700000"/>
          </a:gra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b6dd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772"/>
          <p:cNvSpPr/>
          <p:nvPr/>
        </p:nvSpPr>
        <p:spPr>
          <a:xfrm>
            <a:off x="7858080" y="5500800"/>
            <a:ext cx="276120" cy="215640"/>
          </a:xfrm>
          <a:prstGeom prst="flowChartConnector">
            <a:avLst/>
          </a:prstGeom>
          <a:gradFill rotWithShape="0">
            <a:gsLst>
              <a:gs pos="0">
                <a:srgbClr val="4bacc6"/>
              </a:gs>
              <a:gs pos="100000">
                <a:srgbClr val="205867"/>
              </a:gs>
            </a:gsLst>
            <a:lin ang="2700000"/>
          </a:gra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b6dd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773"/>
          <p:cNvSpPr/>
          <p:nvPr/>
        </p:nvSpPr>
        <p:spPr>
          <a:xfrm>
            <a:off x="4214880" y="5418000"/>
            <a:ext cx="490320" cy="439920"/>
          </a:xfrm>
          <a:prstGeom prst="flowChartConnector">
            <a:avLst/>
          </a:prstGeom>
          <a:gradFill rotWithShape="0">
            <a:gsLst>
              <a:gs pos="0">
                <a:srgbClr val="4bacc6"/>
              </a:gs>
              <a:gs pos="100000">
                <a:srgbClr val="205867"/>
              </a:gs>
            </a:gsLst>
            <a:lin ang="2700000"/>
          </a:gra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b6dd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774"/>
          <p:cNvSpPr/>
          <p:nvPr/>
        </p:nvSpPr>
        <p:spPr>
          <a:xfrm>
            <a:off x="4214880" y="2286000"/>
            <a:ext cx="490320" cy="439560"/>
          </a:xfrm>
          <a:prstGeom prst="flowChartConnector">
            <a:avLst/>
          </a:prstGeom>
          <a:gradFill rotWithShape="0">
            <a:gsLst>
              <a:gs pos="0">
                <a:srgbClr val="4bacc6"/>
              </a:gs>
              <a:gs pos="100000">
                <a:srgbClr val="205867"/>
              </a:gs>
            </a:gsLst>
            <a:lin ang="2700000"/>
          </a:gra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b6dd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775"/>
          <p:cNvSpPr/>
          <p:nvPr/>
        </p:nvSpPr>
        <p:spPr>
          <a:xfrm>
            <a:off x="5857920" y="2286000"/>
            <a:ext cx="490320" cy="439560"/>
          </a:xfrm>
          <a:prstGeom prst="flowChartConnector">
            <a:avLst/>
          </a:prstGeom>
          <a:gradFill rotWithShape="0">
            <a:gsLst>
              <a:gs pos="0">
                <a:srgbClr val="4bacc6"/>
              </a:gs>
              <a:gs pos="100000">
                <a:srgbClr val="205867"/>
              </a:gs>
            </a:gsLst>
            <a:lin ang="2700000"/>
          </a:gra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b6dd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776"/>
          <p:cNvSpPr/>
          <p:nvPr/>
        </p:nvSpPr>
        <p:spPr>
          <a:xfrm>
            <a:off x="4214880" y="3489480"/>
            <a:ext cx="490320" cy="439560"/>
          </a:xfrm>
          <a:prstGeom prst="flowChartConnector">
            <a:avLst/>
          </a:prstGeom>
          <a:gradFill rotWithShape="0">
            <a:gsLst>
              <a:gs pos="0">
                <a:srgbClr val="4bacc6"/>
              </a:gs>
              <a:gs pos="100000">
                <a:srgbClr val="205867"/>
              </a:gs>
            </a:gsLst>
            <a:lin ang="2700000"/>
          </a:gra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b6dd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777"/>
          <p:cNvSpPr/>
          <p:nvPr/>
        </p:nvSpPr>
        <p:spPr>
          <a:xfrm>
            <a:off x="5857920" y="3489480"/>
            <a:ext cx="490320" cy="439560"/>
          </a:xfrm>
          <a:prstGeom prst="flowChartConnector">
            <a:avLst/>
          </a:prstGeom>
          <a:gradFill rotWithShape="0">
            <a:gsLst>
              <a:gs pos="0">
                <a:srgbClr val="4bacc6"/>
              </a:gs>
              <a:gs pos="100000">
                <a:srgbClr val="205867"/>
              </a:gs>
            </a:gsLst>
            <a:lin ang="2700000"/>
          </a:gra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b6dd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778"/>
          <p:cNvSpPr/>
          <p:nvPr/>
        </p:nvSpPr>
        <p:spPr>
          <a:xfrm>
            <a:off x="7715160" y="3571920"/>
            <a:ext cx="490680" cy="439560"/>
          </a:xfrm>
          <a:prstGeom prst="flowChartConnector">
            <a:avLst/>
          </a:prstGeom>
          <a:gradFill rotWithShape="0">
            <a:gsLst>
              <a:gs pos="0">
                <a:srgbClr val="4bacc6"/>
              </a:gs>
              <a:gs pos="100000">
                <a:srgbClr val="205867"/>
              </a:gs>
            </a:gsLst>
            <a:lin ang="2700000"/>
          </a:gra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b6dd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779"/>
          <p:cNvSpPr/>
          <p:nvPr/>
        </p:nvSpPr>
        <p:spPr>
          <a:xfrm>
            <a:off x="4214880" y="2846520"/>
            <a:ext cx="490320" cy="439560"/>
          </a:xfrm>
          <a:prstGeom prst="flowChartConnector">
            <a:avLst/>
          </a:prstGeom>
          <a:gradFill rotWithShape="0">
            <a:gsLst>
              <a:gs pos="0">
                <a:srgbClr val="4bacc6"/>
              </a:gs>
              <a:gs pos="100000">
                <a:srgbClr val="205867"/>
              </a:gs>
            </a:gsLst>
            <a:lin ang="2700000"/>
          </a:gra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b6dd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780"/>
          <p:cNvSpPr/>
          <p:nvPr/>
        </p:nvSpPr>
        <p:spPr>
          <a:xfrm>
            <a:off x="5857920" y="2857680"/>
            <a:ext cx="490320" cy="439560"/>
          </a:xfrm>
          <a:prstGeom prst="flowChartConnector">
            <a:avLst/>
          </a:prstGeom>
          <a:gradFill rotWithShape="0">
            <a:gsLst>
              <a:gs pos="0">
                <a:srgbClr val="4bacc6"/>
              </a:gs>
              <a:gs pos="100000">
                <a:srgbClr val="205867"/>
              </a:gs>
            </a:gsLst>
            <a:lin ang="2700000"/>
          </a:gra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b6dd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781"/>
          <p:cNvSpPr/>
          <p:nvPr/>
        </p:nvSpPr>
        <p:spPr>
          <a:xfrm>
            <a:off x="7858080" y="3000240"/>
            <a:ext cx="276120" cy="216000"/>
          </a:xfrm>
          <a:prstGeom prst="flowChartConnector">
            <a:avLst/>
          </a:prstGeom>
          <a:gradFill rotWithShape="0">
            <a:gsLst>
              <a:gs pos="0">
                <a:srgbClr val="4bacc6"/>
              </a:gs>
              <a:gs pos="100000">
                <a:srgbClr val="205867"/>
              </a:gs>
            </a:gsLst>
            <a:lin ang="2700000"/>
          </a:gra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b6dd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782"/>
          <p:cNvSpPr/>
          <p:nvPr/>
        </p:nvSpPr>
        <p:spPr>
          <a:xfrm>
            <a:off x="7858080" y="4929120"/>
            <a:ext cx="276120" cy="216000"/>
          </a:xfrm>
          <a:prstGeom prst="flowChartConnector">
            <a:avLst/>
          </a:prstGeom>
          <a:gradFill rotWithShape="0">
            <a:gsLst>
              <a:gs pos="0">
                <a:srgbClr val="4bacc6"/>
              </a:gs>
              <a:gs pos="100000">
                <a:srgbClr val="205867"/>
              </a:gs>
            </a:gsLst>
            <a:lin ang="2700000"/>
          </a:gra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b6dd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3"/>
          <p:cNvSpPr/>
          <p:nvPr/>
        </p:nvSpPr>
        <p:spPr>
          <a:xfrm>
            <a:off x="4071960" y="6215040"/>
            <a:ext cx="488880" cy="438120"/>
          </a:xfrm>
          <a:prstGeom prst="flowChartConnector">
            <a:avLst/>
          </a:prstGeom>
          <a:gradFill rotWithShape="0">
            <a:gsLst>
              <a:gs pos="0">
                <a:srgbClr val="4bacc6"/>
              </a:gs>
              <a:gs pos="100000">
                <a:srgbClr val="205867"/>
              </a:gs>
            </a:gsLst>
            <a:lin ang="2700000"/>
          </a:gra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b6dd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2"/>
          <p:cNvSpPr/>
          <p:nvPr/>
        </p:nvSpPr>
        <p:spPr>
          <a:xfrm>
            <a:off x="6215040" y="6286680"/>
            <a:ext cx="274680" cy="245880"/>
          </a:xfrm>
          <a:prstGeom prst="flowChartConnector">
            <a:avLst/>
          </a:prstGeom>
          <a:gradFill rotWithShape="0">
            <a:gsLst>
              <a:gs pos="0">
                <a:srgbClr val="4bacc6"/>
              </a:gs>
              <a:gs pos="100000">
                <a:srgbClr val="205867"/>
              </a:gs>
            </a:gsLst>
            <a:lin ang="2700000"/>
          </a:gra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b6dd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1"/>
          <p:cNvSpPr/>
          <p:nvPr/>
        </p:nvSpPr>
        <p:spPr>
          <a:xfrm>
            <a:off x="7715160" y="6357960"/>
            <a:ext cx="103320" cy="104760"/>
          </a:xfrm>
          <a:prstGeom prst="flowChartConnector">
            <a:avLst/>
          </a:prstGeom>
          <a:gradFill rotWithShape="0">
            <a:gsLst>
              <a:gs pos="0">
                <a:srgbClr val="4bacc6"/>
              </a:gs>
              <a:gs pos="100000">
                <a:srgbClr val="205867"/>
              </a:gs>
            </a:gsLst>
            <a:lin ang="2700000"/>
          </a:gra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b6dd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3357720" y="5984280"/>
            <a:ext cx="5929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CO" sz="11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</a:t>
            </a:r>
            <a:r>
              <a:rPr b="1" lang="es-CO" sz="1600" spc="-1" strike="noStrike">
                <a:solidFill>
                  <a:srgbClr val="000000"/>
                </a:solidFill>
                <a:latin typeface="Arial"/>
                <a:ea typeface="Calibri"/>
              </a:rPr>
              <a:t>Alta                            Media             Ba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30 Rectángulo"/>
          <p:cNvSpPr/>
          <p:nvPr/>
        </p:nvSpPr>
        <p:spPr>
          <a:xfrm>
            <a:off x="2143080" y="5929200"/>
            <a:ext cx="700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   </a:t>
            </a:r>
            <a:r>
              <a:rPr b="1" lang="es-CO" sz="1600" spc="-1" strike="noStrike">
                <a:solidFill>
                  <a:srgbClr val="000000"/>
                </a:solidFill>
                <a:latin typeface="Arial"/>
                <a:ea typeface="Calibri"/>
              </a:rPr>
              <a:t>Referencias Frecuencia de Uso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30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672D-7791-4CFF-9F15-ED7F0195A21E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6 Imagen" descr="ANNIrecortad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32 CuadroTexto"/>
          <p:cNvSpPr/>
          <p:nvPr/>
        </p:nvSpPr>
        <p:spPr>
          <a:xfrm>
            <a:off x="500040" y="1685880"/>
            <a:ext cx="8429760" cy="37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UY" sz="1800" spc="-1" strike="noStrike">
                <a:solidFill>
                  <a:srgbClr val="000000"/>
                </a:solidFill>
                <a:latin typeface="Lucida Sans Unicode"/>
              </a:rPr>
              <a:t>La toma de decisiones en materia de políticas públicas de CTI en los países analizados, se basa en un conjunto </a:t>
            </a:r>
            <a:r>
              <a:rPr b="1" lang="es-UY" sz="1800" spc="-1" strike="noStrike">
                <a:solidFill>
                  <a:srgbClr val="000000"/>
                </a:solidFill>
                <a:latin typeface="Lucida Sans Unicode"/>
              </a:rPr>
              <a:t>heterogéneo</a:t>
            </a:r>
            <a:r>
              <a:rPr b="0" lang="es-UY" sz="1800" spc="-1" strike="noStrike">
                <a:solidFill>
                  <a:srgbClr val="000000"/>
                </a:solidFill>
                <a:latin typeface="Lucida Sans Unicode"/>
              </a:rPr>
              <a:t> de fuentes d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Las principales fuentes de información utilizadas para la toma de decisiones en materia de CTI son </a:t>
            </a:r>
            <a:r>
              <a:rPr b="1" lang="es-MX" sz="1800" spc="-1" strike="noStrike">
                <a:solidFill>
                  <a:srgbClr val="000000"/>
                </a:solidFill>
                <a:latin typeface="Lucida Sans Unicode"/>
              </a:rPr>
              <a:t>fuentes propias </a:t>
            </a: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(o contratadas por la propia institución), lo que puede estar reflejan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dificultades en el </a:t>
            </a:r>
            <a:r>
              <a:rPr b="1" lang="es-MX" sz="1800" spc="-1" strike="noStrike">
                <a:solidFill>
                  <a:srgbClr val="000000"/>
                </a:solidFill>
                <a:latin typeface="Lucida Sans Unicode"/>
              </a:rPr>
              <a:t>acceso</a:t>
            </a: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 de información generada por otras instit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problemas de </a:t>
            </a:r>
            <a:r>
              <a:rPr b="1" lang="es-MX" sz="1800" spc="-1" strike="noStrike">
                <a:solidFill>
                  <a:srgbClr val="000000"/>
                </a:solidFill>
                <a:latin typeface="Lucida Sans Unicode"/>
              </a:rPr>
              <a:t>articulación</a:t>
            </a: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 interinstitucional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UY" sz="1800" spc="-1" strike="noStrike">
                <a:solidFill>
                  <a:srgbClr val="000000"/>
                </a:solidFill>
                <a:latin typeface="Lucida Sans Unicode"/>
              </a:rPr>
              <a:t>Alta utilización de </a:t>
            </a:r>
            <a:r>
              <a:rPr b="1" lang="es-UY" sz="1800" spc="-1" strike="noStrike">
                <a:solidFill>
                  <a:srgbClr val="000000"/>
                </a:solidFill>
                <a:latin typeface="Lucida Sans Unicode"/>
              </a:rPr>
              <a:t>consultorías</a:t>
            </a:r>
            <a:r>
              <a:rPr b="0" lang="es-UY" sz="1800" spc="-1" strike="noStrike">
                <a:solidFill>
                  <a:srgbClr val="000000"/>
                </a:solidFill>
                <a:latin typeface="Lucida Sans Unicode"/>
              </a:rPr>
              <a:t>, y en menor medida </a:t>
            </a:r>
            <a:r>
              <a:rPr b="1" lang="es-UY" sz="1800" spc="-1" strike="noStrike">
                <a:solidFill>
                  <a:srgbClr val="000000"/>
                </a:solidFill>
                <a:latin typeface="Lucida Sans Unicode"/>
              </a:rPr>
              <a:t>trabajos académicos </a:t>
            </a:r>
            <a:r>
              <a:rPr b="0" lang="es-UY" sz="1800" spc="-1" strike="noStrike">
                <a:solidFill>
                  <a:srgbClr val="000000"/>
                </a:solidFill>
                <a:latin typeface="Lucida Sans Unicode"/>
              </a:rPr>
              <a:t>elaborados por universidades o centros de investigación, nacionales o extranjero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Lucida Sans Unicode"/>
              </a:rPr>
              <a:t>información estadística 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es utilizada en menor medida para la toma de decisiones de CTI en general (entre ella, la Encuesta de Innovació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4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909B-9E52-4419-A311-7B1AB789CEC4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Rectangle 669" descr=""/>
          <p:cNvPicPr/>
          <p:nvPr/>
        </p:nvPicPr>
        <p:blipFill>
          <a:blip r:embed="rId2"/>
          <a:stretch/>
        </p:blipFill>
        <p:spPr>
          <a:xfrm>
            <a:off x="-6480" y="19080"/>
            <a:ext cx="76564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3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729E-8D03-481B-A45F-D534D7B29E9A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1 Título" descr=""/>
          <p:cNvPicPr/>
          <p:nvPr/>
        </p:nvPicPr>
        <p:blipFill>
          <a:blip r:embed="rId1"/>
          <a:stretch/>
        </p:blipFill>
        <p:spPr>
          <a:xfrm>
            <a:off x="66600" y="-646200"/>
            <a:ext cx="8669520" cy="1998720"/>
          </a:xfrm>
          <a:prstGeom prst="rect">
            <a:avLst/>
          </a:prstGeom>
          <a:ln w="0">
            <a:noFill/>
          </a:ln>
        </p:spPr>
      </p:pic>
      <p:sp>
        <p:nvSpPr>
          <p:cNvPr id="516" name="2 Marcador de contenido"/>
          <p:cNvSpPr/>
          <p:nvPr/>
        </p:nvSpPr>
        <p:spPr>
          <a:xfrm>
            <a:off x="468360" y="285840"/>
            <a:ext cx="8229600" cy="58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Lucida Sans Unicode"/>
              </a:rPr>
              <a:t>Coordinación General y Elaboración de Informe Regiona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Belén Baptista (Coordinadora, ANI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Ruth Bernheim (ANI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Elisa Hernández (ANII)</a:t>
            </a:r>
            <a:r>
              <a:rPr b="0" lang="es-E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 Unicode"/>
              </a:rPr>
              <a:t>Adolfo Garcé (UDEL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Lucida Sans Unicode"/>
              </a:rPr>
              <a:t>Trabajo de Campo y Elaboración de Informes por Paí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s-AR" sz="1600" spc="-1" strike="noStrike">
                <a:solidFill>
                  <a:srgbClr val="000000"/>
                </a:solidFill>
                <a:latin typeface="Lucida Sans Unicode"/>
              </a:rPr>
              <a:t>Argentina</a:t>
            </a: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Guillermo Anlló (CEPAL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Diana Suárez (Centro Rede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Jésica De Angelis (Centro Re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Lucida Sans Unicode"/>
              </a:rPr>
              <a:t>Chile</a:t>
            </a: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José Miguel Benavente (Universidad de Chil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Felipe Zamorano (Universidad de Ch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Javier Turén (Universidad de Ch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Lucida Sans Unicode"/>
              </a:rPr>
              <a:t>Colombia</a:t>
            </a: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Mónica Salazar (Observatorio Colombiano de Ciencia y Tecnologí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Nadia Albis (Observatorio Colombiano de Ciencia y Tecnologí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Lucida Sans Unicode"/>
              </a:rPr>
              <a:t>Uruguay</a:t>
            </a: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Lucía Pittaluga (Udel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Matías Brum (Udel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6 Imagen" descr="ANNIrecortad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pic>
        <p:nvPicPr>
          <p:cNvPr id="626" name="3 Tabla" descr=""/>
          <p:cNvPicPr/>
          <p:nvPr/>
        </p:nvPicPr>
        <p:blipFill>
          <a:blip r:embed="rId2"/>
          <a:stretch/>
        </p:blipFill>
        <p:spPr>
          <a:xfrm>
            <a:off x="500040" y="1712880"/>
            <a:ext cx="7931160" cy="2219400"/>
          </a:xfrm>
          <a:prstGeom prst="rect">
            <a:avLst/>
          </a:prstGeom>
          <a:ln w="0">
            <a:noFill/>
          </a:ln>
        </p:spPr>
      </p:pic>
      <p:sp>
        <p:nvSpPr>
          <p:cNvPr id="627" name="AutoShape 2"/>
          <p:cNvSpPr/>
          <p:nvPr/>
        </p:nvSpPr>
        <p:spPr>
          <a:xfrm>
            <a:off x="2714760" y="4446720"/>
            <a:ext cx="237960" cy="19368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1"/>
          <p:cNvSpPr/>
          <p:nvPr/>
        </p:nvSpPr>
        <p:spPr>
          <a:xfrm>
            <a:off x="357120" y="4446720"/>
            <a:ext cx="238320" cy="174600"/>
          </a:xfrm>
          <a:prstGeom prst="flowChartConnector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4929120" y="4446720"/>
            <a:ext cx="238320" cy="1746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0" y="75960"/>
            <a:ext cx="714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121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 </a:t>
            </a:r>
            <a:r>
              <a:rPr b="1" lang="es-CO" sz="3200" spc="-1" strike="noStrike">
                <a:solidFill>
                  <a:srgbClr val="000000"/>
                </a:solidFill>
                <a:latin typeface="Arial"/>
                <a:ea typeface="Calibri"/>
              </a:rPr>
              <a:t>2.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  <a:ea typeface="Calibri"/>
              </a:rPr>
              <a:t>¿Cuánto se utilizan las encuestas de innovació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9"/>
          <p:cNvSpPr/>
          <p:nvPr/>
        </p:nvSpPr>
        <p:spPr>
          <a:xfrm>
            <a:off x="0" y="435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0"/>
          <p:cNvSpPr/>
          <p:nvPr/>
        </p:nvSpPr>
        <p:spPr>
          <a:xfrm>
            <a:off x="0" y="3999240"/>
            <a:ext cx="77868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Referenci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    </a:t>
            </a:r>
            <a:r>
              <a:rPr b="1" lang="es-CO" sz="14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Alto grado de uso             Bajo grado de uso            No se registra u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5"/>
          <p:cNvSpPr/>
          <p:nvPr/>
        </p:nvSpPr>
        <p:spPr>
          <a:xfrm>
            <a:off x="7215120" y="2428920"/>
            <a:ext cx="714600" cy="64296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18 CuadroTexto"/>
          <p:cNvSpPr/>
          <p:nvPr/>
        </p:nvSpPr>
        <p:spPr>
          <a:xfrm>
            <a:off x="500040" y="4786200"/>
            <a:ext cx="8358120" cy="1313640"/>
          </a:xfrm>
          <a:prstGeom prst="rect">
            <a:avLst/>
          </a:prstGeom>
          <a:noFill/>
          <a:ln w="284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Lucida Sans Unicode"/>
              </a:rPr>
              <a:t>En general, las Encuestas de Innovación no son centralmente consideradas como insumo entre los integrantes de la comunidad política y técnica a la hora de la toma de decisiones de diseño, rediseño, monitoreo y evaluación de políticas de C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13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C6B2-0500-4FC2-8C89-7256ED30A77B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5"/>
          <p:cNvSpPr/>
          <p:nvPr/>
        </p:nvSpPr>
        <p:spPr>
          <a:xfrm>
            <a:off x="5500800" y="2428920"/>
            <a:ext cx="714240" cy="642960"/>
          </a:xfrm>
          <a:prstGeom prst="flowChartConnector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5"/>
          <p:cNvSpPr/>
          <p:nvPr/>
        </p:nvSpPr>
        <p:spPr>
          <a:xfrm>
            <a:off x="3786120" y="2428920"/>
            <a:ext cx="714600" cy="64296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5"/>
          <p:cNvSpPr/>
          <p:nvPr/>
        </p:nvSpPr>
        <p:spPr>
          <a:xfrm>
            <a:off x="2071800" y="2428920"/>
            <a:ext cx="714240" cy="64296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6 Imagen" descr="ANNIrecortad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0" name=""/>
          <p:cNvGraphicFramePr/>
          <p:nvPr/>
        </p:nvGraphicFramePr>
        <p:xfrm>
          <a:off x="285840" y="1665360"/>
          <a:ext cx="8643960" cy="3220920"/>
        </p:xfrm>
        <a:graphic>
          <a:graphicData uri="http://schemas.openxmlformats.org/drawingml/2006/table">
            <a:tbl>
              <a:tblPr/>
              <a:tblGrid>
                <a:gridCol w="1920960"/>
                <a:gridCol w="1680840"/>
                <a:gridCol w="1679760"/>
                <a:gridCol w="1681200"/>
                <a:gridCol w="1681200"/>
              </a:tblGrid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r" pos="1214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Argent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Colomb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Urugu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iseño  de políticas e instru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ediseño de políticas e instrument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onitoreo y Evalu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1" name="AutoShape 5"/>
          <p:cNvSpPr/>
          <p:nvPr/>
        </p:nvSpPr>
        <p:spPr>
          <a:xfrm>
            <a:off x="6072120" y="2286000"/>
            <a:ext cx="642960" cy="500040"/>
          </a:xfrm>
          <a:prstGeom prst="flowChartConnector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8"/>
          <p:cNvSpPr/>
          <p:nvPr/>
        </p:nvSpPr>
        <p:spPr>
          <a:xfrm>
            <a:off x="71280" y="147240"/>
            <a:ext cx="76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121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¿Para qué se utilizan las encuestas de innovació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5"/>
          <p:cNvSpPr/>
          <p:nvPr/>
        </p:nvSpPr>
        <p:spPr>
          <a:xfrm>
            <a:off x="2643120" y="2286000"/>
            <a:ext cx="642960" cy="5000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5"/>
          <p:cNvSpPr/>
          <p:nvPr/>
        </p:nvSpPr>
        <p:spPr>
          <a:xfrm>
            <a:off x="6072120" y="3214800"/>
            <a:ext cx="642960" cy="500040"/>
          </a:xfrm>
          <a:prstGeom prst="flowChartConnector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5"/>
          <p:cNvSpPr/>
          <p:nvPr/>
        </p:nvSpPr>
        <p:spPr>
          <a:xfrm>
            <a:off x="7786800" y="3214800"/>
            <a:ext cx="642960" cy="500040"/>
          </a:xfrm>
          <a:prstGeom prst="flowChartConnector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5"/>
          <p:cNvSpPr/>
          <p:nvPr/>
        </p:nvSpPr>
        <p:spPr>
          <a:xfrm>
            <a:off x="4429080" y="4143240"/>
            <a:ext cx="642960" cy="50004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5"/>
          <p:cNvSpPr/>
          <p:nvPr/>
        </p:nvSpPr>
        <p:spPr>
          <a:xfrm>
            <a:off x="2643120" y="3286080"/>
            <a:ext cx="642960" cy="5000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5"/>
          <p:cNvSpPr/>
          <p:nvPr/>
        </p:nvSpPr>
        <p:spPr>
          <a:xfrm>
            <a:off x="2643120" y="4214880"/>
            <a:ext cx="642960" cy="5000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5"/>
          <p:cNvSpPr/>
          <p:nvPr/>
        </p:nvSpPr>
        <p:spPr>
          <a:xfrm>
            <a:off x="4357800" y="2357280"/>
            <a:ext cx="642960" cy="50040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5"/>
          <p:cNvSpPr/>
          <p:nvPr/>
        </p:nvSpPr>
        <p:spPr>
          <a:xfrm>
            <a:off x="7786800" y="2286000"/>
            <a:ext cx="642960" cy="5000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5"/>
          <p:cNvSpPr/>
          <p:nvPr/>
        </p:nvSpPr>
        <p:spPr>
          <a:xfrm>
            <a:off x="6143760" y="4143240"/>
            <a:ext cx="642960" cy="5000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5"/>
          <p:cNvSpPr/>
          <p:nvPr/>
        </p:nvSpPr>
        <p:spPr>
          <a:xfrm>
            <a:off x="7858080" y="4143240"/>
            <a:ext cx="642960" cy="5000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5"/>
          <p:cNvSpPr/>
          <p:nvPr/>
        </p:nvSpPr>
        <p:spPr>
          <a:xfrm>
            <a:off x="4429080" y="3286080"/>
            <a:ext cx="642960" cy="5000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0"/>
          <p:cNvSpPr/>
          <p:nvPr/>
        </p:nvSpPr>
        <p:spPr>
          <a:xfrm>
            <a:off x="285840" y="4932720"/>
            <a:ext cx="7786440" cy="9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Referenci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    </a:t>
            </a:r>
            <a:r>
              <a:rPr b="1" lang="es-CO" sz="14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Alto grado de uso             Bajo grado de uso            No se registra u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23"/>
          <p:cNvSpPr/>
          <p:nvPr/>
        </p:nvSpPr>
        <p:spPr>
          <a:xfrm>
            <a:off x="785880" y="5572080"/>
            <a:ext cx="177840" cy="165240"/>
          </a:xfrm>
          <a:prstGeom prst="flowChartConnector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22"/>
          <p:cNvSpPr/>
          <p:nvPr/>
        </p:nvSpPr>
        <p:spPr>
          <a:xfrm>
            <a:off x="5286240" y="5572080"/>
            <a:ext cx="177840" cy="16524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21"/>
          <p:cNvSpPr/>
          <p:nvPr/>
        </p:nvSpPr>
        <p:spPr>
          <a:xfrm>
            <a:off x="3071880" y="5572080"/>
            <a:ext cx="177840" cy="1652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23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A704-8220-4020-AB1C-C965F3F30C95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20 Rectángulo"/>
          <p:cNvSpPr/>
          <p:nvPr/>
        </p:nvSpPr>
        <p:spPr>
          <a:xfrm>
            <a:off x="4000680" y="4929120"/>
            <a:ext cx="48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 </a:t>
            </a:r>
            <a:r>
              <a:rPr b="1" lang="es-CO" sz="14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Nota: En base a los que declaran usar 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23 CuadroTexto"/>
          <p:cNvSpPr/>
          <p:nvPr/>
        </p:nvSpPr>
        <p:spPr>
          <a:xfrm>
            <a:off x="428760" y="1843200"/>
            <a:ext cx="814392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Lucida Sans Unicode"/>
              </a:rPr>
              <a:t>Las Encuestas de Innovación se usan más para el </a:t>
            </a:r>
            <a:r>
              <a:rPr b="1" lang="es-UY" sz="1800" spc="-1" strike="noStrike">
                <a:solidFill>
                  <a:srgbClr val="000000"/>
                </a:solidFill>
                <a:latin typeface="Lucida Sans Unicode"/>
              </a:rPr>
              <a:t>diseño y rediseño </a:t>
            </a:r>
            <a:r>
              <a:rPr b="0" lang="es-UY" sz="1800" spc="-1" strike="noStrike">
                <a:solidFill>
                  <a:srgbClr val="000000"/>
                </a:solidFill>
                <a:latin typeface="Lucida Sans Unicode"/>
              </a:rPr>
              <a:t>de políticas e instrumentos de CTI que para el monitoreo y evaluación. Se constata un uso marginal para evaluar políticas e instrumentos, y prácticamente nulo para el monitoreo de los mi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UY" sz="1800" spc="-1" strike="noStrike">
                <a:solidFill>
                  <a:srgbClr val="000000"/>
                </a:solidFill>
                <a:latin typeface="Lucida Sans Unicode"/>
              </a:rPr>
              <a:t>Aún para los procesos de diseño, las encuestas de innovación se utilizan sólo </a:t>
            </a:r>
            <a:r>
              <a:rPr b="1" lang="es-UY" sz="1800" spc="-1" strike="noStrike">
                <a:solidFill>
                  <a:srgbClr val="000000"/>
                </a:solidFill>
                <a:latin typeface="Lucida Sans Unicode"/>
              </a:rPr>
              <a:t>parcialmente </a:t>
            </a:r>
            <a:r>
              <a:rPr b="0" lang="es-UY" sz="1800" spc="-1" strike="noStrike">
                <a:solidFill>
                  <a:srgbClr val="000000"/>
                </a:solidFill>
                <a:latin typeface="Lucida Sans Unicode"/>
              </a:rPr>
              <a:t>(frecuentemente sólo para diagnósticos y no para establecer criterios de instrumentaliz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UY" sz="1800" spc="-1" strike="noStrike">
                <a:solidFill>
                  <a:srgbClr val="000000"/>
                </a:solidFill>
                <a:latin typeface="Lucida Sans Unicode"/>
              </a:rPr>
              <a:t>El escaso uso de las encuestas para monitoreo y evaluación parece estar más relacionado con la forma en que se desarrolla este proceso, donde prácticamente toda </a:t>
            </a:r>
            <a:r>
              <a:rPr b="1" lang="es-UY" sz="1800" spc="-1" strike="noStrike">
                <a:solidFill>
                  <a:srgbClr val="000000"/>
                </a:solidFill>
                <a:latin typeface="Lucida Sans Unicode"/>
              </a:rPr>
              <a:t>información estadística extra-institucional es descartada</a:t>
            </a:r>
            <a:r>
              <a:rPr b="0" lang="es-UY" sz="1800" spc="-1" strike="noStrike">
                <a:solidFill>
                  <a:srgbClr val="000000"/>
                </a:solidFill>
                <a:latin typeface="Lucida Sans Unicode"/>
              </a:rPr>
              <a:t>, que con la utilidad de la encuesta en sí mis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Lucida Sans Unicode"/>
              </a:rPr>
              <a:t>Este resultado sugiere un importante </a:t>
            </a:r>
            <a:r>
              <a:rPr b="1" lang="es-UY" sz="1800" spc="-1" strike="noStrike">
                <a:solidFill>
                  <a:srgbClr val="000000"/>
                </a:solidFill>
                <a:latin typeface="Lucida Sans Unicode"/>
              </a:rPr>
              <a:t>grado de inmadurez en los procesos de monitoreo y evaluación </a:t>
            </a:r>
            <a:r>
              <a:rPr b="0" lang="es-UY" sz="1800" spc="-1" strike="noStrike">
                <a:solidFill>
                  <a:srgbClr val="000000"/>
                </a:solidFill>
                <a:latin typeface="Lucida Sans Unicode"/>
              </a:rPr>
              <a:t>de programas e instrumentos de CTI de los países analiz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3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6FFF-ED6C-4790-954F-A3C4A5509175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6 Imagen" descr="ANNIrecortad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8"/>
          <p:cNvSpPr/>
          <p:nvPr/>
        </p:nvSpPr>
        <p:spPr>
          <a:xfrm>
            <a:off x="71280" y="147240"/>
            <a:ext cx="76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121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¿Para qué se utilizan las encuestas de innovació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6 Imagen" descr="ANNIrecortad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5" name=""/>
          <p:cNvGraphicFramePr/>
          <p:nvPr/>
        </p:nvGraphicFramePr>
        <p:xfrm>
          <a:off x="214200" y="1643040"/>
          <a:ext cx="8786880" cy="4071960"/>
        </p:xfrm>
        <a:graphic>
          <a:graphicData uri="http://schemas.openxmlformats.org/drawingml/2006/table">
            <a:tbl>
              <a:tblPr/>
              <a:tblGrid>
                <a:gridCol w="2786040"/>
                <a:gridCol w="1571760"/>
                <a:gridCol w="1300320"/>
                <a:gridCol w="1565280"/>
                <a:gridCol w="1563480"/>
              </a:tblGrid>
              <a:tr h="56052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TIPO DE OBSTÁC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Ch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Colo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Urugu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6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Problemas de Acce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6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Problemas de Difu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Problemas de Oportun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6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Calidad y Confiabilidad de los Da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6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Pertin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6" name="AutoShape 18"/>
          <p:cNvSpPr/>
          <p:nvPr/>
        </p:nvSpPr>
        <p:spPr>
          <a:xfrm>
            <a:off x="6643800" y="3087720"/>
            <a:ext cx="339480" cy="3301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14"/>
          <p:cNvSpPr/>
          <p:nvPr/>
        </p:nvSpPr>
        <p:spPr>
          <a:xfrm>
            <a:off x="6643800" y="2373480"/>
            <a:ext cx="339480" cy="34128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19"/>
          <p:cNvSpPr/>
          <p:nvPr/>
        </p:nvSpPr>
        <p:spPr>
          <a:xfrm>
            <a:off x="5000760" y="2373480"/>
            <a:ext cx="339480" cy="3078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20"/>
          <p:cNvSpPr/>
          <p:nvPr/>
        </p:nvSpPr>
        <p:spPr>
          <a:xfrm>
            <a:off x="3357720" y="2373480"/>
            <a:ext cx="339480" cy="31248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16"/>
          <p:cNvSpPr/>
          <p:nvPr/>
        </p:nvSpPr>
        <p:spPr>
          <a:xfrm>
            <a:off x="3357720" y="3087720"/>
            <a:ext cx="339480" cy="30780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17"/>
          <p:cNvSpPr/>
          <p:nvPr/>
        </p:nvSpPr>
        <p:spPr>
          <a:xfrm>
            <a:off x="8072280" y="2373480"/>
            <a:ext cx="339840" cy="326880"/>
          </a:xfrm>
          <a:prstGeom prst="flowChartConnector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13"/>
          <p:cNvSpPr/>
          <p:nvPr/>
        </p:nvSpPr>
        <p:spPr>
          <a:xfrm>
            <a:off x="8072280" y="3087720"/>
            <a:ext cx="339840" cy="34128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12"/>
          <p:cNvSpPr/>
          <p:nvPr/>
        </p:nvSpPr>
        <p:spPr>
          <a:xfrm>
            <a:off x="8072280" y="3811680"/>
            <a:ext cx="339840" cy="33156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11"/>
          <p:cNvSpPr/>
          <p:nvPr/>
        </p:nvSpPr>
        <p:spPr>
          <a:xfrm>
            <a:off x="5000760" y="4429080"/>
            <a:ext cx="339480" cy="331920"/>
          </a:xfrm>
          <a:prstGeom prst="flowChartConnector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9"/>
          <p:cNvSpPr/>
          <p:nvPr/>
        </p:nvSpPr>
        <p:spPr>
          <a:xfrm>
            <a:off x="3357720" y="3811680"/>
            <a:ext cx="339480" cy="33156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6"/>
          <p:cNvSpPr/>
          <p:nvPr/>
        </p:nvSpPr>
        <p:spPr>
          <a:xfrm>
            <a:off x="8072280" y="4433760"/>
            <a:ext cx="339840" cy="327240"/>
          </a:xfrm>
          <a:prstGeom prst="flowChartConnector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7"/>
          <p:cNvSpPr/>
          <p:nvPr/>
        </p:nvSpPr>
        <p:spPr>
          <a:xfrm>
            <a:off x="5000760" y="3816360"/>
            <a:ext cx="339480" cy="32688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8"/>
          <p:cNvSpPr/>
          <p:nvPr/>
        </p:nvSpPr>
        <p:spPr>
          <a:xfrm>
            <a:off x="3357720" y="5143680"/>
            <a:ext cx="339480" cy="32688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2"/>
          <p:cNvSpPr/>
          <p:nvPr/>
        </p:nvSpPr>
        <p:spPr>
          <a:xfrm>
            <a:off x="6643800" y="5143680"/>
            <a:ext cx="339480" cy="326880"/>
          </a:xfrm>
          <a:prstGeom prst="flowChartConnector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3"/>
          <p:cNvSpPr/>
          <p:nvPr/>
        </p:nvSpPr>
        <p:spPr>
          <a:xfrm>
            <a:off x="5000760" y="5143680"/>
            <a:ext cx="339480" cy="326880"/>
          </a:xfrm>
          <a:prstGeom prst="flowChartConnector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1"/>
          <p:cNvSpPr/>
          <p:nvPr/>
        </p:nvSpPr>
        <p:spPr>
          <a:xfrm>
            <a:off x="3357720" y="4433760"/>
            <a:ext cx="339480" cy="327240"/>
          </a:xfrm>
          <a:prstGeom prst="flowChartConnector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4"/>
          <p:cNvSpPr/>
          <p:nvPr/>
        </p:nvSpPr>
        <p:spPr>
          <a:xfrm>
            <a:off x="8072280" y="5143680"/>
            <a:ext cx="339840" cy="326880"/>
          </a:xfrm>
          <a:prstGeom prst="flowChartConnector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26"/>
          <p:cNvSpPr/>
          <p:nvPr/>
        </p:nvSpPr>
        <p:spPr>
          <a:xfrm>
            <a:off x="3286080" y="5861520"/>
            <a:ext cx="585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Referenci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Mayoría de los entrevistados NO lo consideran obstác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Mayoría de los entrevistados SI lo consideran obstác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Opiniones Divid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23"/>
          <p:cNvSpPr/>
          <p:nvPr/>
        </p:nvSpPr>
        <p:spPr>
          <a:xfrm>
            <a:off x="3571920" y="6026040"/>
            <a:ext cx="177840" cy="165240"/>
          </a:xfrm>
          <a:prstGeom prst="flowChartConnector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22"/>
          <p:cNvSpPr/>
          <p:nvPr/>
        </p:nvSpPr>
        <p:spPr>
          <a:xfrm>
            <a:off x="3571920" y="6240600"/>
            <a:ext cx="177840" cy="16488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21"/>
          <p:cNvSpPr/>
          <p:nvPr/>
        </p:nvSpPr>
        <p:spPr>
          <a:xfrm>
            <a:off x="3571920" y="6454800"/>
            <a:ext cx="177840" cy="1652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32 Marcador de número de diapositiva"/>
          <p:cNvSpPr/>
          <p:nvPr/>
        </p:nvSpPr>
        <p:spPr>
          <a:xfrm>
            <a:off x="8647200" y="636264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975E-4EED-448F-9855-60033907C795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19"/>
          <p:cNvSpPr/>
          <p:nvPr/>
        </p:nvSpPr>
        <p:spPr>
          <a:xfrm>
            <a:off x="5000760" y="3087720"/>
            <a:ext cx="339480" cy="3078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12"/>
          <p:cNvSpPr/>
          <p:nvPr/>
        </p:nvSpPr>
        <p:spPr>
          <a:xfrm>
            <a:off x="6643800" y="4429080"/>
            <a:ext cx="339480" cy="33192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18"/>
          <p:cNvSpPr/>
          <p:nvPr/>
        </p:nvSpPr>
        <p:spPr>
          <a:xfrm>
            <a:off x="6643800" y="3813120"/>
            <a:ext cx="339480" cy="3301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8"/>
          <p:cNvSpPr/>
          <p:nvPr/>
        </p:nvSpPr>
        <p:spPr>
          <a:xfrm>
            <a:off x="0" y="6948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121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¿Qué obstáculos se perciben del lado de la Ofer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6 Imagen" descr="ANNIrecortad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693" name="Rectangle 8"/>
          <p:cNvSpPr/>
          <p:nvPr/>
        </p:nvSpPr>
        <p:spPr>
          <a:xfrm>
            <a:off x="0" y="78120"/>
            <a:ext cx="771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tabLst>
                <a:tab algn="l" pos="0"/>
                <a:tab algn="r" pos="121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¿Qué obstáculos se perciben del lado de la Deman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121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571680" y="1735200"/>
          <a:ext cx="7858080" cy="3662280"/>
        </p:xfrm>
        <a:graphic>
          <a:graphicData uri="http://schemas.openxmlformats.org/drawingml/2006/table">
            <a:tbl>
              <a:tblPr/>
              <a:tblGrid>
                <a:gridCol w="2263680"/>
                <a:gridCol w="1398600"/>
                <a:gridCol w="1398600"/>
                <a:gridCol w="1398600"/>
                <a:gridCol w="1398600"/>
              </a:tblGrid>
              <a:tr h="60804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TIPO DE OBSTÁC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Ch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Colo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Urugu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Falta de Experiencia en transformar información en insu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Falta Capacidad Analítica Endóg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92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Falta de Valoración de la Encue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5" name="AutoShape 15"/>
          <p:cNvSpPr/>
          <p:nvPr/>
        </p:nvSpPr>
        <p:spPr>
          <a:xfrm>
            <a:off x="6215040" y="3643200"/>
            <a:ext cx="339840" cy="31752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16"/>
          <p:cNvSpPr/>
          <p:nvPr/>
        </p:nvSpPr>
        <p:spPr>
          <a:xfrm>
            <a:off x="7572240" y="3643200"/>
            <a:ext cx="339840" cy="30816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13"/>
          <p:cNvSpPr/>
          <p:nvPr/>
        </p:nvSpPr>
        <p:spPr>
          <a:xfrm>
            <a:off x="7643880" y="2766960"/>
            <a:ext cx="339480" cy="34128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12"/>
          <p:cNvSpPr/>
          <p:nvPr/>
        </p:nvSpPr>
        <p:spPr>
          <a:xfrm>
            <a:off x="7572240" y="4643280"/>
            <a:ext cx="339840" cy="33192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10"/>
          <p:cNvSpPr/>
          <p:nvPr/>
        </p:nvSpPr>
        <p:spPr>
          <a:xfrm>
            <a:off x="6215040" y="4643280"/>
            <a:ext cx="339840" cy="331920"/>
          </a:xfrm>
          <a:prstGeom prst="flowChartConnector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11"/>
          <p:cNvSpPr/>
          <p:nvPr/>
        </p:nvSpPr>
        <p:spPr>
          <a:xfrm>
            <a:off x="3429000" y="4643280"/>
            <a:ext cx="339840" cy="331920"/>
          </a:xfrm>
          <a:prstGeom prst="flowChartConnector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9"/>
          <p:cNvSpPr/>
          <p:nvPr/>
        </p:nvSpPr>
        <p:spPr>
          <a:xfrm>
            <a:off x="4786200" y="4643280"/>
            <a:ext cx="339840" cy="33192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26"/>
          <p:cNvSpPr/>
          <p:nvPr/>
        </p:nvSpPr>
        <p:spPr>
          <a:xfrm>
            <a:off x="3286080" y="5790240"/>
            <a:ext cx="585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Referenci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Mayoría de los entrevistados NO lo consideran obstác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Mayoría de los entrevistados SI lo consideran obstác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Opiniones Divid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16"/>
          <p:cNvSpPr/>
          <p:nvPr/>
        </p:nvSpPr>
        <p:spPr>
          <a:xfrm>
            <a:off x="4786200" y="2766960"/>
            <a:ext cx="339840" cy="30816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16"/>
          <p:cNvSpPr/>
          <p:nvPr/>
        </p:nvSpPr>
        <p:spPr>
          <a:xfrm>
            <a:off x="6143760" y="2766960"/>
            <a:ext cx="339480" cy="30816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23"/>
          <p:cNvSpPr/>
          <p:nvPr/>
        </p:nvSpPr>
        <p:spPr>
          <a:xfrm>
            <a:off x="3571920" y="6072120"/>
            <a:ext cx="177840" cy="165240"/>
          </a:xfrm>
          <a:prstGeom prst="flowChartConnector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22"/>
          <p:cNvSpPr/>
          <p:nvPr/>
        </p:nvSpPr>
        <p:spPr>
          <a:xfrm>
            <a:off x="3571920" y="6286680"/>
            <a:ext cx="177840" cy="16488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21"/>
          <p:cNvSpPr/>
          <p:nvPr/>
        </p:nvSpPr>
        <p:spPr>
          <a:xfrm>
            <a:off x="3571920" y="6500880"/>
            <a:ext cx="177840" cy="16488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26 Marcador de número de diapositiva"/>
          <p:cNvSpPr/>
          <p:nvPr/>
        </p:nvSpPr>
        <p:spPr>
          <a:xfrm>
            <a:off x="8647200" y="6429240"/>
            <a:ext cx="366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1BCB-8F48-49E4-B012-7F0F3DA882CE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16"/>
          <p:cNvSpPr/>
          <p:nvPr/>
        </p:nvSpPr>
        <p:spPr>
          <a:xfrm>
            <a:off x="3357720" y="2766960"/>
            <a:ext cx="339480" cy="30816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16"/>
          <p:cNvSpPr/>
          <p:nvPr/>
        </p:nvSpPr>
        <p:spPr>
          <a:xfrm>
            <a:off x="3357720" y="3643200"/>
            <a:ext cx="339480" cy="30816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16"/>
          <p:cNvSpPr/>
          <p:nvPr/>
        </p:nvSpPr>
        <p:spPr>
          <a:xfrm>
            <a:off x="4803840" y="3643200"/>
            <a:ext cx="339840" cy="30816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6 Imagen" descr="ANNIrecortad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714" name="Rectangle 8"/>
          <p:cNvSpPr/>
          <p:nvPr/>
        </p:nvSpPr>
        <p:spPr>
          <a:xfrm>
            <a:off x="0" y="684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tabLst>
                <a:tab algn="l" pos="0"/>
                <a:tab algn="r" pos="121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¿Qué obstáculos se perciben en la intersección entre oferta y deman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121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214200" y="1778040"/>
          <a:ext cx="8715600" cy="4087800"/>
        </p:xfrm>
        <a:graphic>
          <a:graphicData uri="http://schemas.openxmlformats.org/drawingml/2006/table">
            <a:tbl>
              <a:tblPr/>
              <a:tblGrid>
                <a:gridCol w="2368800"/>
                <a:gridCol w="1585800"/>
                <a:gridCol w="1585800"/>
                <a:gridCol w="1587600"/>
                <a:gridCol w="1587600"/>
              </a:tblGrid>
              <a:tr h="60804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TIPO DE OBSTÁC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Ch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Colo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Urugu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36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Participación en el Diseñ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36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Articulación entre Instituciones de Innov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36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Contacto  Generadores de Información- Policy Makers- Exper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3600" rIns="36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Problemas de Coordinación Interinstitu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6" name="AutoShape 19"/>
          <p:cNvSpPr/>
          <p:nvPr/>
        </p:nvSpPr>
        <p:spPr>
          <a:xfrm>
            <a:off x="7947000" y="4264200"/>
            <a:ext cx="339840" cy="30780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15"/>
          <p:cNvSpPr/>
          <p:nvPr/>
        </p:nvSpPr>
        <p:spPr>
          <a:xfrm>
            <a:off x="6518160" y="3468600"/>
            <a:ext cx="339840" cy="317520"/>
          </a:xfrm>
          <a:prstGeom prst="flowChartConnector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16"/>
          <p:cNvSpPr/>
          <p:nvPr/>
        </p:nvSpPr>
        <p:spPr>
          <a:xfrm>
            <a:off x="7947000" y="2692440"/>
            <a:ext cx="339840" cy="30780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12"/>
          <p:cNvSpPr/>
          <p:nvPr/>
        </p:nvSpPr>
        <p:spPr>
          <a:xfrm>
            <a:off x="7947000" y="3397320"/>
            <a:ext cx="339840" cy="33156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10"/>
          <p:cNvSpPr/>
          <p:nvPr/>
        </p:nvSpPr>
        <p:spPr>
          <a:xfrm>
            <a:off x="6518160" y="2620800"/>
            <a:ext cx="339840" cy="331920"/>
          </a:xfrm>
          <a:prstGeom prst="flowChartConnector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9"/>
          <p:cNvSpPr/>
          <p:nvPr/>
        </p:nvSpPr>
        <p:spPr>
          <a:xfrm>
            <a:off x="6518160" y="4240080"/>
            <a:ext cx="339840" cy="33192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23"/>
          <p:cNvSpPr/>
          <p:nvPr/>
        </p:nvSpPr>
        <p:spPr>
          <a:xfrm>
            <a:off x="3714840" y="6215040"/>
            <a:ext cx="177840" cy="165240"/>
          </a:xfrm>
          <a:prstGeom prst="flowChartConnector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22"/>
          <p:cNvSpPr/>
          <p:nvPr/>
        </p:nvSpPr>
        <p:spPr>
          <a:xfrm>
            <a:off x="3714840" y="6429240"/>
            <a:ext cx="177840" cy="16524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utoShape 21"/>
          <p:cNvSpPr/>
          <p:nvPr/>
        </p:nvSpPr>
        <p:spPr>
          <a:xfrm>
            <a:off x="3714840" y="6643800"/>
            <a:ext cx="177840" cy="16488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26"/>
          <p:cNvSpPr/>
          <p:nvPr/>
        </p:nvSpPr>
        <p:spPr>
          <a:xfrm>
            <a:off x="3429000" y="6003720"/>
            <a:ext cx="542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Refer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La mayoría de los entrevistados no lo consideran un obstácu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La mayoría de los entrevistados lo consideran un obstácu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Opiniones Dividi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16"/>
          <p:cNvSpPr/>
          <p:nvPr/>
        </p:nvSpPr>
        <p:spPr>
          <a:xfrm>
            <a:off x="4857840" y="2620800"/>
            <a:ext cx="339480" cy="30816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15"/>
          <p:cNvSpPr/>
          <p:nvPr/>
        </p:nvSpPr>
        <p:spPr>
          <a:xfrm>
            <a:off x="6518160" y="5183280"/>
            <a:ext cx="339840" cy="317520"/>
          </a:xfrm>
          <a:prstGeom prst="flowChartConnector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12"/>
          <p:cNvSpPr/>
          <p:nvPr/>
        </p:nvSpPr>
        <p:spPr>
          <a:xfrm>
            <a:off x="7947000" y="5168880"/>
            <a:ext cx="339840" cy="33192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24 Marcador de número de diapositiva"/>
          <p:cNvSpPr/>
          <p:nvPr/>
        </p:nvSpPr>
        <p:spPr>
          <a:xfrm>
            <a:off x="8290080" y="6480000"/>
            <a:ext cx="366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9912-5C5D-4028-AC1A-491123854F18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16"/>
          <p:cNvSpPr/>
          <p:nvPr/>
        </p:nvSpPr>
        <p:spPr>
          <a:xfrm>
            <a:off x="3286080" y="2620800"/>
            <a:ext cx="339840" cy="30816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10"/>
          <p:cNvSpPr/>
          <p:nvPr/>
        </p:nvSpPr>
        <p:spPr>
          <a:xfrm>
            <a:off x="3286080" y="3397320"/>
            <a:ext cx="339840" cy="331560"/>
          </a:xfrm>
          <a:prstGeom prst="flowChartConnector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10"/>
          <p:cNvSpPr/>
          <p:nvPr/>
        </p:nvSpPr>
        <p:spPr>
          <a:xfrm>
            <a:off x="3286080" y="4240080"/>
            <a:ext cx="339840" cy="331920"/>
          </a:xfrm>
          <a:prstGeom prst="flowChartConnector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16"/>
          <p:cNvSpPr/>
          <p:nvPr/>
        </p:nvSpPr>
        <p:spPr>
          <a:xfrm>
            <a:off x="3286080" y="5192640"/>
            <a:ext cx="339840" cy="30816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6"/>
          <p:cNvSpPr/>
          <p:nvPr/>
        </p:nvSpPr>
        <p:spPr>
          <a:xfrm>
            <a:off x="4857840" y="3446640"/>
            <a:ext cx="339480" cy="30780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6"/>
          <p:cNvSpPr/>
          <p:nvPr/>
        </p:nvSpPr>
        <p:spPr>
          <a:xfrm>
            <a:off x="4857840" y="4264200"/>
            <a:ext cx="339480" cy="30780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6"/>
          <p:cNvSpPr/>
          <p:nvPr/>
        </p:nvSpPr>
        <p:spPr>
          <a:xfrm>
            <a:off x="4857840" y="5192640"/>
            <a:ext cx="339480" cy="30816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6 Imagen" descr="ANNIrecortad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738" name="Rectangle 8"/>
          <p:cNvSpPr/>
          <p:nvPr/>
        </p:nvSpPr>
        <p:spPr>
          <a:xfrm>
            <a:off x="71280" y="-62280"/>
            <a:ext cx="77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tabLst>
                <a:tab algn="l" pos="0"/>
                <a:tab algn="r" pos="121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"/>
              </a:rPr>
              <a:t>7.  ¿Qué áreas se consideran débilmente </a:t>
            </a:r>
            <a:r>
              <a:rPr b="1" lang="es-UY" sz="3200" spc="-1" strike="noStrike">
                <a:solidFill>
                  <a:srgbClr val="000000"/>
                </a:solidFill>
                <a:latin typeface="Arial"/>
              </a:rPr>
              <a:t>atendidas por las Encuestas de Innov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121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214200" y="1665360"/>
          <a:ext cx="8715600" cy="4835520"/>
        </p:xfrm>
        <a:graphic>
          <a:graphicData uri="http://schemas.openxmlformats.org/drawingml/2006/table">
            <a:tbl>
              <a:tblPr/>
              <a:tblGrid>
                <a:gridCol w="3500640"/>
                <a:gridCol w="1303200"/>
                <a:gridCol w="1305000"/>
                <a:gridCol w="1303200"/>
                <a:gridCol w="1303560"/>
              </a:tblGrid>
              <a:tr h="52884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Deman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r" pos="1214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Ch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r" pos="1214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Colo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Urugu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6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Mayor cobertura sectorial (sector servicios y agropecuario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6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Mejor medición de la inversión en Actividades de Innovació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600" spc="-1" strike="noStrike">
                          <a:solidFill>
                            <a:srgbClr val="000000"/>
                          </a:solidFill>
                          <a:latin typeface="Lucida Sans Unicode"/>
                          <a:ea typeface="Calibri"/>
                        </a:rPr>
                        <a:t>Mejor medición de cooperación entre agentes del S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600" spc="-1" strike="noStrike">
                          <a:solidFill>
                            <a:srgbClr val="000000"/>
                          </a:solidFill>
                          <a:latin typeface="Lucida Sans Unicode"/>
                          <a:ea typeface="Calibri"/>
                        </a:rPr>
                        <a:t>Profundización de la información sobre RRH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600" spc="-1" strike="noStrike">
                          <a:solidFill>
                            <a:srgbClr val="000000"/>
                          </a:solidFill>
                          <a:latin typeface="Lucida Sans Unicode"/>
                          <a:ea typeface="Calibri"/>
                        </a:rPr>
                        <a:t>Mayor información sobre empresas no innovado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600" spc="-1" strike="noStrike">
                          <a:solidFill>
                            <a:srgbClr val="000000"/>
                          </a:solidFill>
                          <a:latin typeface="Lucida Sans Unicode"/>
                          <a:ea typeface="Calibri"/>
                        </a:rPr>
                        <a:t>Medición de Innovación organizacional y comercial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600" spc="-1" strike="noStrike">
                          <a:solidFill>
                            <a:srgbClr val="000000"/>
                          </a:solidFill>
                          <a:latin typeface="Lucida Sans Unicode"/>
                          <a:ea typeface="Calibri"/>
                        </a:rPr>
                        <a:t>Perspectivas futuras de innov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ff0000"/>
                          </a:solidFill>
                          <a:latin typeface="Lucida Sans Unicode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1" name="4 Marcador de número de diapositiva"/>
          <p:cNvSpPr/>
          <p:nvPr/>
        </p:nvSpPr>
        <p:spPr>
          <a:xfrm>
            <a:off x="8715240" y="6492960"/>
            <a:ext cx="36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9140-74E4-433E-8F43-625583E98522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5 Rectángulo"/>
          <p:cNvSpPr/>
          <p:nvPr/>
        </p:nvSpPr>
        <p:spPr>
          <a:xfrm>
            <a:off x="4304160" y="6481800"/>
            <a:ext cx="30261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  <a:ea typeface="Calibri"/>
              </a:rPr>
              <a:t>Nota: Al menos una men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6 Imagen" descr="ANNIrecortad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744" name="3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70D4-30F0-4A67-8BF3-F9620F445435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5 CuadroTexto"/>
          <p:cNvSpPr/>
          <p:nvPr/>
        </p:nvSpPr>
        <p:spPr>
          <a:xfrm>
            <a:off x="285840" y="1886040"/>
            <a:ext cx="8501040" cy="43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" rIns="10800" tIns="46800" bIns="46800" anchor="t">
            <a:spAutoFit/>
          </a:bodyPr>
          <a:p>
            <a:pPr marL="272880" indent="-272880" algn="ct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Cobertura Sectorial (servicios y agro) y Territorial (Region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Mecanismos  de cruce de información de diversas encues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Cooperación del SNCyT: formal,  resultados, objetivos e impact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Conceptualización de innovación organizacional y de comercia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Mejor medición de la inversión en Actividades de Innovación, y de variables de desempeño produc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Mejorar tipología: empresas innovadoras y no innovado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Profundización de la información sobre RRHH: formación por campos de cono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Capacidad prospectiva: insumos para pensar perspectivas futu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Aspectos intrínsecos a la recolección  de indicadores: subjetividad de las preguntas sobre result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8"/>
          <p:cNvSpPr/>
          <p:nvPr/>
        </p:nvSpPr>
        <p:spPr>
          <a:xfrm>
            <a:off x="71280" y="6840"/>
            <a:ext cx="785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tabLst>
                <a:tab algn="l" pos="0"/>
                <a:tab algn="r" pos="121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"/>
              </a:rPr>
              <a:t>7.  ¿Qué áreas se consideran débilmente </a:t>
            </a:r>
            <a:r>
              <a:rPr b="1" lang="es-UY" sz="3200" spc="-1" strike="noStrike">
                <a:solidFill>
                  <a:srgbClr val="000000"/>
                </a:solidFill>
                <a:latin typeface="Arial"/>
              </a:rPr>
              <a:t>atendidas por las Encuestas de Innov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6 Imagen" descr="ANNIrecortad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pic>
        <p:nvPicPr>
          <p:cNvPr id="748" name="2 Título" descr=""/>
          <p:cNvPicPr/>
          <p:nvPr/>
        </p:nvPicPr>
        <p:blipFill>
          <a:blip r:embed="rId2"/>
          <a:stretch/>
        </p:blipFill>
        <p:spPr>
          <a:xfrm>
            <a:off x="-66600" y="12600"/>
            <a:ext cx="7862760" cy="1206720"/>
          </a:xfrm>
          <a:prstGeom prst="rect">
            <a:avLst/>
          </a:prstGeom>
          <a:ln w="0">
            <a:noFill/>
          </a:ln>
        </p:spPr>
      </p:pic>
      <p:sp>
        <p:nvSpPr>
          <p:cNvPr id="749" name="5 CuadroTexto"/>
          <p:cNvSpPr/>
          <p:nvPr/>
        </p:nvSpPr>
        <p:spPr>
          <a:xfrm>
            <a:off x="500040" y="1928880"/>
            <a:ext cx="828684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En relación a la predisposición a compartir información 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con otros act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Brindar información y ganar legitimidad vs. negar información y 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jercer p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En relación a la predisposición al uso de insumos de 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investi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Valoración a nivel político vs. valoración a nivel téc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Dato como insumo vs. experiencia propia como insu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Dato como fuente de información vs. dato como argumento 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polí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3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3360-2B4F-4AAF-93E4-73CFA2AA688F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5 CuadroTexto"/>
          <p:cNvSpPr/>
          <p:nvPr/>
        </p:nvSpPr>
        <p:spPr>
          <a:xfrm>
            <a:off x="468360" y="2276640"/>
            <a:ext cx="828684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s-CO" sz="2000" spc="-1" strike="noStrike">
                <a:solidFill>
                  <a:srgbClr val="000000"/>
                </a:solidFill>
                <a:latin typeface="Lucida Sans Unicode"/>
              </a:rPr>
              <a:t>c) En relación a la calidad y pertinencia metodológ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Indicadores de comparabilidad internacional vs. indicadores 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Indicadores básicos vs. análisis comple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Información cuantitativa vs. información cualit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Cantidad de preguntas vs. calidad de las respue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Información para el Investigación (Academia) vs. información para la Gestión (Policy Makers+</a:t>
            </a:r>
            <a:r>
              <a:rPr b="0" lang="es-CO" sz="2000" spc="-1" strike="noStrike">
                <a:solidFill>
                  <a:srgbClr val="1faecd"/>
                </a:solidFill>
                <a:latin typeface="Lucida Sans Unicode"/>
              </a:rPr>
              <a:t> </a:t>
            </a: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Empres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3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6E90-EE1D-469C-AA61-B70CA33583DF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6 Imagen" descr="ANNIrecortad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pic>
        <p:nvPicPr>
          <p:cNvPr id="754" name="2 Título" descr=""/>
          <p:cNvPicPr/>
          <p:nvPr/>
        </p:nvPicPr>
        <p:blipFill>
          <a:blip r:embed="rId2"/>
          <a:stretch/>
        </p:blipFill>
        <p:spPr>
          <a:xfrm>
            <a:off x="-66600" y="12600"/>
            <a:ext cx="786276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6 Imagen" descr="ANNIrecortad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518" name="7 Rectángulo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1857240"/>
            <a:ext cx="835812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CO" sz="2600" spc="-1" strike="noStrike">
                <a:solidFill>
                  <a:srgbClr val="000000"/>
                </a:solidFill>
                <a:latin typeface="Lucida Sans Unicode"/>
              </a:rPr>
              <a:t>Conocer si en los países de América Latina las Encuestas de Innovación son centralmente consideradas como insumo entre los integrantes de la comunidad política y técnica allegada al desarrollo de políticas de ciencia, tecnología, e innovación a la hora de la toma de decisiones de </a:t>
            </a:r>
            <a:r>
              <a:rPr b="1" i="1" lang="es-CO" sz="2600" spc="-1" strike="noStrike">
                <a:solidFill>
                  <a:srgbClr val="000000"/>
                </a:solidFill>
                <a:latin typeface="Lucida Sans Unicode"/>
              </a:rPr>
              <a:t>diseño </a:t>
            </a:r>
            <a:r>
              <a:rPr b="0" lang="es-CO" sz="26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1" i="1" lang="es-CO" sz="2600" spc="-1" strike="noStrike">
                <a:solidFill>
                  <a:srgbClr val="000000"/>
                </a:solidFill>
                <a:latin typeface="Lucida Sans Unicode"/>
              </a:rPr>
              <a:t> evaluación,</a:t>
            </a:r>
            <a:r>
              <a:rPr b="0" lang="es-C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AR" sz="2600" spc="-1" strike="noStrike">
                <a:solidFill>
                  <a:srgbClr val="000000"/>
                </a:solidFill>
                <a:latin typeface="Lucida Sans Unicode"/>
              </a:rPr>
              <a:t>y en qué fuentes de información -sustitutas o complementarias a la de la encuesta- se basan dichas decisione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0" name="1 Título" descr=""/>
          <p:cNvPicPr/>
          <p:nvPr/>
        </p:nvPicPr>
        <p:blipFill>
          <a:blip r:embed="rId2"/>
          <a:stretch/>
        </p:blipFill>
        <p:spPr>
          <a:xfrm>
            <a:off x="281160" y="268200"/>
            <a:ext cx="8412120" cy="1158840"/>
          </a:xfrm>
          <a:prstGeom prst="rect">
            <a:avLst/>
          </a:prstGeom>
          <a:ln w="0">
            <a:noFill/>
          </a:ln>
        </p:spPr>
      </p:pic>
      <p:pic>
        <p:nvPicPr>
          <p:cNvPr id="521" name="8 Imagen" descr="Logo 1,5cm CMYK.jpg"/>
          <p:cNvPicPr/>
          <p:nvPr/>
        </p:nvPicPr>
        <p:blipFill>
          <a:blip r:embed="rId3"/>
          <a:stretch/>
        </p:blipFill>
        <p:spPr>
          <a:xfrm>
            <a:off x="7929720" y="142920"/>
            <a:ext cx="834840" cy="1214280"/>
          </a:xfrm>
          <a:prstGeom prst="rect">
            <a:avLst/>
          </a:prstGeom>
          <a:ln w="0">
            <a:noFill/>
          </a:ln>
        </p:spPr>
      </p:pic>
      <p:sp>
        <p:nvSpPr>
          <p:cNvPr id="522" name="8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EFF8-4113-43AD-9D2B-0EB621831364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5 CuadroTexto"/>
          <p:cNvSpPr/>
          <p:nvPr/>
        </p:nvSpPr>
        <p:spPr>
          <a:xfrm>
            <a:off x="468360" y="2276640"/>
            <a:ext cx="828684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Lucida Sans Unicode"/>
              </a:rPr>
              <a:t>d) En relación a la oportunidad y alcance de los insu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Necesidad de respuestas rápidas vs. dilaciones en la disponibilidad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Gobiernos de turno vs. acumulación de capacidades endóge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Capacidad de análisis endógena vs. consultorías extern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3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BA7B-B76E-4EB9-9AF2-17E43F558CB1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6 Imagen" descr="ANNIrecortad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pic>
        <p:nvPicPr>
          <p:cNvPr id="758" name="2 Título" descr=""/>
          <p:cNvPicPr/>
          <p:nvPr/>
        </p:nvPicPr>
        <p:blipFill>
          <a:blip r:embed="rId2"/>
          <a:stretch/>
        </p:blipFill>
        <p:spPr>
          <a:xfrm>
            <a:off x="-66600" y="12600"/>
            <a:ext cx="786276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-360" y="1901520"/>
            <a:ext cx="89298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52440" indent="-243000">
              <a:lnSpc>
                <a:spcPct val="80000"/>
              </a:lnSpc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En general, las Encuestas de Innovación </a:t>
            </a:r>
            <a:r>
              <a:rPr b="1" lang="es-ES" sz="1800" spc="-1" strike="noStrike">
                <a:solidFill>
                  <a:srgbClr val="000000"/>
                </a:solidFill>
                <a:latin typeface="Lucida Sans Unicode"/>
              </a:rPr>
              <a:t>no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 son centralmente consideradas como insumo entre los integrantes de la comunidad política y técnica a la hora de la toma de decisione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24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2440" indent="-243000">
              <a:lnSpc>
                <a:spcPct val="80000"/>
              </a:lnSpc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Lucida Sans Unicode"/>
              </a:rPr>
              <a:t>Las Encuestas de Innovación se usan más para el </a:t>
            </a:r>
            <a:r>
              <a:rPr b="1" lang="es-UY" sz="1800" spc="-1" strike="noStrike">
                <a:solidFill>
                  <a:srgbClr val="000000"/>
                </a:solidFill>
                <a:latin typeface="Lucida Sans Unicode"/>
              </a:rPr>
              <a:t>diseño y rediseño</a:t>
            </a:r>
            <a:r>
              <a:rPr b="0" lang="es-UY" sz="1800" spc="-1" strike="noStrike">
                <a:solidFill>
                  <a:srgbClr val="000000"/>
                </a:solidFill>
                <a:latin typeface="Lucida Sans Unicode"/>
              </a:rPr>
              <a:t> de políticas e instrumentos de CTI que para el monitoreo y evaluación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24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2440" indent="-243000">
              <a:lnSpc>
                <a:spcPct val="80000"/>
              </a:lnSpc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Lucida Sans Unicode"/>
              </a:rPr>
              <a:t>Los principales obstáculos del lado de la oferta se relacionan con el </a:t>
            </a:r>
            <a:r>
              <a:rPr b="1" lang="es-UY" sz="1800" spc="-1" strike="noStrike">
                <a:solidFill>
                  <a:srgbClr val="000000"/>
                </a:solidFill>
                <a:latin typeface="Lucida Sans Unicode"/>
              </a:rPr>
              <a:t>acceso</a:t>
            </a:r>
            <a:r>
              <a:rPr b="0" lang="es-UY" sz="1800" spc="-1" strike="noStrike">
                <a:solidFill>
                  <a:srgbClr val="000000"/>
                </a:solidFill>
                <a:latin typeface="Lucida Sans Unicode"/>
              </a:rPr>
              <a:t> y la </a:t>
            </a:r>
            <a:r>
              <a:rPr b="1" lang="es-UY" sz="1800" spc="-1" strike="noStrike">
                <a:solidFill>
                  <a:srgbClr val="000000"/>
                </a:solidFill>
                <a:latin typeface="Lucida Sans Unicode"/>
              </a:rPr>
              <a:t>difusión</a:t>
            </a:r>
            <a:r>
              <a:rPr b="0" lang="es-UY" sz="1800" spc="-1" strike="noStrike">
                <a:solidFill>
                  <a:srgbClr val="000000"/>
                </a:solidFill>
                <a:latin typeface="Lucida Sans Unicode"/>
              </a:rPr>
              <a:t> de la encuesta. También aparecen problemas de oportunidad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24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2440" indent="-243000">
              <a:lnSpc>
                <a:spcPct val="80000"/>
              </a:lnSpc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Lucida Sans Unicode"/>
              </a:rPr>
              <a:t>Del lado de la demanda, los obstáculos principales son la </a:t>
            </a:r>
            <a:r>
              <a:rPr b="1" lang="es-UY" sz="1800" spc="-1" strike="noStrike">
                <a:solidFill>
                  <a:srgbClr val="000000"/>
                </a:solidFill>
                <a:latin typeface="Lucida Sans Unicode"/>
              </a:rPr>
              <a:t>inexperiencia</a:t>
            </a:r>
            <a:r>
              <a:rPr b="0" lang="es-UY" sz="1800" spc="-1" strike="noStrike">
                <a:solidFill>
                  <a:srgbClr val="000000"/>
                </a:solidFill>
                <a:latin typeface="Lucida Sans Unicode"/>
              </a:rPr>
              <a:t> en el uso de la encuesta y la </a:t>
            </a:r>
            <a:r>
              <a:rPr b="1" lang="es-UY" sz="1800" spc="-1" strike="noStrike">
                <a:solidFill>
                  <a:srgbClr val="000000"/>
                </a:solidFill>
                <a:latin typeface="Lucida Sans Unicode"/>
              </a:rPr>
              <a:t>falta de capacidad analítica</a:t>
            </a:r>
            <a:r>
              <a:rPr b="0" lang="es-UY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24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2440" indent="-243000">
              <a:lnSpc>
                <a:spcPct val="80000"/>
              </a:lnSpc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Lucida Sans Unicode"/>
              </a:rPr>
              <a:t>La relativa </a:t>
            </a:r>
            <a:r>
              <a:rPr b="1" lang="es-UY" sz="1800" spc="-1" strike="noStrike">
                <a:solidFill>
                  <a:srgbClr val="000000"/>
                </a:solidFill>
                <a:latin typeface="Lucida Sans Unicode"/>
              </a:rPr>
              <a:t>desarticulación</a:t>
            </a:r>
            <a:r>
              <a:rPr b="0" lang="es-UY" sz="1800" spc="-1" strike="noStrike">
                <a:solidFill>
                  <a:srgbClr val="000000"/>
                </a:solidFill>
                <a:latin typeface="Lucida Sans Unicode"/>
              </a:rPr>
              <a:t> de los actores del SNI y la escasa participación de los policy makers en el diseño de la encuesta son los problemas más señalados en la intersección entre oferta y demanda. Se constata que cuanto mayor es la participación de los Policy Makers en el diseño de la encuesta, mayor es el </a:t>
            </a:r>
            <a:r>
              <a:rPr b="1" lang="es-UY" sz="1800" spc="-1" strike="noStrike">
                <a:solidFill>
                  <a:srgbClr val="000000"/>
                </a:solidFill>
                <a:latin typeface="Lucida Sans Unicode"/>
              </a:rPr>
              <a:t>aprovechamiento</a:t>
            </a:r>
            <a:r>
              <a:rPr b="0" lang="es-UY" sz="1800" spc="-1" strike="noStrike">
                <a:solidFill>
                  <a:srgbClr val="000000"/>
                </a:solidFill>
                <a:latin typeface="Lucida Sans Unicode"/>
              </a:rPr>
              <a:t> de la información para la toma de decisione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24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2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0" name="3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01EE-13A2-4DE4-B57E-374A92D2CFD4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6 Imagen" descr="ANNIrecortad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pic>
        <p:nvPicPr>
          <p:cNvPr id="762" name="2 Título" descr=""/>
          <p:cNvPicPr/>
          <p:nvPr/>
        </p:nvPicPr>
        <p:blipFill>
          <a:blip r:embed="rId2"/>
          <a:stretch/>
        </p:blipFill>
        <p:spPr>
          <a:xfrm>
            <a:off x="-6480" y="66600"/>
            <a:ext cx="77295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71280" y="171468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90680" indent="-381240" algn="just">
              <a:lnSpc>
                <a:spcPct val="80000"/>
              </a:lnSpc>
              <a:spcBef>
                <a:spcPts val="799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Lucida Sans Unicode"/>
              </a:rPr>
              <a:t>Potenciar relevancia</a:t>
            </a: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Lucida Sans Unicode"/>
              </a:rPr>
              <a:t>de la encuesta.</a:t>
            </a: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 Revisar el proceso de elaboración de la encuesta para atender las demandas de los policy makers y los problemas concretos del sector empresarial; sin perder de vista la comparabilidad internacional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90680" indent="-381240" algn="just">
              <a:lnSpc>
                <a:spcPct val="80000"/>
              </a:lnSpc>
              <a:spcBef>
                <a:spcPts val="799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Lucida Sans Unicode"/>
              </a:rPr>
              <a:t>Potenciar diseminación</a:t>
            </a: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Lucida Sans Unicode"/>
              </a:rPr>
              <a:t>de los resultados de la encuesta.</a:t>
            </a: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 Revisar políticas de acceso y difusión. La batalla por la incorporación de investigación en las políticas suele ganarse conquistando primero al público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90680" indent="-381240" algn="just">
              <a:lnSpc>
                <a:spcPct val="80000"/>
              </a:lnSpc>
              <a:spcBef>
                <a:spcPts val="799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Lucida Sans Unicode"/>
              </a:rPr>
              <a:t>Fortalecer capacidades analíticas en las agencias responsables.</a:t>
            </a: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 Potenciar la capacidad de análisis de información estadística de las instituciones encargadas de la política de innovación. Fomentar la acumulación de experiencia en personas e institucione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90680" indent="-381240" algn="just">
              <a:lnSpc>
                <a:spcPct val="80000"/>
              </a:lnSpc>
              <a:spcBef>
                <a:spcPts val="799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Lucida Sans Unicode"/>
              </a:rPr>
              <a:t>Consolidar y jerarquizar las Encuestas de Innovación  en los Sistemas de Información Nacionales</a:t>
            </a: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90680" indent="-381240" algn="just">
              <a:lnSpc>
                <a:spcPct val="80000"/>
              </a:lnSpc>
              <a:spcBef>
                <a:spcPts val="799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Lucida Sans Unicode"/>
              </a:rPr>
              <a:t>Construir puentes</a:t>
            </a: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Lucida Sans Unicode"/>
              </a:rPr>
              <a:t>entre actores clave</a:t>
            </a: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. Desarrollar estrategias y construir instancias que favorezcan el contacto entre la comunidad de investigadores, la comunidad de policy makers y el mundo empresarial.  Desarrollar la figura del “traductor”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4" name="3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78A1-BCEA-4CC6-9A55-57CEFE704551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6 Imagen" descr="ANNIrecortad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pic>
        <p:nvPicPr>
          <p:cNvPr id="766" name="2 Título" descr=""/>
          <p:cNvPicPr/>
          <p:nvPr/>
        </p:nvPicPr>
        <p:blipFill>
          <a:blip r:embed="rId2"/>
          <a:stretch/>
        </p:blipFill>
        <p:spPr>
          <a:xfrm>
            <a:off x="-6480" y="66600"/>
            <a:ext cx="77295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Picture 2" descr="PLOTER2"/>
          <p:cNvPicPr/>
          <p:nvPr/>
        </p:nvPicPr>
        <p:blipFill>
          <a:blip r:embed="rId1"/>
          <a:stretch/>
        </p:blipFill>
        <p:spPr>
          <a:xfrm>
            <a:off x="-214200" y="4680"/>
            <a:ext cx="9501120" cy="6853320"/>
          </a:xfrm>
          <a:prstGeom prst="rect">
            <a:avLst/>
          </a:prstGeom>
          <a:ln w="0">
            <a:noFill/>
          </a:ln>
        </p:spPr>
      </p:pic>
      <p:sp>
        <p:nvSpPr>
          <p:cNvPr id="768" name="Rectangle 3"/>
          <p:cNvSpPr/>
          <p:nvPr/>
        </p:nvSpPr>
        <p:spPr>
          <a:xfrm>
            <a:off x="-214200" y="4214880"/>
            <a:ext cx="9501120" cy="2643120"/>
          </a:xfrm>
          <a:prstGeom prst="rect">
            <a:avLst/>
          </a:prstGeom>
          <a:solidFill>
            <a:srgbClr val="0a40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4"/>
          <p:cNvSpPr/>
          <p:nvPr/>
        </p:nvSpPr>
        <p:spPr>
          <a:xfrm>
            <a:off x="1428840" y="4572000"/>
            <a:ext cx="2143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Franklin Gothic Medium"/>
              </a:rPr>
              <a:t>Gracias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5"/>
          <p:cNvSpPr/>
          <p:nvPr/>
        </p:nvSpPr>
        <p:spPr>
          <a:xfrm>
            <a:off x="3059280" y="189000"/>
            <a:ext cx="3168360" cy="23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6" descr="Logo RGB"/>
          <p:cNvPicPr/>
          <p:nvPr/>
        </p:nvPicPr>
        <p:blipFill>
          <a:blip r:embed="rId2"/>
          <a:stretch/>
        </p:blipFill>
        <p:spPr>
          <a:xfrm>
            <a:off x="3851280" y="189000"/>
            <a:ext cx="1425600" cy="2346120"/>
          </a:xfrm>
          <a:prstGeom prst="rect">
            <a:avLst/>
          </a:prstGeom>
          <a:ln w="0">
            <a:noFill/>
          </a:ln>
        </p:spPr>
      </p:pic>
      <p:sp>
        <p:nvSpPr>
          <p:cNvPr id="772" name="6 CuadroTexto"/>
          <p:cNvSpPr/>
          <p:nvPr/>
        </p:nvSpPr>
        <p:spPr>
          <a:xfrm>
            <a:off x="5572080" y="528624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ncón 528 piso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l: 916 69 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8119"/>
                </a:solidFill>
                <a:uFillTx/>
                <a:latin typeface="Arial"/>
                <a:hlinkClick r:id="rId3"/>
              </a:rPr>
              <a:t>www.anii.org.u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6 Imagen" descr="ANNIrecortad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524" name="7 Rectángulo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1 Título" descr=""/>
          <p:cNvPicPr/>
          <p:nvPr/>
        </p:nvPicPr>
        <p:blipFill>
          <a:blip r:embed="rId2"/>
          <a:stretch/>
        </p:blipFill>
        <p:spPr>
          <a:xfrm>
            <a:off x="281160" y="268200"/>
            <a:ext cx="8412120" cy="1158840"/>
          </a:xfrm>
          <a:prstGeom prst="rect">
            <a:avLst/>
          </a:prstGeom>
          <a:ln w="0">
            <a:noFill/>
          </a:ln>
        </p:spPr>
      </p:pic>
      <p:pic>
        <p:nvPicPr>
          <p:cNvPr id="526" name="8 Imagen" descr="Logo 1,5cm CMYK.jpg"/>
          <p:cNvPicPr/>
          <p:nvPr/>
        </p:nvPicPr>
        <p:blipFill>
          <a:blip r:embed="rId3"/>
          <a:stretch/>
        </p:blipFill>
        <p:spPr>
          <a:xfrm>
            <a:off x="7929720" y="142920"/>
            <a:ext cx="834840" cy="1214280"/>
          </a:xfrm>
          <a:prstGeom prst="rect">
            <a:avLst/>
          </a:prstGeom>
          <a:ln w="0">
            <a:noFill/>
          </a:ln>
        </p:spPr>
      </p:pic>
      <p:sp>
        <p:nvSpPr>
          <p:cNvPr id="527" name="2 Marcador de contenido"/>
          <p:cNvSpPr/>
          <p:nvPr/>
        </p:nvSpPr>
        <p:spPr>
          <a:xfrm>
            <a:off x="468360" y="1714680"/>
            <a:ext cx="8229600" cy="47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Determinar cuáles son las </a:t>
            </a: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fuentes de información</a:t>
            </a: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 en las que se basa diseño y evaluación de políticas públicas en Ciencia, Tecnología e Innovación en países de América Lat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Conocer en qué medida las </a:t>
            </a: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Encuestas de Innovación</a:t>
            </a: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 son utilizadas como insumo para la toma de decisiones en C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Identificar cuáles son los principales </a:t>
            </a: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factores</a:t>
            </a: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 que </a:t>
            </a: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facilitan</a:t>
            </a: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 e </a:t>
            </a: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inhiben</a:t>
            </a: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 el uso de Encuestas de Innov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Identificar </a:t>
            </a: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demandas de información</a:t>
            </a: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 de tomadores de decisión que podrían ser atendidas (o mejor atendidas) a través de las Encuestas de Innov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Generar información que contribuya a la elaboración de </a:t>
            </a: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estrategias</a:t>
            </a: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 para </a:t>
            </a: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mejorar el aprovechamiento</a:t>
            </a: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 de las Encuestas de Innovación en la reg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8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EAF0-6DE4-4F24-8B99-06A369E87F2D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213840" y="148104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Lucida Sans Unicode"/>
              </a:rPr>
              <a:t>4 países: Argentina, Chile, Colombia y Uruguay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Lucida Sans Unicode"/>
              </a:rPr>
              <a:t>Cada equipo nacional llevó adelante entrevistas semi-estructuradas en profundidad a tomadores de decisión en políticas de CTI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Lucida Sans Unicode"/>
              </a:rPr>
              <a:t>Los equipos nacionales utilizaron una pauta común elaborada por la coordinación de la investigación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Lucida Sans Unicode"/>
              </a:rPr>
              <a:t>Se realizaron en total 36 entrevistas a tomadores de decisión de 25 instituciones diferentes vinculadas con CT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3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5887-4C11-45F0-9B67-4037FE5429FF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UY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532" name="6 Imagen" descr="ANNIrecortad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pic>
        <p:nvPicPr>
          <p:cNvPr id="533" name="1 Título" descr=""/>
          <p:cNvPicPr/>
          <p:nvPr/>
        </p:nvPicPr>
        <p:blipFill>
          <a:blip r:embed="rId2"/>
          <a:stretch/>
        </p:blipFill>
        <p:spPr>
          <a:xfrm>
            <a:off x="433440" y="420840"/>
            <a:ext cx="84121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Imagen 3" descr=""/>
          <p:cNvPicPr/>
          <p:nvPr/>
        </p:nvPicPr>
        <p:blipFill>
          <a:blip r:embed="rId1"/>
          <a:stretch/>
        </p:blipFill>
        <p:spPr>
          <a:xfrm>
            <a:off x="0" y="153036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535" name="3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393C-3C08-4B80-BA1F-F85F081CA6D0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6 Imagen" descr="ANNIrecortado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537" name="6 Rectángulo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8 Imagen" descr="Logo 1,5cm CMYK.jpg"/>
          <p:cNvPicPr/>
          <p:nvPr/>
        </p:nvPicPr>
        <p:blipFill>
          <a:blip r:embed="rId3"/>
          <a:stretch/>
        </p:blipFill>
        <p:spPr>
          <a:xfrm>
            <a:off x="7929720" y="142920"/>
            <a:ext cx="834840" cy="1214280"/>
          </a:xfrm>
          <a:prstGeom prst="rect">
            <a:avLst/>
          </a:prstGeom>
          <a:ln w="0">
            <a:noFill/>
          </a:ln>
        </p:spPr>
      </p:pic>
      <p:pic>
        <p:nvPicPr>
          <p:cNvPr id="539" name="1 Título" descr=""/>
          <p:cNvPicPr/>
          <p:nvPr/>
        </p:nvPicPr>
        <p:blipFill>
          <a:blip r:embed="rId4"/>
          <a:stretch/>
        </p:blipFill>
        <p:spPr>
          <a:xfrm>
            <a:off x="433440" y="420840"/>
            <a:ext cx="84121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3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E7B6-54CD-41A0-BC5E-80233700A557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6 Imagen" descr="ANNIrecortad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542" name="6 Rectángulo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8 Imagen" descr="Logo 1,5cm CMYK.jpg"/>
          <p:cNvPicPr/>
          <p:nvPr/>
        </p:nvPicPr>
        <p:blipFill>
          <a:blip r:embed="rId2"/>
          <a:stretch/>
        </p:blipFill>
        <p:spPr>
          <a:xfrm>
            <a:off x="7929720" y="142920"/>
            <a:ext cx="834840" cy="1214280"/>
          </a:xfrm>
          <a:prstGeom prst="rect">
            <a:avLst/>
          </a:prstGeom>
          <a:ln w="0">
            <a:noFill/>
          </a:ln>
        </p:spPr>
      </p:pic>
      <p:pic>
        <p:nvPicPr>
          <p:cNvPr id="544" name="1 Título" descr=""/>
          <p:cNvPicPr/>
          <p:nvPr/>
        </p:nvPicPr>
        <p:blipFill>
          <a:blip r:embed="rId3"/>
          <a:stretch/>
        </p:blipFill>
        <p:spPr>
          <a:xfrm>
            <a:off x="433440" y="420840"/>
            <a:ext cx="8412120" cy="1158840"/>
          </a:xfrm>
          <a:prstGeom prst="rect">
            <a:avLst/>
          </a:prstGeom>
          <a:ln w="0">
            <a:noFill/>
          </a:ln>
        </p:spPr>
      </p:pic>
      <p:pic>
        <p:nvPicPr>
          <p:cNvPr id="545" name="10 Marcador de contenido" descr=""/>
          <p:cNvPicPr/>
          <p:nvPr/>
        </p:nvPicPr>
        <p:blipFill>
          <a:blip r:embed="rId4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6 Imagen" descr="ANNIrecortad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pic>
        <p:nvPicPr>
          <p:cNvPr id="547" name="Rectangle 2" descr=""/>
          <p:cNvPicPr/>
          <p:nvPr/>
        </p:nvPicPr>
        <p:blipFill>
          <a:blip r:embed="rId2"/>
          <a:stretch/>
        </p:blipFill>
        <p:spPr>
          <a:xfrm>
            <a:off x="0" y="0"/>
            <a:ext cx="8412120" cy="11826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Ciertamente, </a:t>
            </a: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información</a:t>
            </a: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 e </a:t>
            </a: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investigación social</a:t>
            </a: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 son conceptos diferentes. Así como la información procesa el dato, la investigación social interpreta la información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Sin embargo, la cuestión de cuánto y cómo se usan las encuestas de innovación en las políticas públicas de CTI en América Latina puede ser analizada como un capítulo específico del problema más general de cuánto y cómo se relaciona la investigación social con las políticas pública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La literatura reciente sobre el uso de investigación social en las políticas públicas nos propone estar alertas frente a tres simplificaciones muy comunes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3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6FAF-ED16-449A-8DD9-27396B894447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6 Imagen" descr="ANNIrecortad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pic>
        <p:nvPicPr>
          <p:cNvPr id="551" name="Rectangle 2" descr=""/>
          <p:cNvPicPr/>
          <p:nvPr/>
        </p:nvPicPr>
        <p:blipFill>
          <a:blip r:embed="rId2"/>
          <a:stretch/>
        </p:blipFill>
        <p:spPr>
          <a:xfrm>
            <a:off x="291960" y="255600"/>
            <a:ext cx="8413920" cy="115236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Lucida Sans Unicode"/>
              </a:rPr>
              <a:t>No está probado que un mayor uso de investigación social en las políticas favorezca el desarrollo (Nutley, Walter and Davies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Lucida Sans Unicode"/>
              </a:rPr>
              <a:t>Carol Weiss ha dicho recientemente: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(…) los investigadores también se pueden equivocar, y pese a todo el brillo emitido por palabras como investigación, prueba y aprendizaje, no siempre sabemos cuáles habrían podido ser los resultados si los políticos hubieran decidido pasar por alto el estudio en cuestión” (Carden 2009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3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73B1-D350-4441-B618-29B112CBC1D5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7T17:29:20Z</dcterms:created>
  <dc:creator>Belén</dc:creator>
  <dc:description/>
  <dc:language>en-US</dc:language>
  <cp:lastModifiedBy>sscotto</cp:lastModifiedBy>
  <dcterms:modified xsi:type="dcterms:W3CDTF">2009-09-29T21:16:37Z</dcterms:modified>
  <cp:revision>143</cp:revision>
  <dc:subject/>
  <dc:title>Diapositiva 1</dc:title>
</cp:coreProperties>
</file>