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24C53-DEDA-40AE-87C0-2D4E592EE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6ACB8-EFB1-4410-8A1B-1D732CCFC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7AF40-27FB-414B-94DD-8CD61DCC1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1A07A-B77E-403A-968C-A298B3AA8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19998-1FB4-4171-B7C3-9EDAF25D6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F6C72-979B-47B7-BF9A-B9D1B4E15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A7E0C-C078-4635-9DB4-CBAC129EE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3D5B1-EB20-4EF9-AB42-3EB2BDFCE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0D51F-37D4-4FD9-9022-D612D12C9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528E9-55BF-496F-9B79-01B19E56F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3F23B-3F7F-4242-BA0C-B08A4410E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65EF4-CBDB-4AB1-B806-75140FAD9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9A3D8-E217-4146-9829-1D678EFFD2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Arial"/>
              </a:rPr>
              <a:t>Taller “Del Indicador al Instrumento: Aporte de las Encuestas de Innovación al Diseño de Políticas Públicas”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843200" y="4989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Enfoq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47920" y="1504800"/>
            <a:ext cx="85366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e trata de aproximar los fenómenos de innovación en un  sector clave pa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s economías regionales dad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u peso en la actividad económ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u relevancia exportado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necesidad de reforzar su competitividad futura en base a innovaci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0120" y="3376440"/>
            <a:ext cx="802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scaso desarrollo del tema a pesar de los recientes “saltos” en productivida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egistrados en estas activida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71760" y="4456080"/>
            <a:ext cx="8003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xistencia de varios esfuerzos por medir innovaciones en el “agro” pero foca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izadas en producciones específicos … necesidad de examinar su ampli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l conjunto de la activ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74280" y="5608800"/>
            <a:ext cx="839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necesidad de precisar el objeto de análisis (agro, agroindustria, agroalimen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24000" y="836640"/>
            <a:ext cx="8424720" cy="55767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7800" y="182520"/>
            <a:ext cx="91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LAS HERRAMIENTAS DE LA CAJA NEGRA DE LA INNOVACIÓN EN LA  EMPRE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74520" y="1457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304920" y="431640"/>
            <a:ext cx="8825400" cy="5760000"/>
            <a:chOff x="304920" y="431640"/>
            <a:chExt cx="8825400" cy="5760000"/>
          </a:xfrm>
        </p:grpSpPr>
        <p:sp>
          <p:nvSpPr>
            <p:cNvPr id="52" name=""/>
            <p:cNvSpPr/>
            <p:nvPr/>
          </p:nvSpPr>
          <p:spPr>
            <a:xfrm>
              <a:off x="341280" y="431640"/>
              <a:ext cx="7569720" cy="54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480" rIns="60480" tIns="30240" bIns="3024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3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     </a:t>
              </a:r>
              <a:r>
                <a:rPr b="1" lang="es-ES" sz="3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Las redes de innovación en el agro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20040" y="1872360"/>
              <a:ext cx="1727640" cy="30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Genétic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19680" y="2324160"/>
              <a:ext cx="1420200" cy="30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480" rIns="60480" tIns="30240" bIns="302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Maq. y Equip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7520" y="2842920"/>
              <a:ext cx="891360" cy="30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480" rIns="60480" tIns="30240" bIns="302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Biocida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20040" y="3290400"/>
              <a:ext cx="1046880" cy="30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480" rIns="60480" tIns="30240" bIns="302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Nutrient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85920" y="4681800"/>
              <a:ext cx="685440" cy="30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480" rIns="60480" tIns="30240" bIns="302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INIA´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04920" y="5292360"/>
              <a:ext cx="2269080" cy="30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480" rIns="60480" tIns="30240" bIns="302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Universidades/instituto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47640" y="5887440"/>
              <a:ext cx="3361680" cy="30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480" rIns="60480" tIns="30240" bIns="3024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Organizaciones Gremiales Privada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286960" y="5811840"/>
              <a:ext cx="1522080" cy="30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480" rIns="60480" tIns="30240" bIns="302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Subcontratista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685920" y="1806840"/>
              <a:ext cx="1882080" cy="30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480" rIns="60480" tIns="30240" bIns="302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Demanda</a:t>
              </a:r>
              <a:r>
                <a:rPr b="0" lang="es-E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r>
                <a:rPr b="0" lang="es-E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Industri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61880" y="3631680"/>
              <a:ext cx="2368440" cy="79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Organismos d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Regulación</a:t>
              </a:r>
              <a:r>
                <a:rPr b="0" lang="es-E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r>
                <a:rPr b="0" lang="es-E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(local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e internacionales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503520" y="2300040"/>
              <a:ext cx="2248920" cy="178020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DUEÑO/PRODUCTO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y/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EMPRESA AGROPECUARI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94960" y="2282400"/>
              <a:ext cx="2669040" cy="168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480" rIns="60480" tIns="30240" bIns="30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726640" y="2966400"/>
              <a:ext cx="621360" cy="297000"/>
            </a:xfrm>
            <a:prstGeom prst="rightArrow">
              <a:avLst>
                <a:gd name="adj1" fmla="val 50000"/>
                <a:gd name="adj2" fmla="val 52303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 rot="19156800">
              <a:off x="3239640" y="4741200"/>
              <a:ext cx="824760" cy="295200"/>
            </a:xfrm>
            <a:prstGeom prst="rightArrow">
              <a:avLst>
                <a:gd name="adj1" fmla="val 50000"/>
                <a:gd name="adj2" fmla="val 69848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 rot="8728800">
              <a:off x="5698080" y="2465280"/>
              <a:ext cx="1099800" cy="247320"/>
            </a:xfrm>
            <a:prstGeom prst="rightArrow">
              <a:avLst>
                <a:gd name="adj1" fmla="val 50000"/>
                <a:gd name="adj2" fmla="val 111172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 rot="12953400">
              <a:off x="5722200" y="3610080"/>
              <a:ext cx="1086480" cy="222120"/>
            </a:xfrm>
            <a:prstGeom prst="rightArrow">
              <a:avLst>
                <a:gd name="adj1" fmla="val 50000"/>
                <a:gd name="adj2" fmla="val 122285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104200" y="1335960"/>
              <a:ext cx="501480" cy="2831400"/>
            </a:xfrm>
            <a:prstGeom prst="rect">
              <a:avLst/>
            </a:prstGeom>
            <a:solidFill>
              <a:srgbClr val="99cc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74520" y="539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428720" y="5416560"/>
            <a:ext cx="126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Arial"/>
              </a:rPr>
              <a:t>Consultor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641280" y="5180040"/>
            <a:ext cx="21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Arial"/>
              </a:rPr>
              <a:t>Red de Profesion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1042920" y="836640"/>
            <a:ext cx="914400" cy="504720"/>
          </a:xfrm>
          <a:prstGeom prst="ellipse">
            <a:avLst/>
          </a:prstGeom>
          <a:solidFill>
            <a:srgbClr val="f2f0a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115280" y="930240"/>
            <a:ext cx="79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Genét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6760" y="1362240"/>
            <a:ext cx="79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Cabañ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05680" y="1793880"/>
            <a:ext cx="165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Inseminación Artific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79280" y="1341360"/>
            <a:ext cx="554040" cy="914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Arial"/>
              </a:rPr>
              <a:t>G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Arial"/>
              </a:rPr>
              <a:t>Avanzad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268360" y="836640"/>
            <a:ext cx="914400" cy="358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Asoc. 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Criado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826920" y="155700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55640" y="1916280"/>
            <a:ext cx="144360" cy="7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84360" y="1628640"/>
            <a:ext cx="14256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808200" y="2801880"/>
            <a:ext cx="14601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Semill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Manej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Fertilizan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Herbicid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Máquinas y Equip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Asesoramien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0" y="2852640"/>
            <a:ext cx="611280" cy="1081080"/>
          </a:xfrm>
          <a:prstGeom prst="ellipse">
            <a:avLst/>
          </a:prstGeom>
          <a:solidFill>
            <a:srgbClr val="f2f0a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-36000" y="3162240"/>
            <a:ext cx="697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Alimen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t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484360" y="2924280"/>
            <a:ext cx="71640" cy="1225440"/>
          </a:xfrm>
          <a:custGeom>
            <a:avLst/>
            <a:gdLst>
              <a:gd name="textAreaLeft" fmla="*/ 0 w 71640"/>
              <a:gd name="textAreaRight" fmla="*/ 25920 w 71640"/>
              <a:gd name="textAreaTop" fmla="*/ 31680 h 1225440"/>
              <a:gd name="textAreaBottom" fmla="*/ 1193760 h 1225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-36360" y="4292640"/>
            <a:ext cx="610920" cy="1081080"/>
          </a:xfrm>
          <a:prstGeom prst="ellipse">
            <a:avLst/>
          </a:prstGeom>
          <a:solidFill>
            <a:srgbClr val="f2f0a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Sani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75520" y="4529160"/>
            <a:ext cx="1694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Vacun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Suplementos dietari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Asesoramien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482920" y="4508640"/>
            <a:ext cx="73080" cy="792000"/>
          </a:xfrm>
          <a:custGeom>
            <a:avLst/>
            <a:gdLst>
              <a:gd name="textAreaLeft" fmla="*/ 0 w 73080"/>
              <a:gd name="textAreaRight" fmla="*/ 26280 w 73080"/>
              <a:gd name="textAreaTop" fmla="*/ 20520 h 792000"/>
              <a:gd name="textAreaBottom" fmla="*/ 771480 h 79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484360" y="1413000"/>
            <a:ext cx="71640" cy="1079280"/>
          </a:xfrm>
          <a:custGeom>
            <a:avLst/>
            <a:gdLst>
              <a:gd name="textAreaLeft" fmla="*/ 0 w 71640"/>
              <a:gd name="textAreaRight" fmla="*/ 25920 w 71640"/>
              <a:gd name="textAreaTop" fmla="*/ 28080 h 1079280"/>
              <a:gd name="textAreaBottom" fmla="*/ 1051200 h 107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916360" y="6093000"/>
            <a:ext cx="1274760" cy="431640"/>
          </a:xfrm>
          <a:prstGeom prst="ellipse">
            <a:avLst/>
          </a:prstGeom>
          <a:solidFill>
            <a:srgbClr val="f2f0a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Instalaci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y equip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895480" y="5564160"/>
            <a:ext cx="1316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Mixer/tractor/Ordeñadoras, Otr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700360" y="5589720"/>
            <a:ext cx="158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873600" y="206064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Criado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Arial"/>
              </a:rPr>
              <a:t>Tambos propi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97240" y="2801880"/>
            <a:ext cx="914400" cy="9144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Feed L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Arial"/>
              </a:rPr>
              <a:t>Emp. Lácte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56000" y="2781360"/>
            <a:ext cx="914400" cy="9144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Invernado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211640" y="3932280"/>
            <a:ext cx="144360" cy="576360"/>
          </a:xfrm>
          <a:prstGeom prst="downArrowCallout">
            <a:avLst>
              <a:gd name="adj1" fmla="val 25002"/>
              <a:gd name="adj2" fmla="val 25000"/>
              <a:gd name="adj3" fmla="val 66542"/>
              <a:gd name="adj4" fmla="val 6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995280" y="4667400"/>
            <a:ext cx="61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Fae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834320" y="622440"/>
            <a:ext cx="914400" cy="502920"/>
          </a:xfrm>
          <a:prstGeom prst="ellipse">
            <a:avLst/>
          </a:prstGeom>
          <a:solidFill>
            <a:srgbClr val="f2f0a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707240" y="706320"/>
            <a:ext cx="111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Conocimien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854760" y="136224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Universida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990760" y="2009880"/>
            <a:ext cx="110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Profesion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63120" y="251316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Consulto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402680" y="1774800"/>
            <a:ext cx="914400" cy="358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Colegio  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Profesion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451640" y="2709720"/>
            <a:ext cx="914400" cy="358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Asociaci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Gremi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512920" y="2585880"/>
            <a:ext cx="604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S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C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Otr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558400" y="136224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Extens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6659640" y="1557360"/>
            <a:ext cx="217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6732360" y="1628640"/>
            <a:ext cx="36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6877080" y="1700280"/>
            <a:ext cx="28728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7092720" y="2060640"/>
            <a:ext cx="21564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7164360" y="2133360"/>
            <a:ext cx="21600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83120" y="262584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667640" y="3860640"/>
            <a:ext cx="914400" cy="5050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761960" y="3881520"/>
            <a:ext cx="843840" cy="459000"/>
          </a:xfrm>
          <a:prstGeom prst="rect">
            <a:avLst/>
          </a:prstGeom>
          <a:solidFill>
            <a:srgbClr val="f2f6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Req. 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Deman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945400" y="3645000"/>
            <a:ext cx="254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Frigoríficos Locales/Usinas láct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939640" y="3881520"/>
            <a:ext cx="1948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Export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Hilton/Su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Habilitación merca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3059280" y="1773360"/>
            <a:ext cx="1225440" cy="20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987640" y="3860640"/>
            <a:ext cx="2449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284720" y="1773360"/>
            <a:ext cx="1150920" cy="20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940360" y="3716280"/>
            <a:ext cx="71640" cy="792360"/>
          </a:xfrm>
          <a:custGeom>
            <a:avLst/>
            <a:gdLst>
              <a:gd name="textAreaLeft" fmla="*/ 45720 w 71640"/>
              <a:gd name="textAreaRight" fmla="*/ 72000 w 71640"/>
              <a:gd name="textAreaTop" fmla="*/ 20520 h 792360"/>
              <a:gd name="textAreaBottom" fmla="*/ 771840 h 7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940360" y="1916280"/>
            <a:ext cx="71640" cy="1368360"/>
          </a:xfrm>
          <a:custGeom>
            <a:avLst/>
            <a:gdLst>
              <a:gd name="textAreaLeft" fmla="*/ 45720 w 71640"/>
              <a:gd name="textAreaRight" fmla="*/ 72000 w 71640"/>
              <a:gd name="textAreaTop" fmla="*/ 35640 h 1368360"/>
              <a:gd name="textAreaBottom" fmla="*/ 1332720 h 136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796000" y="6094440"/>
            <a:ext cx="1655640" cy="503280"/>
          </a:xfrm>
          <a:prstGeom prst="ellipse">
            <a:avLst/>
          </a:prstGeom>
          <a:solidFill>
            <a:srgbClr val="f2f0a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Planes y progra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públ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413680" y="5610240"/>
            <a:ext cx="2584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Nación – Provincia – INIA´s y Otr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364000" y="5516640"/>
            <a:ext cx="230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971640" y="163440"/>
            <a:ext cx="68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El subsistema de Innovación ganadero/lácte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856200" y="1068480"/>
            <a:ext cx="156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Instituciones de Cy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6659280" y="1268280"/>
            <a:ext cx="14436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Las preguntas a los panelist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55760" y="1720800"/>
            <a:ext cx="844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mo “traducir” los conceptos contenidos en el Manual  de Bogotá (y su enfoqu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e acuerdo con filmina 3 a las especificidades del agr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50360" y="2924280"/>
            <a:ext cx="685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res planos analíticos (en función de la filmina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. La actividad de innovación en la chac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. Los desarrollos de proveedores (semillas, equipos, etc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. Los vínculos entre ambos espacios de innov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7920" y="4745160"/>
            <a:ext cx="8660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os problemas asociados a la especificidad de cada una de las actividades 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mponen el agr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. Una sección general compatible con indicadores generales (incluso de l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ndustria y los servicio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. Una sección específ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7T14:48:18Z</dcterms:created>
  <dc:creator>DPKO user</dc:creator>
  <dc:description/>
  <dc:language>en-US</dc:language>
  <cp:lastModifiedBy>user</cp:lastModifiedBy>
  <dcterms:modified xsi:type="dcterms:W3CDTF">2009-09-27T22:52:15Z</dcterms:modified>
  <cp:revision>4</cp:revision>
  <dc:subject/>
  <dc:title>Slide 1</dc:title>
</cp:coreProperties>
</file>