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58D-2F31-4B90-B2E7-EF70A5BA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392-D5FF-4682-914F-6E9B2E7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44E-145F-4D7D-BE65-571F7341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061-3F01-453E-8093-9E479BAE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A3D-1B90-4417-A8AB-6CAB93B8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4C7-0561-4867-BE64-7B112BD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43C-D92A-4894-B49D-4D4EC313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207-6CD2-482E-BF8F-CD66CC5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D43-11E3-4A3A-A8CC-4DCC573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6E7-97D7-458C-9FD9-80FFC1D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32E-F643-4853-8E99-D79F617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832-18DA-4AB1-817B-0F6B36A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8389-F91C-4187-AEF1-F1441E0D79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salazar@ocyt.org.co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Arial"/>
              </a:rPr>
              <a:t>De los manuales, al formulario a las respuestas: el caso de Colom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ónic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irectora, OC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MUCHAS GRACIAS</a:t>
            </a: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salazar@ocyt.org.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ttp://www.ocyt.org.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DT 1996: datos 1994-1996. D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DIT 2, realizada en 2005: datos 2003-2004. DANE, DNP, Colciencias, OCyT (pilo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DIT 3, realizada en 2007: datos 2005-2006, resultados no disponibles. DANE, DNP, Colc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 fracturaron las relaciones entre expertos en medición de la innovación, diseñadores de encuestas, recolectores, procesadores y analistas/acad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DIT 4, a realizarse en 2009. DANE, DNP, Colciencias, con apoyo grupo de exper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institucionalización de la realización de la EDIT en el D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an  realizado dos encuestas para el sector de manufactura, y una para el sector servicios. Preparando la cua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Intercaladas cada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 que habría que mejorar es el tiempo de entrega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Manuales   </a:t>
            </a: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4000" y="134136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aso 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basa en el Manual Bogo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o se siguen las recomendaciones del MB en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o hay un marco conceptual claro detrás del formu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pierde el norte, no es claro el para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Formularios - Instrumentos </a:t>
            </a: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rto y senc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enguaje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No sobrecargar a los empres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acer prueba 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ecanismos de validación y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95640" y="11970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aso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argo y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ructura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Número preguntas efectivas y respuestas posibles es inm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xcesivo detalle y desg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No son preguntas directas, se diluyen a lo largo de las diferentes o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Quiebre conceptual y metodológico con la ED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32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Arial"/>
              </a:rPr>
              <a:t>Algunos ejemplos EDI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tividades de innovación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: 32 actividades diferentes, asociadas a gasto (dos años), orientación u objetivo innovación (producto, proceso, organización, marketing) y su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Personal ocupado: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11 niveles educativos, 7 áreas de trabajo en la empresa, más la clasificación por sex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s, resultados y fuentes de ideas para la innovación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: 44 objetivos asociados a su importancia (5 calificativos), estado de avance de los resultados (9 opciones y 4 calificativos), y factores que obstaculizan el logro de objetivos (19 opcion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ciamiento de actividad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0 fuente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Tasa de respuest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formación 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Las relaciones, causalidades, y análisis complejo se establece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aso 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quizo obtener mucha  información per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Hay muchos casillas vacías (no respue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gunos datos no son confiables (e.g.invers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trata de preestablecer las conexiones entre divers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Usos de la encuesta</a:t>
            </a: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iagnósticos documentos de p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lgunos ejercicios de evaluación de instr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studios e investigaciones, análisis ecnom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1:20:48Z</dcterms:created>
  <dc:creator>Monica</dc:creator>
  <dc:description/>
  <dc:language>en-US</dc:language>
  <cp:lastModifiedBy>Monica</cp:lastModifiedBy>
  <dcterms:modified xsi:type="dcterms:W3CDTF">2009-09-17T16:49:33Z</dcterms:modified>
  <cp:revision>44</cp:revision>
  <dc:subject/>
  <dc:title>Diapositiva 1</dc:title>
</cp:coreProperties>
</file>