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C50-991F-4855-9B6B-FF522151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4E3-1A3E-4C71-A9E2-D0683709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E23-6052-4D02-A025-EC408E10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9D1-5AC0-4F31-B230-AA8E1511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A1E-B333-4DDC-BE7A-BB564AB7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88B-3CB5-4C87-A102-0063C09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F1A-FB09-489F-BC3B-BE09622B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61E-CB1B-4B8D-83AF-BDFDDB3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C83-F859-4FDF-8FDD-FCD9CA13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E3B-BC12-4748-AEE6-1CA55AFA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DCE-9BBA-412C-A6CD-00C1D90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FE3-3E51-4B01-9BF4-332B6ED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68AB-78B0-44EC-9912-119E1DF787FE}" type="slidenum">
              <a:rPr b="0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6436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INNOVATION SURVEYS: A Tool providing evidence for diagnostic and policy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999880"/>
            <a:ext cx="792000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Réjean Land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epartment of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Faculty of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Laval University, Québec, QC, Ca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Rejean.landry@mng.ulaval.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Arial"/>
              </a:rPr>
              <a:t>Notes prepared for presentation and discussion at the Workshop: « From Indicator to Instrument: The Contribution of Innovation Surveys to Public Policy Making», Montevideo Uruguay, September 17-18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What aspects of innovation do we want to increa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echnological innovation:  changes in products and  productio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Organizational innovation: changes in organizational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rketing innovation: changes in marketing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With what degree of sophistic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sence/absence of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imit of this approach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ssumption of no differences in the amount of changes or degrees of novelty of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With what degree of sophistic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lternative ways to measure degrees of novelty of innov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duct innovations commercialized as a firm first, industry first, regional first, national first, worl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duct innovation introduced onto the market before/after compet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d to defined targets for intervention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List of categories of factors increasing (decreasing) innov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Minimal lis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R&amp;D (employees, $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Employees (number, HQ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Sources of ideas and information (market, research, general; local/non local;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advanced technologies (lists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organizational practices (lists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strategic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intellectual property protection mechanisms (patents, secrecy,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government support pro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mmercialization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Sales and clients ( $, number, local/non local;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Obstacles to innov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mpetitive environ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ntrol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emples of questions on how to meas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Use of advanced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Use of organizational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Use of strategic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mpetitiv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urces: questionnaires developed by Statistics Canada and CIS questionnaires developed by EU grou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ccess: Available on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Source: Statistics Canada</a:t>
            </a:r>
            <a:br>
              <a:rPr sz="1400"/>
            </a:b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question measuring inno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201760" y="1600200"/>
            <a:ext cx="474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From CIS4</a:t>
            </a:r>
            <a:br>
              <a:rPr sz="1800"/>
            </a:b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question measuring various types of inno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90640" y="2328840"/>
            <a:ext cx="5562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Commercialization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ategic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976400" y="2173320"/>
            <a:ext cx="51912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ategic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00080" y="2373480"/>
            <a:ext cx="5343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ackground in relation to this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s of national innovation surv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unching an innovation diagno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rganizing the different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lic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naging the process from diagnostic to polic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sitive side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Advanced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70160" y="1600200"/>
            <a:ext cx="460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Organizational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78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Competitive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38160" y="1706400"/>
            <a:ext cx="5467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Qualitative diagnostic by advisory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mposition of advisory group: policy-makers, representative of industry associations, industry champions, exp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ndate: to produce an initial qualitative SWOT assessment on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output: briefing no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Questionnaire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Arial"/>
              </a:rPr>
              <a:t>Background material to 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Existing questionnaires as templates: CIS (Community innovation survey), Statistics Canada,…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The briefing notes produced by the advisory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Arial"/>
              </a:rPr>
              <a:t>Development of a questionnaire meeting the needs of the client organization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Need to have questions for benchmarking (on innovation, R&amp;D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Need to have questions adressing issues identified in the SWOT briefing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Need to have questions adressing issues identified by the client organization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Arial"/>
              </a:rPr>
              <a:t>Challenge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Too many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Questions not related to factors incresing or decreasing inno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Questionnaire admini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alitative interviews of small number of firms are not su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ed to have a  precise quantitative diagnostic able to capturing variations across firms, industries, regio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uch a goal require interviewing hundred of fi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Chevron 3"/>
          <p:cNvSpPr/>
          <p:nvPr/>
        </p:nvSpPr>
        <p:spPr>
          <a:xfrm>
            <a:off x="500040" y="1143000"/>
            <a:ext cx="8143920" cy="3643200"/>
          </a:xfrm>
          <a:custGeom>
            <a:avLst/>
            <a:gdLst>
              <a:gd name="textAreaLeft" fmla="*/ 0 w 8143920"/>
              <a:gd name="textAreaRight" fmla="*/ 8144280 w 8143920"/>
              <a:gd name="textAreaTop" fmla="*/ 0 h 3643200"/>
              <a:gd name="textAreaBottom" fmla="*/ 3643560 h 36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68" y="0"/>
                </a:lnTo>
                <a:lnTo>
                  <a:pt x="21600" y="10800"/>
                </a:lnTo>
                <a:lnTo>
                  <a:pt x="16768" y="21600"/>
                </a:lnTo>
                <a:lnTo>
                  <a:pt x="0" y="21600"/>
                </a:lnTo>
                <a:lnTo>
                  <a:pt x="4832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ZoneTexte 4"/>
          <p:cNvSpPr/>
          <p:nvPr/>
        </p:nvSpPr>
        <p:spPr>
          <a:xfrm>
            <a:off x="192888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171717"/>
                </a:solidFill>
                <a:latin typeface="Arial"/>
              </a:rPr>
              <a:t>DATA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logic of data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ata analysis organized around two basic id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Arial"/>
              </a:rPr>
              <a:t>Innovation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, especially product innovation, is considered as the dependent variable (what we want to increase) because product innovation is what firms commercial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fr-CA" sz="2800" spc="-1" strike="noStrike">
                <a:solidFill>
                  <a:srgbClr val="ffff00"/>
                </a:solidFill>
                <a:latin typeface="Arial"/>
              </a:rPr>
              <a:t>other questions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re variables (factors) contributing to increase (decrease)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duction of reports on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Innovation (types and degrees of novel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R&amp;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Sources of  ideas and information (market, research, general; local/non local;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advanced technologies (lists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organizational practices (lists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explicit strategic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intellectual property protection mechanisms (patents, secrecy,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government support pro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mmercialization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Sales and clients ( $, number, local/non local;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Obstacles to innov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mpetitive environ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Outline of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eports 1 to 11 in relation to each factor contributing to increase innov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1. propensity to innovate, degree of novelty of innov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Benchmarks ( EU innovation score boards, Statistics Canada report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Industries/clu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Size of fi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2. In order to derive recommendations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Strenghts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weake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Background in relation to this worksh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Based on regional customized innovation surveys: Produced diagnostic and action plans on innovation in 13 regions, and 3 times in one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The question adressed: how to use survey data to derive implications aiming to help firms improving their capabilities on innovation and factors increasing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Attitude of modesty: existing firms create jobs and wealth, they usually commercialize incremental, rarely radical product inno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Attitude of policy-makers: developing evidence-based policy measures helping firms to improve their innovation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Outline of report 12 on competitive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Based on questions related to competitive environment, derive recommendations  based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Thre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Regard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Innovation (types and degrees of novelt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Sources of  ideas and information (market, research, general; local/non local;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Use of advanced technologies (lists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Use of organizational practices (lists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Use of explicit strategic pract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Use of intellectual property protection mechanisms (patents, secrecy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Use of government support progra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Commercialization pract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Sales and clients ( $, number, local/non local; et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Obstacles to inno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hevron 3"/>
          <p:cNvSpPr/>
          <p:nvPr/>
        </p:nvSpPr>
        <p:spPr>
          <a:xfrm>
            <a:off x="500040" y="1143000"/>
            <a:ext cx="8143920" cy="3643200"/>
          </a:xfrm>
          <a:custGeom>
            <a:avLst/>
            <a:gdLst>
              <a:gd name="textAreaLeft" fmla="*/ 0 w 8143920"/>
              <a:gd name="textAreaRight" fmla="*/ 8144280 w 8143920"/>
              <a:gd name="textAreaTop" fmla="*/ 0 h 3643200"/>
              <a:gd name="textAreaBottom" fmla="*/ 3643560 h 36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68" y="0"/>
                </a:lnTo>
                <a:lnTo>
                  <a:pt x="21600" y="10800"/>
                </a:lnTo>
                <a:lnTo>
                  <a:pt x="16768" y="21600"/>
                </a:lnTo>
                <a:lnTo>
                  <a:pt x="0" y="21600"/>
                </a:lnTo>
                <a:lnTo>
                  <a:pt x="4832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ZoneTexte 4"/>
          <p:cNvSpPr/>
          <p:nvPr/>
        </p:nvSpPr>
        <p:spPr>
          <a:xfrm>
            <a:off x="192888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171717"/>
                </a:solidFill>
                <a:latin typeface="Arial"/>
              </a:rPr>
              <a:t>Policy develop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Development of an action plan and policy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Based on the SWOT analysis, derive implications for an action plan regarding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Innovation (types and degrees of novel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R&amp;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Sources of  ideas and information (market, research, general; local/non local;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advanced technologies (lists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organizational practices (lists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explicit strategic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intellectual property protection mechanisms (patents, secrecy,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 of government support pro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mmercialization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Sales and clients ( $, number, local/non local;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Obstacles to innov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Competitive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00"/>
                </a:solidFill>
                <a:latin typeface="Arial"/>
              </a:rPr>
              <a:t>Issues regarding the management of the process from diagnostic to policy formul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Managing the process from diagnostic to policy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In order to increase the </a:t>
            </a:r>
            <a:r>
              <a:rPr b="0" lang="fr-CA" sz="1600" spc="-1" strike="noStrike">
                <a:solidFill>
                  <a:srgbClr val="ffff00"/>
                </a:solidFill>
                <a:latin typeface="Arial"/>
              </a:rPr>
              <a:t>progressive</a:t>
            </a: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 appropriation of the diagnostic and action plan, it is useful to involve representatives of the client organization(s), advisory group and some people to be involved in policy development a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he initial qualitative assessment stage (what are the major challenges in this region, cluster, industry regarding innovation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he various versions of the diagnostic tool (the questionnai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he  various reports as they are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seful mechanisms of appropriation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Regular  meetings with the contractor (team doing the wor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Regular informal contacts between the contractor and the cli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Power Point  presentations at the different stages of the projec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 increase absorptive capacity of the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 avoid surprises (unexpected resul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 build expectations that  induce the clients to get prepared for the implementation stage of  the action plan and policy develo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Managing the implementation stage of th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ansform the advisory group into an implementati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ifferent organizations should be responsible for implementing different parts of the action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Organize focus groups with firms (by industry, cluster, region) to finetune the diagnostic and action in act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Final rema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Success conditions to insure at the different s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At the initial stage</a:t>
            </a: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: selecting a contractor without expertise in innovation studies and/or statistical diagnostics – most consulting firms prefer producing qualitative reports based on qualitative interviews and focu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During the process</a:t>
            </a: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: maintaining the involvement of members of advisory group and other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At the </a:t>
            </a: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policy development and action plan formulation stage</a:t>
            </a: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: maintaining an evidence-based approach – some participants will always claim that they know what should be done, regardless of the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At the implementation stage</a:t>
            </a: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: creating and maintaining consensus among participant organizations, focusing on actions that make cosensus and are not cos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ide benefits of such exerc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ost policy measures helping firms to improve their capabilities are not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Build policy consen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reate evidence appropriate to focus on specific factors increasing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reate opportunities for policy 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Limits of national innovation survey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xclude small firms, therefore 90% of firms of less than 20 employees outside metropolitan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scribe well countries, not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o not provide data to develop regional innovation policies helping firms to improve their innov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Launching an innovation diagno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ake off: initiative of a policy entrepreneur who succeeds convicing other policy makers that innovation needs to be fo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uccess condition: a few organizations have to be prepared to participate and contribute time and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is small group of people develops an initial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tages from diagnostic to policy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hevron 3"/>
          <p:cNvSpPr/>
          <p:nvPr/>
        </p:nvSpPr>
        <p:spPr>
          <a:xfrm>
            <a:off x="0" y="1643040"/>
            <a:ext cx="3500280" cy="2357640"/>
          </a:xfrm>
          <a:custGeom>
            <a:avLst/>
            <a:gdLst>
              <a:gd name="textAreaLeft" fmla="*/ 0 w 3500280"/>
              <a:gd name="textAreaRight" fmla="*/ 3500640 w 3500280"/>
              <a:gd name="textAreaTop" fmla="*/ 0 h 2357640"/>
              <a:gd name="textAreaBottom" fmla="*/ 235800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27" y="0"/>
                </a:lnTo>
                <a:lnTo>
                  <a:pt x="21600" y="10800"/>
                </a:lnTo>
                <a:lnTo>
                  <a:pt x="14327" y="21600"/>
                </a:lnTo>
                <a:lnTo>
                  <a:pt x="0" y="21600"/>
                </a:lnTo>
                <a:lnTo>
                  <a:pt x="7273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hevron 4"/>
          <p:cNvSpPr/>
          <p:nvPr/>
        </p:nvSpPr>
        <p:spPr>
          <a:xfrm>
            <a:off x="2428920" y="1643040"/>
            <a:ext cx="3786120" cy="2357640"/>
          </a:xfrm>
          <a:custGeom>
            <a:avLst/>
            <a:gdLst>
              <a:gd name="textAreaLeft" fmla="*/ 0 w 3786120"/>
              <a:gd name="textAreaRight" fmla="*/ 3786480 w 3786120"/>
              <a:gd name="textAreaTop" fmla="*/ 0 h 2357640"/>
              <a:gd name="textAreaBottom" fmla="*/ 235800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75" y="0"/>
                </a:lnTo>
                <a:lnTo>
                  <a:pt x="21600" y="10800"/>
                </a:lnTo>
                <a:lnTo>
                  <a:pt x="14875" y="21600"/>
                </a:lnTo>
                <a:lnTo>
                  <a:pt x="0" y="21600"/>
                </a:lnTo>
                <a:lnTo>
                  <a:pt x="6725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171717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hevron 5"/>
          <p:cNvSpPr/>
          <p:nvPr/>
        </p:nvSpPr>
        <p:spPr>
          <a:xfrm>
            <a:off x="5143680" y="1643040"/>
            <a:ext cx="3857400" cy="2357640"/>
          </a:xfrm>
          <a:custGeom>
            <a:avLst/>
            <a:gdLst>
              <a:gd name="textAreaLeft" fmla="*/ 0 w 3857400"/>
              <a:gd name="textAreaRight" fmla="*/ 3857760 w 3857400"/>
              <a:gd name="textAreaTop" fmla="*/ 0 h 2357640"/>
              <a:gd name="textAreaBottom" fmla="*/ 235800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00" y="0"/>
                </a:lnTo>
                <a:lnTo>
                  <a:pt x="21600" y="10800"/>
                </a:lnTo>
                <a:lnTo>
                  <a:pt x="15000" y="21600"/>
                </a:lnTo>
                <a:lnTo>
                  <a:pt x="0" y="21600"/>
                </a:lnTo>
                <a:lnTo>
                  <a:pt x="66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171717"/>
                </a:solidFill>
                <a:latin typeface="Arial"/>
              </a:rPr>
              <a:t>Polic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1143000" y="2286000"/>
            <a:ext cx="185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171717"/>
                </a:solidFill>
                <a:latin typeface="Arial"/>
              </a:rPr>
              <a:t>Data collect</a:t>
            </a:r>
            <a:r>
              <a:rPr b="1" lang="fr-CA" sz="2800" spc="-1" strike="noStrike">
                <a:solidFill>
                  <a:srgbClr val="171717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hevron 3"/>
          <p:cNvSpPr/>
          <p:nvPr/>
        </p:nvSpPr>
        <p:spPr>
          <a:xfrm>
            <a:off x="500040" y="1143000"/>
            <a:ext cx="8143920" cy="3643200"/>
          </a:xfrm>
          <a:custGeom>
            <a:avLst/>
            <a:gdLst>
              <a:gd name="textAreaLeft" fmla="*/ 0 w 8143920"/>
              <a:gd name="textAreaRight" fmla="*/ 8144280 w 8143920"/>
              <a:gd name="textAreaTop" fmla="*/ 0 h 3643200"/>
              <a:gd name="textAreaBottom" fmla="*/ 3643560 h 36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68" y="0"/>
                </a:lnTo>
                <a:lnTo>
                  <a:pt x="21600" y="10800"/>
                </a:lnTo>
                <a:lnTo>
                  <a:pt x="16768" y="21600"/>
                </a:lnTo>
                <a:lnTo>
                  <a:pt x="0" y="21600"/>
                </a:lnTo>
                <a:lnTo>
                  <a:pt x="4832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ZoneTexte 4"/>
          <p:cNvSpPr/>
          <p:nvPr/>
        </p:nvSpPr>
        <p:spPr>
          <a:xfrm>
            <a:off x="192888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171717"/>
                </a:solidFill>
                <a:latin typeface="Arial"/>
              </a:rPr>
              <a:t>DATA COLL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asks to be accomplished at the data collection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view of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termination of aspects of innovation we want to increase and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ist of factors increasing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ormation of an advisory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stionnair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view of evidence on inno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Need</a:t>
            </a: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Collect information on how to meas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Innovat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Factors increasing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How to find this infor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Reviews of empirical studies on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ECHEIKH, N., Landry, R. and Amara, N., 2006. « Lessons from Innovation Empirical Studies in the Manufacturing Sector: A Systematic Review of the Literature from 1993-2003 », </a:t>
            </a:r>
            <a:r>
              <a:rPr b="0" i="1" lang="en-CA" sz="1800" spc="-1" strike="noStrike">
                <a:solidFill>
                  <a:srgbClr val="ffffff"/>
                </a:solidFill>
                <a:latin typeface="Arial"/>
              </a:rPr>
              <a:t>Technovation,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26 (5-6): 644-6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ffff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List of ways of measure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List of factors increasing (or decreasing)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5:32:39Z</dcterms:created>
  <dc:creator>KUUC</dc:creator>
  <dc:description/>
  <dc:language>en-US</dc:language>
  <cp:lastModifiedBy>ANII</cp:lastModifiedBy>
  <dcterms:modified xsi:type="dcterms:W3CDTF">2009-09-18T18:25:38Z</dcterms:modified>
  <cp:revision>66</cp:revision>
  <dc:subject/>
  <dc:title>Diapositive 1</dc:title>
</cp:coreProperties>
</file>