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7CE0-B11A-43E8-A733-D7E16A9BE8E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BD93-3441-431C-A520-7E8D76B8C60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BDB6-8296-4964-987A-003D411087A7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C8F0-85DC-4A23-B6EB-CD33A16F6B2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4724-A4FF-4C76-B066-A3F55509776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0EDE-ED18-4A13-9AAF-D8AD22CDE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1209600" y="693720"/>
            <a:ext cx="44370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4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19B3-C735-4542-97FB-8B9B3A53929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B139-0ACA-40A1-991B-C4A81A4D1E1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DA1B-21EA-4A76-A010-E10E8880E4D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C0D1-7DB9-429B-8A4D-BF7AD0FB7EB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C94F-679A-498C-AE99-96CC2BCA505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F784-59A6-480B-A445-254B1B3CF5E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DF0A-4F45-484F-A9C6-100493B5BEC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8844-E31A-4289-A944-51A33D6CB44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CDF9-8CC4-4C31-B34A-34C2C33DBDC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CFD3-688A-4A8B-9C7A-169BB599373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333F-1F92-44FE-BD49-1EA0991D590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29A9-76CC-4253-A6C8-5529B48F4D4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7B40-953D-40E5-AD46-78AF470C599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o se presenta el cierre con 100% porque las preguntas son de selección múltiple, por lo que pudieron escoger uno o más alternativas, los datos deben leerse como porcentaje con respecto al total de empresas, o sea, un 93,6% indicó haber realizado innovaciones de cualquier tipo.  Un 75,% indicó haber tenido innovaciones en productos o servicios, un 65% en procesos…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A79F-D6BA-47EF-A348-02ADB8F7F5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495-549B-4398-BC5B-9E52F023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6CE-F431-4205-89DF-4A8FA9E9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DA3-187C-4144-8660-DB5CB1CE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842-5E46-4F10-8F56-0522EFE5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FAF-BC12-4E6E-A983-FAFB3D6C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69E-8DAF-4868-A2BB-FFCEDE4A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4C4-B6D7-4454-A198-B76EC8D6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0D9-475A-4C73-A144-38E48DD0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EDE-4ED5-4BC6-92B0-806708D1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841-B9B0-49F8-9DB4-65917EBF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F3F-E72F-47D0-85CF-54899C89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683-C9D2-4669-A57C-A24D4EC1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2485-6504-41FC-8467-6357AA475757}" type="slidenum">
              <a:rPr b="0" lang="es-C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Calibri"/>
              </a:rPr>
              <a:t>Indicadores de ciencia, tecnología e innovación en Costa Rica:</a:t>
            </a:r>
            <a:br>
              <a:rPr sz="4000"/>
            </a:br>
            <a:r>
              <a:rPr b="0" lang="es-CR" sz="4000" spc="-1" strike="noStrike">
                <a:solidFill>
                  <a:srgbClr val="000000"/>
                </a:solidFill>
                <a:latin typeface="Calibri"/>
              </a:rPr>
              <a:t>lecciones desde la encuesta nacional de innov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3200" spc="-1" strike="noStrike">
                <a:solidFill>
                  <a:srgbClr val="898989"/>
                </a:solidFill>
                <a:latin typeface="Calibri"/>
              </a:rPr>
              <a:t>Jeffrey Orozco 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3200" spc="-1" strike="noStrike">
                <a:solidFill>
                  <a:srgbClr val="898989"/>
                </a:solidFill>
                <a:latin typeface="Calibri"/>
              </a:rPr>
              <a:t>Keynor Rui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3200" spc="-1" strike="noStrike">
                <a:solidFill>
                  <a:srgbClr val="898989"/>
                </a:solidFill>
                <a:latin typeface="Calibri"/>
              </a:rPr>
              <a:t>CINPE-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Un resultado interesante:</a:t>
            </a:r>
            <a:br>
              <a:rPr sz="2800"/>
            </a:b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Carácter incremental de la innovación en Costa 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Calibri"/>
              </a:rPr>
              <a:t>Dirigidas a cambios menores en los procesos productivos, en los productos o en los mecanismos de comercializ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Calibri"/>
              </a:rPr>
              <a:t>No se trata de productos o procesos con cambios radic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Calibri"/>
              </a:rPr>
              <a:t>I+D es baja y concentrada en sector académic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Calibri"/>
              </a:rPr>
              <a:t>Eso nos lleva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Calibri"/>
              </a:rPr>
              <a:t>Necesidad de entender mejor las dinámicas de innovación de las empresas: ¿cómo se organizan, como enfrentan las barrera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357200" y="1071720"/>
          <a:ext cx="6215040" cy="5072040"/>
        </p:xfrm>
        <a:graphic>
          <a:graphicData uri="http://schemas.openxmlformats.org/drawingml/2006/table">
            <a:tbl>
              <a:tblPr/>
              <a:tblGrid>
                <a:gridCol w="274680"/>
                <a:gridCol w="2400480"/>
                <a:gridCol w="1770120"/>
                <a:gridCol w="1769760"/>
              </a:tblGrid>
              <a:tr h="577800">
                <a:tc gridSpan="4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nov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01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eron novedosos pa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 rowSpan="4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r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ado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ado Inter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5440"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Nuevos indicadores en la segunda ronda de la encue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Modulo de empleo y organización del proceso de traba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ecanismos de participación de los trabaj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Forma de organización de la empre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rogramas de modernización organiz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Objetivos del cambio organiz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Financiamiento de actividades de innov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cceso a fondos exist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Innovación y desempeño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Requerimientos tecnológicos para el desempeño de la empre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equerimi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ambios realiz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457200" y="1071720"/>
            <a:ext cx="822636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7360" indent="-293760">
              <a:lnSpc>
                <a:spcPct val="100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03160"/>
                <a:tab algn="l" pos="1217520"/>
                <a:tab algn="l" pos="1631880"/>
                <a:tab algn="l" pos="2046240"/>
                <a:tab algn="l" pos="2462040"/>
                <a:tab algn="l" pos="2876400"/>
                <a:tab algn="l" pos="3290760"/>
                <a:tab algn="l" pos="3705120"/>
                <a:tab algn="l" pos="4121280"/>
                <a:tab algn="l" pos="4535640"/>
                <a:tab algn="l" pos="4950000"/>
                <a:tab algn="l" pos="5364000"/>
                <a:tab algn="l" pos="5780160"/>
                <a:tab algn="l" pos="6194520"/>
                <a:tab algn="l" pos="6608880"/>
                <a:tab algn="l" pos="7023240"/>
                <a:tab algn="l" pos="7439040"/>
                <a:tab algn="l" pos="7853400"/>
                <a:tab algn="l" pos="8267760"/>
                <a:tab algn="l" pos="868212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Se redujo la cantidad de preguntas relacionadas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03160"/>
                <a:tab algn="l" pos="1217520"/>
                <a:tab algn="l" pos="1631880"/>
                <a:tab algn="l" pos="2046240"/>
                <a:tab algn="l" pos="2462040"/>
                <a:tab algn="l" pos="2876400"/>
                <a:tab algn="l" pos="3290760"/>
                <a:tab algn="l" pos="3705120"/>
                <a:tab algn="l" pos="4121280"/>
                <a:tab algn="l" pos="4535640"/>
                <a:tab algn="l" pos="4950000"/>
                <a:tab algn="l" pos="5364000"/>
                <a:tab algn="l" pos="5780160"/>
                <a:tab algn="l" pos="6194520"/>
                <a:tab algn="l" pos="6608880"/>
                <a:tab algn="l" pos="7023240"/>
                <a:tab algn="l" pos="7439040"/>
                <a:tab algn="l" pos="7853400"/>
                <a:tab algn="l" pos="8267760"/>
                <a:tab algn="l" pos="868212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Innovaciones logr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03160"/>
                <a:tab algn="l" pos="1217520"/>
                <a:tab algn="l" pos="1631880"/>
                <a:tab algn="l" pos="2046240"/>
                <a:tab algn="l" pos="2462040"/>
                <a:tab algn="l" pos="2876400"/>
                <a:tab algn="l" pos="3290760"/>
                <a:tab algn="l" pos="3705120"/>
                <a:tab algn="l" pos="4121280"/>
                <a:tab algn="l" pos="4535640"/>
                <a:tab algn="l" pos="4950000"/>
                <a:tab algn="l" pos="5364000"/>
                <a:tab algn="l" pos="5780160"/>
                <a:tab algn="l" pos="6194520"/>
                <a:tab algn="l" pos="6608880"/>
                <a:tab algn="l" pos="7023240"/>
                <a:tab algn="l" pos="7439040"/>
                <a:tab algn="l" pos="7853400"/>
                <a:tab algn="l" pos="8267760"/>
                <a:tab algn="l" pos="868212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Relaciones con el Sistema Nacional de Innov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93680">
              <a:lnSpc>
                <a:spcPct val="100000"/>
              </a:lnSpc>
              <a:spcAft>
                <a:spcPts val="77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03160"/>
                <a:tab algn="l" pos="1217520"/>
                <a:tab algn="l" pos="1631880"/>
                <a:tab algn="l" pos="2046240"/>
                <a:tab algn="l" pos="2462040"/>
                <a:tab algn="l" pos="2876400"/>
                <a:tab algn="l" pos="3290760"/>
                <a:tab algn="l" pos="3705120"/>
                <a:tab algn="l" pos="4121280"/>
                <a:tab algn="l" pos="4535640"/>
                <a:tab algn="l" pos="4950000"/>
                <a:tab algn="l" pos="5364000"/>
                <a:tab algn="l" pos="5780160"/>
                <a:tab algn="l" pos="6194520"/>
                <a:tab algn="l" pos="6608880"/>
                <a:tab algn="l" pos="7023240"/>
                <a:tab algn="l" pos="7439040"/>
                <a:tab algn="l" pos="7853400"/>
                <a:tab algn="l" pos="8267760"/>
                <a:tab algn="l" pos="868212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Relaciones con Universidades y C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100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03160"/>
                <a:tab algn="l" pos="1217520"/>
                <a:tab algn="l" pos="1631880"/>
                <a:tab algn="l" pos="2046240"/>
                <a:tab algn="l" pos="2462040"/>
                <a:tab algn="l" pos="2876400"/>
                <a:tab algn="l" pos="3290760"/>
                <a:tab algn="l" pos="3705120"/>
                <a:tab algn="l" pos="4121280"/>
                <a:tab algn="l" pos="4535640"/>
                <a:tab algn="l" pos="4950000"/>
                <a:tab algn="l" pos="5364000"/>
                <a:tab algn="l" pos="5780160"/>
                <a:tab algn="l" pos="6194520"/>
                <a:tab algn="l" pos="6608880"/>
                <a:tab algn="l" pos="7023240"/>
                <a:tab algn="l" pos="7439040"/>
                <a:tab algn="l" pos="7853400"/>
                <a:tab algn="l" pos="8267760"/>
                <a:tab algn="l" pos="868212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Se mejoró el módulo sobre TIC´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03160"/>
                <a:tab algn="l" pos="1217520"/>
                <a:tab algn="l" pos="1631880"/>
                <a:tab algn="l" pos="2046240"/>
                <a:tab algn="l" pos="2462040"/>
                <a:tab algn="l" pos="2876400"/>
                <a:tab algn="l" pos="3290760"/>
                <a:tab algn="l" pos="3705120"/>
                <a:tab algn="l" pos="4121280"/>
                <a:tab algn="l" pos="4535640"/>
                <a:tab algn="l" pos="4950000"/>
                <a:tab algn="l" pos="5364000"/>
                <a:tab algn="l" pos="5780160"/>
                <a:tab algn="l" pos="6194520"/>
                <a:tab algn="l" pos="6608880"/>
                <a:tab algn="l" pos="7023240"/>
                <a:tab algn="l" pos="7439040"/>
                <a:tab algn="l" pos="7853400"/>
                <a:tab algn="l" pos="8267760"/>
                <a:tab algn="l" pos="868212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03160"/>
                <a:tab algn="l" pos="1217520"/>
                <a:tab algn="l" pos="1631880"/>
                <a:tab algn="l" pos="2046240"/>
                <a:tab algn="l" pos="2462040"/>
                <a:tab algn="l" pos="2876400"/>
                <a:tab algn="l" pos="3290760"/>
                <a:tab algn="l" pos="3705120"/>
                <a:tab algn="l" pos="4121280"/>
                <a:tab algn="l" pos="4535640"/>
                <a:tab algn="l" pos="4950000"/>
                <a:tab algn="l" pos="5364000"/>
                <a:tab algn="l" pos="5780160"/>
                <a:tab algn="l" pos="6194520"/>
                <a:tab algn="l" pos="6608880"/>
                <a:tab algn="l" pos="7023240"/>
                <a:tab algn="l" pos="7439040"/>
                <a:tab algn="l" pos="7853400"/>
                <a:tab algn="l" pos="8267760"/>
                <a:tab algn="l" pos="868212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Voz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03160"/>
                <a:tab algn="l" pos="1217520"/>
                <a:tab algn="l" pos="1631880"/>
                <a:tab algn="l" pos="2046240"/>
                <a:tab algn="l" pos="2462040"/>
                <a:tab algn="l" pos="2876400"/>
                <a:tab algn="l" pos="3290760"/>
                <a:tab algn="l" pos="3705120"/>
                <a:tab algn="l" pos="4121280"/>
                <a:tab algn="l" pos="4535640"/>
                <a:tab algn="l" pos="4950000"/>
                <a:tab algn="l" pos="5364000"/>
                <a:tab algn="l" pos="5780160"/>
                <a:tab algn="l" pos="6194520"/>
                <a:tab algn="l" pos="6608880"/>
                <a:tab algn="l" pos="7023240"/>
                <a:tab algn="l" pos="7439040"/>
                <a:tab algn="l" pos="7853400"/>
                <a:tab algn="l" pos="8267760"/>
                <a:tab algn="l" pos="868212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Reclutamiento y capa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Cambios realiz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8400" y="999720"/>
            <a:ext cx="82580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Nuevo módul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01) Cuál afirmación define mejor la responsabilidad sobre asuntos laborales en esta empresa (RU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Existe una unidad de recursos humanos conformada por más de una perso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30000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Una persona a tiempo completo es la responsable de los asuntos de recursos huma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30000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Los asuntos de recursos humanos son atendidos en parte de su tiempo por una persona que no es el dueño o ger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30000">
                <a:solidFill>
                  <a:srgbClr val="000000"/>
                </a:solidFill>
                <a:latin typeface="Calibri"/>
              </a:rPr>
              <a:t> </a:t>
            </a:r>
            <a:r>
              <a:rPr b="1" lang="es-C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Los asuntos de recursos humanos son responsabilidad de una persona o unidad en otro lugar de traba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30000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Los asuntos de recursos humanos son atendidos en la empresa como van surgiendo (no hay una persona asignad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30000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Otro 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nuevo módul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402) Qué mecanismos de participación y cooperación de los trabajadores ha implementado la empresa en los procesos de toma de decision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01. Participación de trabajadores en las reuniones de gestión de la empre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02. Grupos de proyectos con la participación de la administración y trabaj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03. Reuniones regulares con trabajadores sobre asuntos que les conciernen directam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04. Consultas </a:t>
            </a: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d-hoc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a los trabaj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05. Programas de atención de sugerencias de los trabaj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6. Ninguno (pase 40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7. Otro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8. Otro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nuevo módu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56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03) La operacionalización de la participación y cooperación entre la administración y los trabajadores de la empresa ha ocurrido por iniciativa o interés d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1. Los Trabajadores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2. La Gerencia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3.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os Dueño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4. Influencia externa ___________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5. Otros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04) En el caso de nuevos procesos o nuevos productos, a partir de qué fase se involucran los trabajadore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.  Fase de la Idea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2.  Fase de Decisión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3. Fase de Planeación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4. Fase de Ejecu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501) ¿Es la capacitación de los trabajadores parte de la estrategia de esta empres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i ____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No 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502) Cuál fue el comportamiento de la inversión en capacitación del 2008, respecto al 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umentó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) Igual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) Disminuy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503) ¿Cuál ha sido la principal modalidad de las capacitacione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) Teóricas ______%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) Prácticas _____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eccion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quilibrio entre comparabilidad y utilida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s conveniente desarrollar módulos pensados para estudios específicos y para el diseño de polític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ombinar con estudios de ca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s necesario hacer estudios en otros secto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pensar las preguntas sobre resultados de innova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Hacia el análisis de las innovaciones instituciona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Analizar el tema de barreras en todas las empresas, no solo las que no innova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studiar má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lación innovación con desarroll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Desempeño ambi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ontribución al desarrollo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ontribución al desarrollo lo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Impactos en la distribución del in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s encuestas de innovación no lo pueden medir todo… pero pueden incorporar módulos úti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 puede partir de un módulo básico y de módulos “especiales” que varí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apel de RICYT para promover comparabilidad de los indicadores generados, incluyendo los módulos espe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Uso de la base de da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¿Como promover acces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¿Como garantizar confidencialidad para que las empresas sigan aportando la informac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71760" y="214200"/>
            <a:ext cx="60004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roces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Surge para cubrir una necesidad de indicadores oficiales que permitan el diseño de polít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Se conforma por decreto comisión nacional de indicadores en que participan los principales actores relevan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MICIT, INEC, BCCR, Cámaras empresariales, sector acadé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Se avanza de preocupación por medir I+D a la de medir un mayor número de indicado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Que se m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Información básica de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Desempeño económico de las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mpleo y organización del proceso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Actividades de innov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Innovaciones log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Factores que obstaculizan la innov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Fuerza de trabajo relacionada con la innov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Fuentes de información para la innov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Financiamiento de las actividades de innov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Investigación y desarrol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Relaciones con el sistema de innov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alibri"/>
              </a:rPr>
              <a:t>Relaciones con universidades y centros públicos de investig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Dificultad de interpretar algunos indica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¿Qué dice realmente el indicador de I+D como porcentaje del PIB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ecesidad de combinarlos con o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¿Qué dice el indicador de empresas innovador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 necesario repensar el enfoque para estudiar dinámicas y resultados de innov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Sobre indicador de I+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n CR el indicador es bajo respecto a AL, pero es mayo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Número de graduados universitarios por mil habitan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Número de profesion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s necesario desglozar el indicador para entender la composición de la I+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ct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Tamaños de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Nacionalidad del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14280" y="1068480"/>
          <a:ext cx="6858000" cy="5432400"/>
        </p:xfrm>
        <a:graphic>
          <a:graphicData uri="http://schemas.openxmlformats.org/drawingml/2006/table">
            <a:tbl>
              <a:tblPr/>
              <a:tblGrid>
                <a:gridCol w="74880"/>
                <a:gridCol w="5240160"/>
                <a:gridCol w="1542960"/>
              </a:tblGrid>
              <a:tr h="6476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os en I+D reportados según rang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 rowSpan="7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reporta gastos en I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ta $1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$10001 a $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$50001 a $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$100001 a $50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 de $50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6680"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2 CuadroTexto"/>
          <p:cNvSpPr/>
          <p:nvPr/>
        </p:nvSpPr>
        <p:spPr>
          <a:xfrm>
            <a:off x="867240" y="500040"/>
            <a:ext cx="77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¿Estrategias para aumentar I+D… o estrategias de desarrol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Hacia políticas en materia de I+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nsiderar la naturaleza de la mayor parte de las empresas en el paí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scatar esquemas que privilegien no solo el volumen, sino también el impacto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76092"/>
                </a:solidFill>
                <a:latin typeface="Calibri"/>
              </a:rPr>
              <a:t>¿Qué dicen los indicadores?</a:t>
            </a:r>
            <a:br>
              <a:rPr sz="2500"/>
            </a:br>
            <a:r>
              <a:rPr b="1" lang="es-ES" sz="2500" spc="-1" strike="noStrike">
                <a:solidFill>
                  <a:srgbClr val="376092"/>
                </a:solidFill>
                <a:latin typeface="Calibri"/>
              </a:rPr>
              <a:t>Porcentaje de empresas que innovaron, </a:t>
            </a:r>
            <a:br>
              <a:rPr sz="2500"/>
            </a:br>
            <a:r>
              <a:rPr b="1" lang="es-ES" sz="2500" spc="-1" strike="noStrike">
                <a:solidFill>
                  <a:srgbClr val="376092"/>
                </a:solidFill>
                <a:latin typeface="Calibri"/>
              </a:rPr>
              <a:t>según tipo de Innov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71720" y="1500120"/>
          <a:ext cx="7358040" cy="5214960"/>
        </p:xfrm>
        <a:graphic>
          <a:graphicData uri="http://schemas.openxmlformats.org/drawingml/2006/table">
            <a:tbl>
              <a:tblPr/>
              <a:tblGrid>
                <a:gridCol w="2000160"/>
                <a:gridCol w="3500280"/>
                <a:gridCol w="1857600"/>
              </a:tblGrid>
              <a:tr h="812880">
                <a:tc>
                  <a:txBody>
                    <a:bodyPr lIns="68760" rIns="687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po de innova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rcenta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9080">
                <a:tc>
                  <a:txBody>
                    <a:bodyPr lIns="68760" rIns="687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alquier tipo de innov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3,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 rowSpan="2">
                  <a:txBody>
                    <a:bodyPr lIns="68760" rIns="687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nológ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novación de producto/ servic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5,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novación de proces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5,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400">
                <a:tc rowSpan="2">
                  <a:txBody>
                    <a:bodyPr lIns="68760" rIns="687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tecnológ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novación organizacion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6,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novación en comercializ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,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21:16:56Z</dcterms:created>
  <dc:creator>Jeffrey</dc:creator>
  <dc:description/>
  <dc:language>en-US</dc:language>
  <cp:lastModifiedBy>ANII</cp:lastModifiedBy>
  <dcterms:modified xsi:type="dcterms:W3CDTF">2009-09-17T18:51:15Z</dcterms:modified>
  <cp:revision>49</cp:revision>
  <dc:subject/>
  <dc:title>Indicadores de ciencia, tecnología e innovación en Costa Rica: lecciones para el desarrollo</dc:title>
</cp:coreProperties>
</file>