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D6F-B7D7-4215-8E35-09544191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013-506B-4821-9C26-91998DEE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532-CC5C-479E-9024-BA3833A2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A3D-2D44-4ED2-B3C7-A79A4234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241-B3A4-4A9F-B7E5-9B2EFAC6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952-7FD7-4388-85BF-0F5E80EB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BCC-2EF1-400B-BCAC-BEC4D1B4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FDE-2F23-409B-903D-8A68886D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6E9-92FA-418C-8B9A-910C947D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B15-D74F-403C-A5AE-1F79CD98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847-261C-48E0-8B87-E57247EE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E24-0104-4E7A-84C4-A51150B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E952-17EA-48FE-9204-AC6900E65FD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0120"/>
            <a:ext cx="81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b7e7ff"/>
                </a:solidFill>
                <a:latin typeface="Arial"/>
              </a:rPr>
              <a:t>Relatoría Panel </a:t>
            </a:r>
            <a:br>
              <a:rPr sz="4000"/>
            </a:br>
            <a:r>
              <a:rPr b="0" lang="es-CO" sz="4000" spc="-1" strike="noStrike">
                <a:solidFill>
                  <a:srgbClr val="b7e7ff"/>
                </a:solidFill>
                <a:latin typeface="Arial"/>
              </a:rPr>
              <a:t>“La medición de la innovación en América Latina hoy”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Mónica Salaz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OCy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d4d4d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Inquietudes de cada pane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Hacia la definición de una agenda común de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Marco concep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bordaje otros sectores, nuevos 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Metodología, procedimientos, formul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Siguiente pa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4d4d4d"/>
                </a:solidFill>
                <a:latin typeface="Arial"/>
              </a:rPr>
              <a:t>Inquietudes planteadas por los panelist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Ser realistas en lo que se quiere abarcar: relevancia y pertin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Explicitar la definición de innovación, y el modelo detrás de este concepto (no lineal, Schumpeter, market pull, technology push, chain-linked, sistém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Innovación mucho más que I&amp;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Comparabilidad vs origin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Comparabilidad vs ut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¿Cuál es la teoría detrás de las mediciones de innovación en 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¿Cómo incrementar el impacto en la política públ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b7e7ff"/>
                </a:solidFill>
                <a:latin typeface="Arial"/>
              </a:rPr>
              <a:t>Hacia la definición de una agenda de trabaj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2997000"/>
            <a:ext cx="82072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¿Encuestas para quién y para qu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Caracterización procesos de innov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Apoyo procesos formulación y evaluación de pol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Comparación internacional –benchma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Priorizar los stakeholders y las demandas de 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d4d4d"/>
                </a:solidFill>
                <a:latin typeface="Arial"/>
              </a:rPr>
              <a:t>Lo teórico, lo conceptu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¿Qué queremos/necesitamos medir?: resultados, esfuerzos, capacidades, actitu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¿Qué es innovación? Aceptación definición 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Foco: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Desarrollar un marco teórico que caracterice innovación en 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Importancia del entorno/sociedad: entender nuestros sistemas de CTI, identificar obstá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d4d4d"/>
                </a:solidFill>
                <a:latin typeface="Arial"/>
              </a:rPr>
              <a:t>Lo temátic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Arial"/>
              </a:rPr>
              <a:t>Avanzar en la medición de otros sectores: primero mediante la realización de estudios de caso para entender mejor como son los determinantes, las dinámicas de innovación en otros sect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Arial"/>
              </a:rPr>
              <a:t>Seguir explorando las especificidades de A.L.: novedad, mercados, formas de innovar (el cómo, los proces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Arial"/>
              </a:rPr>
              <a:t>Desarrollar los análisis e indicadores sobre capacidades de innovació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Arial"/>
              </a:rPr>
              <a:t>Caracterización de los recursos humanos para la innovación, no solo como medida de esfuerzo, sino también alrededor de gestión de conocimiento, y prácticas de administración de R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Arial"/>
              </a:rPr>
              <a:t>Explorar otros tipos de innovaciones no orientadas al mercado: social, institucional, de supervivencia, informal…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800" spc="-1" strike="noStrike">
                <a:solidFill>
                  <a:srgbClr val="17375e"/>
                </a:solidFill>
                <a:latin typeface="Arial"/>
              </a:rPr>
              <a:t>Lo metodológico</a:t>
            </a:r>
            <a:endParaRPr b="0" lang="en-US" sz="3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Más grandes desafíos para estandarizar  formularios y proced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Cantidad de información vs confiabilidad y c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Encuestas es solo un medio para recabar información sobre innovación: se deben realizar otro tipo de estu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Establecer mecanismos para integrar data de las encuestas de innovación con otras encue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Alineación con el marco conceptual y las prioridades paí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Si queremos mejorar la comparabilidad entre los países de la región, necesitamos de un formulario único en la reg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d4d4d"/>
                </a:solidFill>
                <a:latin typeface="Arial"/>
              </a:rPr>
              <a:t>Difusión, análi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Mejorar la entrega a tiempo y la difusión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Hacer análisis que alimenten las políticas (CTI, industrial, social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d4d4d"/>
                </a:solidFill>
                <a:latin typeface="Arial"/>
              </a:rPr>
              <a:t>Siguiente pas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Búsqueda de recursos para financiar la iniciativ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Realización de talleres específicos con cada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Estadís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Analistas, académ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Empresarios, productores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Conformación de grupos de trabajo para atender cada una de las áreas de trabajo identific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Realización de talleres para discutir avances de los gru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7:50:09Z</dcterms:created>
  <dc:creator>Monica</dc:creator>
  <dc:description/>
  <dc:language>en-US</dc:language>
  <cp:lastModifiedBy>ANII</cp:lastModifiedBy>
  <dcterms:modified xsi:type="dcterms:W3CDTF">2009-09-18T21:18:38Z</dcterms:modified>
  <cp:revision>60</cp:revision>
  <dc:subject/>
  <dc:title>Relatoría Panel “La medición de la innovación en América Latina hoy”</dc:title>
</cp:coreProperties>
</file>