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0E9D5-6B90-4EDA-936E-5A09BB11D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B7114-14D2-4414-B745-D1C92C5D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C56F6-B952-46DF-844A-6C5A01644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FDE6A-0794-49BD-8734-5811FEB33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483D4-AF06-4D3F-8537-6B8B156B1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3D391-D18C-4756-BB09-5B0D325F2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B72B-7DE3-4676-9C99-50EAE8587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A6A5F-D2C5-46E5-AA71-C2CF73632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C28D6-E055-4377-A691-ABEE6BA7B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78899-90B7-4A6D-939E-1F37259D0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15D74-7178-4358-A56D-C18CD61F9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2113-927E-4808-8146-387C60647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225A4-B0B9-47D1-9864-AE40C0B46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1F2E-EE86-4102-BEA9-A13F6F07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9E435-7C37-44B8-93CF-6652DCFA9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7968C-2FEE-4917-A9FD-122CE5551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41B62-0353-46BA-9728-FCA4738C0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2A7D7-0831-4CFB-9BBC-FA2EBB41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F37E6-9A6F-4337-8C0B-A912BEDE0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93CBC-1ED5-4073-BC46-3027D846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6B49-CE72-482D-9A71-F61A41D3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D54FF-E4A7-42F7-944A-781055AD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C825-17AE-4807-8953-DB4F5A7D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23DF6-079D-4E4B-AECA-CAE90EC30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ahoma"/>
              </a:rPr>
              <a:t>Click to edit the title text format</a:t>
            </a:r>
            <a:endParaRPr b="1" lang="en-US" sz="2800" spc="-1" strike="noStrike">
              <a:solidFill>
                <a:srgbClr val="ffcc66"/>
              </a:solidFill>
              <a:latin typeface="Tahoma"/>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A356-0D73-41E2-9B2B-A571324D0C6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ahoma"/>
              </a:rPr>
              <a:t>Click to edit the title text format</a:t>
            </a:r>
            <a:endParaRPr b="1" lang="en-US" sz="2800" spc="-1" strike="noStrike">
              <a:solidFill>
                <a:srgbClr val="ffcc66"/>
              </a:solidFill>
              <a:latin typeface="Tahoma"/>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E282-F1D1-428E-BC6F-49D8D44A214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15640" y="-27360"/>
            <a:ext cx="67690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NSTITUTO NACIONAL DE TECNOLOGIA AGROPECUARIA</a:t>
            </a:r>
            <a:endParaRPr b="1" lang="en-US" sz="1800" spc="-1" strike="noStrike">
              <a:solidFill>
                <a:srgbClr val="ffcc66"/>
              </a:solidFill>
              <a:latin typeface="Tahoma"/>
            </a:endParaRPr>
          </a:p>
        </p:txBody>
      </p:sp>
      <p:pic>
        <p:nvPicPr>
          <p:cNvPr id="88" name="" descr=""/>
          <p:cNvPicPr/>
          <p:nvPr/>
        </p:nvPicPr>
        <p:blipFill>
          <a:blip r:embed="rId1"/>
          <a:stretch/>
        </p:blipFill>
        <p:spPr>
          <a:xfrm>
            <a:off x="7985160" y="60480"/>
            <a:ext cx="930240" cy="930240"/>
          </a:xfrm>
          <a:prstGeom prst="rect">
            <a:avLst/>
          </a:prstGeom>
          <a:ln w="0">
            <a:noFill/>
          </a:ln>
        </p:spPr>
      </p:pic>
      <p:sp>
        <p:nvSpPr>
          <p:cNvPr id="89" name=""/>
          <p:cNvSpPr/>
          <p:nvPr/>
        </p:nvSpPr>
        <p:spPr>
          <a:xfrm>
            <a:off x="108000" y="2421000"/>
            <a:ext cx="8820000" cy="2303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La innovación en la trama vitivinícola de Mendoza: los productores de uvas fina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Adriana Bocco, Ana María Ruiz, Daniela Dubbini,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Hernán Vila y María Laura García</a:t>
            </a:r>
            <a:endParaRPr b="0" lang="en-US" sz="2000" spc="-1" strike="noStrike">
              <a:solidFill>
                <a:srgbClr val="ffffff"/>
              </a:solidFill>
              <a:latin typeface="Times New Roman"/>
            </a:endParaRPr>
          </a:p>
        </p:txBody>
      </p:sp>
      <p:sp>
        <p:nvSpPr>
          <p:cNvPr id="90" name=""/>
          <p:cNvSpPr/>
          <p:nvPr/>
        </p:nvSpPr>
        <p:spPr>
          <a:xfrm>
            <a:off x="228600" y="5791320"/>
            <a:ext cx="8915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Arial"/>
              </a:rPr>
              <a:t>Argentina - 2009</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ón en procesos:</a:t>
            </a:r>
            <a:endParaRPr b="0" lang="en-US" sz="24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uevas formas de manejo de cultivo.</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canización de algunas labores culturales y tipo de maquinaria introducida en estas labores.</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s de implementación de normas para certificar calidad.</a:t>
            </a:r>
            <a:endParaRPr b="0" lang="en-US" sz="2000" spc="-1" strike="noStrike">
              <a:solidFill>
                <a:srgbClr val="ffffff"/>
              </a:solidFill>
              <a:latin typeface="Tahoma"/>
            </a:endParaRPr>
          </a:p>
        </p:txBody>
      </p:sp>
      <p:sp>
        <p:nvSpPr>
          <p:cNvPr id="110"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Estudio de Caso: Los procesos de innovación en productores de uvas finas para vinificar en la provincia de Mendoza</a:t>
            </a:r>
            <a:endParaRPr b="0" lang="en-US" sz="2800" spc="-1" strike="noStrike">
              <a:solidFill>
                <a:srgbClr val="ffffff"/>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ón en procesos:</a:t>
            </a:r>
            <a:endParaRPr b="0" lang="en-US" sz="24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uevas formas de manejo de cultivo.</a:t>
            </a:r>
            <a:endParaRPr b="0" lang="en-US" sz="2000" spc="-1" strike="noStrike">
              <a:solidFill>
                <a:srgbClr val="ffffff"/>
              </a:solidFill>
              <a:latin typeface="Tahoma"/>
            </a:endParaRPr>
          </a:p>
        </p:txBody>
      </p:sp>
      <p:sp>
        <p:nvSpPr>
          <p:cNvPr id="112"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Estudio de Caso: Los procesos de innovación en productores de uvas finas para vinificar en la provincia de Mendoza</a:t>
            </a:r>
            <a:endParaRPr b="0" lang="en-US" sz="2800" spc="-1" strike="noStrike">
              <a:solidFill>
                <a:srgbClr val="ffffff"/>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3" name=""/>
          <p:cNvGraphicFramePr/>
          <p:nvPr/>
        </p:nvGraphicFramePr>
        <p:xfrm>
          <a:off x="1757520" y="66600"/>
          <a:ext cx="5054400" cy="6327720"/>
        </p:xfrm>
        <a:graphic>
          <a:graphicData uri="http://schemas.openxmlformats.org/drawingml/2006/table">
            <a:tbl>
              <a:tblPr/>
              <a:tblGrid>
                <a:gridCol w="1947600"/>
                <a:gridCol w="952560"/>
                <a:gridCol w="215424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Indicadores de Innovac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Manejo del viñed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Grad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Innovació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Productores que adoptar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Times New Roman"/>
                        </a:rPr>
                        <a:t>la Innovación (en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Realiza un manejo diferencial de parcelas para diferenciar calidades de uva</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edi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29,6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Utiliza algún medio para regular el vigor y/o producción de las plantas </a:t>
                      </a:r>
                      <a:endParaRPr b="0" lang="en-US" sz="10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Desbrote</a:t>
                      </a:r>
                      <a:endParaRPr b="0" lang="en-US" sz="10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Estrés hídrico</a:t>
                      </a:r>
                      <a:endParaRPr b="0" lang="en-US" sz="10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Raleo de racimo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69,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55,6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40,8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26,8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antiene interfilares con coberturas herbácea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47,2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Introdujo riego presurizado o por gote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27,5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0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Protección contra accidentes climáticos – Granizo:</a:t>
                      </a:r>
                      <a:endParaRPr b="0" lang="en-US" sz="10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alla antigraniz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edi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36,6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816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Protección contra accidentes climáticos – Heladas:</a:t>
                      </a:r>
                      <a:endParaRPr b="0" lang="en-US" sz="1000" spc="-1" strike="noStrike">
                        <a:solidFill>
                          <a:srgbClr val="ffffff"/>
                        </a:solidFill>
                        <a:latin typeface="Times New Roman"/>
                      </a:endParaRPr>
                    </a:p>
                    <a:p>
                      <a:pPr indent="160200">
                        <a:lnSpc>
                          <a:spcPct val="100000"/>
                        </a:lnSpc>
                        <a:buClr>
                          <a:srgbClr val="ffffff"/>
                        </a:buClr>
                        <a:buSzPct val="80000"/>
                        <a:buFont typeface="Arial"/>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Sistema activo:</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Quemadores</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Control de temperaturas</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spersión</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Ventiladores</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Caloventores móviles</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b)   Sistema pasivo:</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Riego</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Suelo no compactado</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Barrera de árboles</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Cortinas de caña</a:t>
                      </a:r>
                      <a:endParaRPr b="0" lang="en-US" sz="10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Tela media sombra</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Baj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edi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edi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Baj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Baj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Baj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Baj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edi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51,4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9,9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2,1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0,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0,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0,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46,5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30,3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9,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0,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r>
                        <a:rPr b="0" lang="es-ES" sz="1000" spc="-1" strike="noStrike">
                          <a:solidFill>
                            <a:srgbClr val="ffffff"/>
                          </a:solidFill>
                          <a:latin typeface="Arial"/>
                          <a:ea typeface="Times New Roman"/>
                        </a:rPr>
                        <a:t>0,0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Formas de cosech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Caj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Bin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Medi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Alt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59,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49,3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
          <p:cNvSpPr/>
          <p:nvPr/>
        </p:nvSpPr>
        <p:spPr>
          <a:xfrm>
            <a:off x="1977840" y="6393600"/>
            <a:ext cx="51901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Fuente: Elaboración propia sobre la base de encuestas a empresas vitícolas (2007-2008)</a:t>
            </a:r>
            <a:endParaRPr b="0" lang="en-US" sz="1000" spc="-1" strike="noStrike">
              <a:solidFill>
                <a:srgbClr val="ffffff"/>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77336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ón en procesos:</a:t>
            </a:r>
            <a:endParaRPr b="0" lang="en-US" sz="24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canización de algunas labores culturales y tipo de maquinaria introducida en estas labores.</a:t>
            </a:r>
            <a:endParaRPr b="0" lang="en-US" sz="2000" spc="-1" strike="noStrike">
              <a:solidFill>
                <a:srgbClr val="ffffff"/>
              </a:solidFill>
              <a:latin typeface="Tahoma"/>
            </a:endParaRPr>
          </a:p>
        </p:txBody>
      </p:sp>
      <p:sp>
        <p:nvSpPr>
          <p:cNvPr id="116"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Estudio de Caso: Los procesos de innovación en productores de uvas finas para vinificar en la provincia de Mendoza</a:t>
            </a:r>
            <a:endParaRPr b="0" lang="en-US" sz="2800" spc="-1" strike="noStrike">
              <a:solidFill>
                <a:srgbClr val="ffffff"/>
              </a:solidFill>
              <a:latin typeface="Times New Roman"/>
            </a:endParaRPr>
          </a:p>
        </p:txBody>
      </p:sp>
      <p:graphicFrame>
        <p:nvGraphicFramePr>
          <p:cNvPr id="117" name=""/>
          <p:cNvGraphicFramePr/>
          <p:nvPr/>
        </p:nvGraphicFramePr>
        <p:xfrm>
          <a:off x="1763640" y="2997360"/>
          <a:ext cx="5472000" cy="3526920"/>
        </p:xfrm>
        <a:graphic>
          <a:graphicData uri="http://schemas.openxmlformats.org/drawingml/2006/table">
            <a:tbl>
              <a:tblPr/>
              <a:tblGrid>
                <a:gridCol w="2304000"/>
                <a:gridCol w="1113840"/>
                <a:gridCol w="2054160"/>
              </a:tblGrid>
              <a:tr h="65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Indicadores de Innovació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Mecanización y uso de maquinaria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Grado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Innovació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Productores que adoptar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la Innovación (en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808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Mecanización de labores:</a:t>
                      </a:r>
                      <a:endParaRPr b="0" lang="en-US" sz="12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Despampanado</a:t>
                      </a:r>
                      <a:endParaRPr b="0" lang="en-US" sz="12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Poda</a:t>
                      </a:r>
                      <a:endParaRPr b="0" lang="en-US" sz="12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Deshoje</a:t>
                      </a:r>
                      <a:endParaRPr b="0" lang="en-US" sz="1200" spc="-1" strike="noStrike">
                        <a:solidFill>
                          <a:srgbClr val="ffffff"/>
                        </a:solidFill>
                        <a:latin typeface="Times New Roman"/>
                      </a:endParaRPr>
                    </a:p>
                    <a:p>
                      <a:pPr>
                        <a:lnSpc>
                          <a:spcPct val="100000"/>
                        </a:lnSpc>
                        <a:buClr>
                          <a:srgbClr val="ffffff"/>
                        </a:buClr>
                        <a:buSzPct val="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Cosecha</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18,3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14,8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a:t>
                      </a:r>
                      <a:r>
                        <a:rPr b="0" lang="es-ES" sz="1200" spc="-1" strike="noStrike">
                          <a:solidFill>
                            <a:srgbClr val="ffffff"/>
                          </a:solidFill>
                          <a:latin typeface="Arial"/>
                          <a:ea typeface="Times New Roman"/>
                        </a:rPr>
                        <a:t>7,7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a:t>
                      </a:r>
                      <a:r>
                        <a:rPr b="0" lang="es-ES" sz="1200" spc="-1" strike="noStrike">
                          <a:solidFill>
                            <a:srgbClr val="ffffff"/>
                          </a:solidFill>
                          <a:latin typeface="Arial"/>
                          <a:ea typeface="Times New Roman"/>
                        </a:rPr>
                        <a:t>2,1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a:t>
                      </a:r>
                      <a:r>
                        <a:rPr b="0" lang="es-ES" sz="1200" spc="-1" strike="noStrike">
                          <a:solidFill>
                            <a:srgbClr val="ffffff"/>
                          </a:solidFill>
                          <a:latin typeface="Arial"/>
                          <a:ea typeface="Times New Roman"/>
                        </a:rPr>
                        <a:t>5,6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Tecnología para control de plagas o enfermedade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Pulverizador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Atomizador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Nebulizadora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Baj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Med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15,5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77,5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a:t>
                      </a:r>
                      <a:r>
                        <a:rPr b="0" lang="es-ES" sz="1200" spc="-1" strike="noStrike">
                          <a:solidFill>
                            <a:srgbClr val="ffffff"/>
                          </a:solidFill>
                          <a:latin typeface="Arial"/>
                          <a:ea typeface="Times New Roman"/>
                        </a:rPr>
                        <a:t>7,0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6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Tecnología para control de maleza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Mochil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 Máquina unida al tracto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Baj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Medi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58,5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55,6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
          <p:cNvSpPr/>
          <p:nvPr/>
        </p:nvSpPr>
        <p:spPr>
          <a:xfrm>
            <a:off x="1960200" y="6568200"/>
            <a:ext cx="52250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Fuente: Elaboración propia sobre la base de encuestas a empresas vitícolas (2007-2008).</a:t>
            </a:r>
            <a:endParaRPr b="0" lang="en-US" sz="1000" spc="-1" strike="noStrike">
              <a:solidFill>
                <a:srgbClr val="ffff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77336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ón en procesos:</a:t>
            </a:r>
            <a:endParaRPr b="0" lang="en-US" sz="24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s de implementación de normas para certificar calidad</a:t>
            </a:r>
            <a:endParaRPr b="0" lang="en-US" sz="2000" spc="-1" strike="noStrike">
              <a:solidFill>
                <a:srgbClr val="ffffff"/>
              </a:solidFill>
              <a:latin typeface="Tahom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0"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Estudio de Caso: Los procesos de innovación en productores de uvas finas para vinificar en la provincia de Mendoza</a:t>
            </a:r>
            <a:endParaRPr b="0" lang="en-US" sz="2800" spc="-1" strike="noStrike">
              <a:solidFill>
                <a:srgbClr val="ffffff"/>
              </a:solidFill>
              <a:latin typeface="Times New Roman"/>
            </a:endParaRPr>
          </a:p>
        </p:txBody>
      </p:sp>
      <p:sp>
        <p:nvSpPr>
          <p:cNvPr id="121"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22" name=""/>
          <p:cNvGraphicFramePr/>
          <p:nvPr/>
        </p:nvGraphicFramePr>
        <p:xfrm>
          <a:off x="1476360" y="3365640"/>
          <a:ext cx="6696000" cy="2584440"/>
        </p:xfrm>
        <a:graphic>
          <a:graphicData uri="http://schemas.openxmlformats.org/drawingml/2006/table">
            <a:tbl>
              <a:tblPr/>
              <a:tblGrid>
                <a:gridCol w="2232000"/>
                <a:gridCol w="2230560"/>
                <a:gridCol w="2233440"/>
              </a:tblGrid>
              <a:tr h="865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Indicadores de Innovació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Implementación de procesos hacia normas de calida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Grado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Innovació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Productores que adoptar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Times New Roman"/>
                        </a:rPr>
                        <a:t>la Innovación (en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Sólo registra labor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Baj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48,6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Sólo implementa BPA</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Medi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29,6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Certifica BPA</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3,5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Certifica otras norma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Alt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Times New Roman"/>
                        </a:rPr>
                        <a:t>4,9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
          <p:cNvSpPr/>
          <p:nvPr/>
        </p:nvSpPr>
        <p:spPr>
          <a:xfrm>
            <a:off x="2290680" y="6165000"/>
            <a:ext cx="6168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Fuente: Elaboración propia sobre la base de encuestas a empresas vitícolas (2007-2008).</a:t>
            </a:r>
            <a:endParaRPr b="0" lang="en-US" sz="1000" spc="-1" strike="noStrike">
              <a:solidFill>
                <a:srgbClr val="ffff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77336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dicadores de innovación:</a:t>
            </a:r>
            <a:endParaRPr b="0" lang="en-US" sz="2000" spc="-1" strike="noStrike">
              <a:solidFill>
                <a:srgbClr val="ffffff"/>
              </a:solidFill>
              <a:latin typeface="Tahoma"/>
            </a:endParaRPr>
          </a:p>
          <a:p>
            <a:pPr lvl="1" marL="743040" indent="-285840">
              <a:lnSpc>
                <a:spcPct val="10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da actividad agrícola o pecuaria debe definir qué es innovación de acuerdo al contexto histórico, temporal y espacial, y a las características específicas de sus procesos de reestructuración y transformación tecnológica y organizacional.</a:t>
            </a:r>
            <a:endParaRPr b="0" lang="en-US" sz="1800" spc="-1" strike="noStrike">
              <a:solidFill>
                <a:srgbClr val="ffffff"/>
              </a:solidFill>
              <a:latin typeface="Tahoma"/>
            </a:endParaRPr>
          </a:p>
          <a:p>
            <a:pPr lvl="1" marL="743040" indent="-285840">
              <a:lnSpc>
                <a:spcPct val="10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quiere el conocimiento cuantitativo y cualitativo de las transformaciones de cada sector, para la identificación y selección de indicadores específicos que permitan una interpretación adecuada de los procesos de innovación.</a:t>
            </a:r>
            <a:endParaRPr b="0" lang="en-US" sz="1800" spc="-1" strike="noStrike">
              <a:solidFill>
                <a:srgbClr val="ffffff"/>
              </a:solidFill>
              <a:latin typeface="Tahoma"/>
            </a:endParaRPr>
          </a:p>
          <a:p>
            <a:pPr lvl="1" marL="743040" indent="-285840">
              <a:lnSpc>
                <a:spcPct val="10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distinguen distintos niveles o grados de adopción de innovación y que dependen del contexto de transformación en que se encuentra el sector y de los modelos tecnológicos y organizacionales.</a:t>
            </a:r>
            <a:r>
              <a:rPr b="0" lang="es-ES" sz="1800" spc="-1" strike="noStrike">
                <a:solidFill>
                  <a:srgbClr val="ffffff"/>
                </a:solidFill>
                <a:latin typeface="Tahoma"/>
              </a:rPr>
              <a:t> </a:t>
            </a:r>
            <a:endParaRPr b="0" lang="en-US" sz="1800" spc="-1" strike="noStrike">
              <a:solidFill>
                <a:srgbClr val="fffff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Reflexiones finales</a:t>
            </a:r>
            <a:endParaRPr b="0" lang="en-US" sz="2800" spc="-1" strike="noStrike">
              <a:solidFill>
                <a:srgbClr val="ffffff"/>
              </a:solidFill>
              <a:latin typeface="Times New Roman"/>
            </a:endParaRPr>
          </a:p>
        </p:txBody>
      </p:sp>
      <p:sp>
        <p:nvSpPr>
          <p:cNvPr id="126"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4920" y="1412640"/>
            <a:ext cx="8062920" cy="4895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udio de Caso: Los procesos de innovación en productores de uvas finas para vinificar en la provincia de Mendoza</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gn="just">
              <a:lnSpc>
                <a:spcPct val="8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ólo un porcentaje pequeño de empresas alcanza a posicionarse en niveles altos de innovación..</a:t>
            </a:r>
            <a:endParaRPr b="0" lang="en-US" sz="1800" spc="-1" strike="noStrike">
              <a:solidFill>
                <a:srgbClr val="ffffff"/>
              </a:solidFill>
              <a:latin typeface="Tahoma"/>
            </a:endParaRPr>
          </a:p>
          <a:p>
            <a:pPr lvl="1" marL="735480" indent="-282960" algn="just">
              <a:lnSpc>
                <a:spcPct val="8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ando la adopción de una innovación requiere esfuerzos financieros, ya sea para transformación de infraestructura de cultivos o adquisición de maquinarias y equipos, se reduce aún más el universo de empresas en condiciones de afrontar estos costos.</a:t>
            </a:r>
            <a:endParaRPr b="0" lang="en-US" sz="1800" spc="-1" strike="noStrike">
              <a:solidFill>
                <a:srgbClr val="ffffff"/>
              </a:solidFill>
              <a:latin typeface="Tahoma"/>
            </a:endParaRPr>
          </a:p>
          <a:p>
            <a:pPr lvl="1" marL="735480" indent="-282960" algn="just">
              <a:lnSpc>
                <a:spcPct val="8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observan límites estructurales y financieros de la pequeña y mediana empresa agrícola para la adopción de innovaciones. </a:t>
            </a:r>
            <a:endParaRPr b="0" lang="en-US" sz="1800" spc="-1" strike="noStrike">
              <a:solidFill>
                <a:srgbClr val="ffffff"/>
              </a:solidFill>
              <a:latin typeface="Tahoma"/>
            </a:endParaRPr>
          </a:p>
          <a:p>
            <a:pPr lvl="1" marL="735480" indent="-282960" algn="just">
              <a:lnSpc>
                <a:spcPct val="8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Pymes agrícolas adoptan más rápidamente innovaciones blandas, maximizando el uso de su corpus de conocimientos tácitos.</a:t>
            </a:r>
            <a:endParaRPr b="0" lang="en-US" sz="1800" spc="-1" strike="noStrike">
              <a:solidFill>
                <a:srgbClr val="ffffff"/>
              </a:solidFill>
              <a:latin typeface="Tahoma"/>
            </a:endParaRPr>
          </a:p>
          <a:p>
            <a:pPr lvl="1" marL="735480" indent="-282960" algn="just">
              <a:lnSpc>
                <a:spcPct val="8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rado de virtuosidad de la trama juega un rol clave una serie de elementos: la organización del trabajo, el desarrollo de la capacidad innovativa, el grado de aseguramiento de la calidad, la importancia que adquieren los procesos de capacitación y la circulación de información, el conocimiento y otros activos intangibles adquiridos a partir de vínculos formales e informales entre los miembros de esa trama </a:t>
            </a:r>
            <a:endParaRPr b="0" lang="en-US" sz="1800" spc="-1" strike="noStrike">
              <a:solidFill>
                <a:srgbClr val="ffffff"/>
              </a:solidFill>
              <a:latin typeface="Tahoma"/>
            </a:endParaRPr>
          </a:p>
        </p:txBody>
      </p:sp>
      <p:sp>
        <p:nvSpPr>
          <p:cNvPr id="128"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Reflexiones finales </a:t>
            </a:r>
            <a:endParaRPr b="0" lang="en-US" sz="2800" spc="-1" strike="noStrike">
              <a:solidFill>
                <a:srgbClr val="ffffff"/>
              </a:solidFill>
              <a:latin typeface="Times New Roman"/>
            </a:endParaRPr>
          </a:p>
        </p:txBody>
      </p:sp>
      <p:sp>
        <p:nvSpPr>
          <p:cNvPr id="129"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68360" y="2060640"/>
            <a:ext cx="4104000" cy="936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ahoma"/>
              </a:rPr>
              <a:t> </a:t>
            </a:r>
            <a:r>
              <a:rPr b="0" lang="es-MX" sz="3200" spc="-1" strike="noStrike">
                <a:solidFill>
                  <a:srgbClr val="ffff00"/>
                </a:solidFill>
                <a:latin typeface="Tahoma"/>
              </a:rPr>
              <a:t>Muchas gracias </a:t>
            </a:r>
            <a:endParaRPr b="0" lang="en-US" sz="3200" spc="-1" strike="noStrike">
              <a:solidFill>
                <a:srgbClr val="ffffff"/>
              </a:solidFill>
              <a:latin typeface="Tahoma"/>
            </a:endParaRPr>
          </a:p>
        </p:txBody>
      </p:sp>
      <p:sp>
        <p:nvSpPr>
          <p:cNvPr id="131" name=""/>
          <p:cNvSpPr/>
          <p:nvPr/>
        </p:nvSpPr>
        <p:spPr>
          <a:xfrm>
            <a:off x="4500720" y="3860640"/>
            <a:ext cx="40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 </a:t>
            </a:r>
            <a:r>
              <a:rPr b="0" i="1" lang="es-MX" sz="1800" spc="-1" strike="noStrike">
                <a:solidFill>
                  <a:srgbClr val="ffffff"/>
                </a:solidFill>
                <a:latin typeface="Times New Roman"/>
              </a:rPr>
              <a:t>Ana María Ruiz</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Gerencia de Seguimiento y Evaluació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DNAPSyE  - IN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Tel. 00 54 11 4124 77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Email: aruiz@correo.inta.gov.ar</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iterate type="lt">
                                    <p:tmAbs val="0"/>
                                  </p:iterate>
                                  <p:childTnLst>
                                    <p:animRot by="21600000">
                                      <p:cBhvr>
                                        <p:cTn id="6" dur="2000" fill="hold"/>
                                        <p:tgtEl>
                                          <p:spTgt spid="13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777240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Objetivo</a:t>
            </a:r>
            <a:endParaRPr b="1" lang="en-US" sz="2800" spc="-1" strike="noStrike">
              <a:solidFill>
                <a:srgbClr val="ffcc66"/>
              </a:solidFill>
              <a:latin typeface="Tahoma"/>
            </a:endParaRPr>
          </a:p>
        </p:txBody>
      </p:sp>
      <p:sp>
        <p:nvSpPr>
          <p:cNvPr id="92" name="PlaceHolder 2"/>
          <p:cNvSpPr>
            <a:spLocks noGrp="1"/>
          </p:cNvSpPr>
          <p:nvPr>
            <p:ph/>
          </p:nvPr>
        </p:nvSpPr>
        <p:spPr>
          <a:xfrm>
            <a:off x="394920" y="1483920"/>
            <a:ext cx="8497800" cy="410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alizar un aporte al conocimiento de los procesos de innovación en el sector agrícola través del estudio del sector vitícola de la provincia de Mendoza, Argentina, focalizando en el eslabón de producción primaria de la cadena de vinos fino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ocer los fenómenos de heterogeneidad y mayor complejidad que han producido la transición tecnológica y los cambios en la organización en la estructura de la trama vitivinícol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Brindar elementos para la definición de políticas.</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Marco conceptual y metodológico</a:t>
            </a:r>
            <a:endParaRPr b="1" lang="en-US" sz="2800" spc="-1" strike="noStrike">
              <a:solidFill>
                <a:srgbClr val="ffcc66"/>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analizó el sector vitivinícola desde el enfoque de trama productiva. L</a:t>
            </a:r>
            <a:r>
              <a:rPr b="0" lang="es-ES" sz="2400" spc="-1" strike="noStrike">
                <a:solidFill>
                  <a:srgbClr val="ffffff"/>
                </a:solidFill>
                <a:latin typeface="Tahoma"/>
              </a:rPr>
              <a:t>a trama se constituye en una perspectiva analítica sistémica que ayuda a entender los factores determinantes de los diferentes procesos de innovación y a diseñar acciones de política que refuercen la articulación entre innovación, conocimientos y desarrollo.</a:t>
            </a:r>
            <a:endParaRPr b="0" lang="en-US" sz="2400" spc="-1" strike="noStrike">
              <a:solidFill>
                <a:srgbClr val="ffffff"/>
              </a:solidFill>
              <a:latin typeface="Tahoma"/>
            </a:endParaRPr>
          </a:p>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basó en el marco conceptual planteado en el Manual de Oslo y de Bogotá y se adaptó para su aplicación a un caso de estudio concreto, como es el sector vitícola reconvertido e integrado a la dinámica de su trama productiva.</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Marco conceptual y metodológico</a:t>
            </a:r>
            <a:endParaRPr b="1" lang="en-US" sz="2800" spc="-1" strike="noStrike">
              <a:solidFill>
                <a:srgbClr val="ffcc66"/>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e definieron tres grados de innovación para cada indicador: alto, medio y bajo, asociado al impacto en la calidad del producto o en la eficiencia de producción.</a:t>
            </a:r>
            <a:endParaRPr b="0" lang="en-US" sz="2000" spc="-1" strike="noStrike">
              <a:solidFill>
                <a:srgbClr val="ffffff"/>
              </a:solidFill>
              <a:latin typeface="Tahoma"/>
            </a:endParaRPr>
          </a:p>
          <a:p>
            <a:pPr marL="343080" indent="-3430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a:t>
            </a:r>
            <a:r>
              <a:rPr b="0" lang="es-MX" sz="2000" spc="-1" strike="noStrike">
                <a:solidFill>
                  <a:srgbClr val="ffffff"/>
                </a:solidFill>
                <a:latin typeface="Arial"/>
              </a:rPr>
              <a:t>barca una muestra estadística de 142 productores de uvas de calidad.</a:t>
            </a:r>
            <a:endParaRPr b="0" lang="en-US" sz="2000" spc="-1" strike="noStrike">
              <a:solidFill>
                <a:srgbClr val="ffffff"/>
              </a:solidFill>
              <a:latin typeface="Tahoma"/>
            </a:endParaRPr>
          </a:p>
          <a:p>
            <a:pPr marL="343080" indent="-3430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Que a la vez son proveedores de 4 bodegas especializadas en la producción y exportación de vinos varietales y/o espumantes. Las bodegas se caracterizan por haber liderado los procesos de innovación en el sector vitivinícola de Mendoza y a nivel nacional.</a:t>
            </a:r>
            <a:endParaRPr b="0" lang="en-US" sz="2000" spc="-1" strike="noStrike">
              <a:solidFill>
                <a:srgbClr val="ffffff"/>
              </a:solidFill>
              <a:latin typeface="Tahoma"/>
            </a:endParaRPr>
          </a:p>
          <a:p>
            <a:pPr marL="343080" indent="-343080">
              <a:lnSpc>
                <a:spcPct val="8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productores de uvas finas mantienen estrechas relaciones de integración con estas 4 bodegas-cliente a través de contratos comerciales (escritos o de palabra) y de otras relaciones tecnológicas para el control de la calidad de las uvas compradas. </a:t>
            </a: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ón en productos: Nuevas variedades de uvas</a:t>
            </a:r>
            <a:endParaRPr b="0" lang="en-US" sz="24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lor</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lidad enológica</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epajes</a:t>
            </a:r>
            <a:endParaRPr b="0" lang="en-US" sz="2000" spc="-1" strike="noStrike">
              <a:solidFill>
                <a:srgbClr val="ffffff"/>
              </a:solidFill>
              <a:latin typeface="Tahoma"/>
            </a:endParaRPr>
          </a:p>
        </p:txBody>
      </p:sp>
      <p:sp>
        <p:nvSpPr>
          <p:cNvPr id="98"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Indicadores para medir innovación</a:t>
            </a:r>
            <a:endParaRPr b="0" lang="en-US" sz="2800" spc="-1" strike="noStrike">
              <a:solidFill>
                <a:srgbClr val="ffffff"/>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novación en procesos: Manejo del cultivo y en la cosecha de la uva</a:t>
            </a:r>
            <a:endParaRPr b="0" lang="en-US" sz="20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mbios en los sistemas de conducción de la vid.</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iego por goteo.</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ueva gama de agroquímicos (fertilización y sanidad) y formas de aplicación.</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uevas técnicas en el manejo de canopia (raleo, deshoje).</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mbios en las labores culturales (poda, poda en verde, labranza cero).</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tección climática (malla antigranizo, protección contra heladas).</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mbios en la cosecha (nuevos recipientes de recolección en vez del tacho, como las bandejas y los bins, uso de tijeras). </a:t>
            </a:r>
            <a:endParaRPr b="0" lang="en-US" sz="1800" spc="-1" strike="noStrike">
              <a:solidFill>
                <a:srgbClr val="ffffff"/>
              </a:solidFill>
              <a:latin typeface="Tahoma"/>
            </a:endParaRPr>
          </a:p>
          <a:p>
            <a:pPr lvl="1" marL="743040" indent="-285840">
              <a:lnSpc>
                <a:spcPct val="9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mbios en logística del transporte de la viña a la bodega.</a:t>
            </a:r>
            <a:endParaRPr b="0" lang="en-US" sz="1800" spc="-1" strike="noStrike">
              <a:solidFill>
                <a:srgbClr val="ffffff"/>
              </a:solidFill>
              <a:latin typeface="Tahoma"/>
            </a:endParaRPr>
          </a:p>
        </p:txBody>
      </p:sp>
      <p:sp>
        <p:nvSpPr>
          <p:cNvPr id="100"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Indicadores para medir innovación</a:t>
            </a:r>
            <a:endParaRPr b="0" lang="en-US" sz="2800" spc="-1" strike="noStrike">
              <a:solidFill>
                <a:srgbClr val="ffff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novación organizativa</a:t>
            </a:r>
            <a:endParaRPr b="0" lang="en-US" sz="2000" spc="-1" strike="noStrike">
              <a:solidFill>
                <a:srgbClr val="ffffff"/>
              </a:solidFill>
              <a:latin typeface="Tahoma"/>
            </a:endParaRPr>
          </a:p>
          <a:p>
            <a:pPr lvl="1" marL="743040" indent="-285840">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racionalización y profesionalización de los procesos de trabajo: a través de la incorporación de ingenieros agrónomos y enólogos.</a:t>
            </a:r>
            <a:endParaRPr b="0" lang="en-US" sz="1800" spc="-1" strike="noStrike">
              <a:solidFill>
                <a:srgbClr val="ffffff"/>
              </a:solidFill>
              <a:latin typeface="Tahoma"/>
            </a:endParaRPr>
          </a:p>
          <a:p>
            <a:pPr lvl="1" marL="743040" indent="-285840">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trabajo en equipo entre el capataz o encargado de finca y el ingeniero agrónomo y/o enólogo de la finca; y entre el capataz o encargado y los obreros de finca.</a:t>
            </a:r>
            <a:endParaRPr b="0" lang="en-US" sz="1800" spc="-1" strike="noStrike">
              <a:solidFill>
                <a:srgbClr val="ffffff"/>
              </a:solidFill>
              <a:latin typeface="Tahoma"/>
            </a:endParaRPr>
          </a:p>
          <a:p>
            <a:pPr lvl="1" marL="743040" indent="-285840">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mayor control de las labores culturales como poda, riego, aplicación de agroquímicos, etc.</a:t>
            </a:r>
            <a:endParaRPr b="0" lang="en-US" sz="1800" spc="-1" strike="noStrike">
              <a:solidFill>
                <a:srgbClr val="ffffff"/>
              </a:solidFill>
              <a:latin typeface="Tahoma"/>
            </a:endParaRPr>
          </a:p>
          <a:p>
            <a:pPr lvl="1" marL="743040" indent="-285840">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nuevas exigencias de registro de labores para trazabilidad.</a:t>
            </a:r>
            <a:endParaRPr b="0" lang="en-US" sz="1800" spc="-1" strike="noStrike">
              <a:solidFill>
                <a:srgbClr val="ffffff"/>
              </a:solidFill>
              <a:latin typeface="Tahoma"/>
            </a:endParaRPr>
          </a:p>
          <a:p>
            <a:pPr lvl="1" marL="743040" indent="-285840">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capacitación de los trabajadores de viña en nuevas formas de manejo de cultivos.</a:t>
            </a:r>
            <a:endParaRPr b="0" lang="en-US" sz="1800" spc="-1" strike="noStrike">
              <a:solidFill>
                <a:srgbClr val="ffffff"/>
              </a:solidFill>
              <a:latin typeface="Tahoma"/>
            </a:endParaRPr>
          </a:p>
          <a:p>
            <a:pPr lvl="1" marL="743040" indent="-285840">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mayores exigencias en la logística de cosecha.</a:t>
            </a:r>
            <a:endParaRPr b="0" lang="en-US" sz="1800" spc="-1" strike="noStrike">
              <a:solidFill>
                <a:srgbClr val="ffffff"/>
              </a:solidFill>
              <a:latin typeface="Tahoma"/>
            </a:endParaRPr>
          </a:p>
        </p:txBody>
      </p:sp>
      <p:sp>
        <p:nvSpPr>
          <p:cNvPr id="102"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Indicadores para medir innovación</a:t>
            </a:r>
            <a:endParaRPr b="0" lang="en-US" sz="2800" spc="-1" strike="noStrike">
              <a:solidFill>
                <a:srgbClr val="ffff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novación en comercialización</a:t>
            </a:r>
            <a:endParaRPr b="0" lang="en-US" sz="2000" spc="-1" strike="noStrike">
              <a:solidFill>
                <a:srgbClr val="ffffff"/>
              </a:solidFill>
              <a:latin typeface="Tahoma"/>
            </a:endParaRPr>
          </a:p>
          <a:p>
            <a:pPr lvl="1" marL="743040" indent="-285840">
              <a:lnSpc>
                <a:spcPct val="100000"/>
              </a:lnSpc>
              <a:spcBef>
                <a:spcPts val="451"/>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uevas relaciones de integración entre los productores vitícolas y las bodegas-cliente a través de contratos comerciales escritos o de palabra.</a:t>
            </a:r>
            <a:endParaRPr b="0" lang="en-US" sz="1800" spc="-1" strike="noStrike">
              <a:solidFill>
                <a:srgbClr val="ffffff"/>
              </a:solidFill>
              <a:latin typeface="Tahoma"/>
            </a:endParaRPr>
          </a:p>
        </p:txBody>
      </p:sp>
      <p:sp>
        <p:nvSpPr>
          <p:cNvPr id="104"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Indicadores para medir innovación</a:t>
            </a:r>
            <a:endParaRPr b="0" lang="en-US" sz="2800" spc="-1" strike="noStrike">
              <a:solidFill>
                <a:srgbClr val="ffff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ón en productos: Nuevas variedades de uvas</a:t>
            </a:r>
            <a:endParaRPr b="0" lang="en-US" sz="2400" spc="-1" strike="noStrike">
              <a:solidFill>
                <a:srgbClr val="ffffff"/>
              </a:solidFill>
              <a:latin typeface="Tahoma"/>
            </a:endParaRPr>
          </a:p>
        </p:txBody>
      </p:sp>
      <p:sp>
        <p:nvSpPr>
          <p:cNvPr id="106" name=""/>
          <p:cNvSpPr/>
          <p:nvPr/>
        </p:nvSpPr>
        <p:spPr>
          <a:xfrm>
            <a:off x="755640" y="404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Estudio de Caso: Los procesos de innovación en productores de uvas finas para vinificar en la provincia de Mendoza</a:t>
            </a:r>
            <a:endParaRPr b="0" lang="en-US" sz="2800" spc="-1" strike="noStrike">
              <a:solidFill>
                <a:srgbClr val="ffffff"/>
              </a:solidFill>
              <a:latin typeface="Times New Roman"/>
            </a:endParaRPr>
          </a:p>
        </p:txBody>
      </p:sp>
      <p:graphicFrame>
        <p:nvGraphicFramePr>
          <p:cNvPr id="107" name=""/>
          <p:cNvGraphicFramePr/>
          <p:nvPr/>
        </p:nvGraphicFramePr>
        <p:xfrm>
          <a:off x="1757520" y="2739960"/>
          <a:ext cx="5910120" cy="3299040"/>
        </p:xfrm>
        <a:graphic>
          <a:graphicData uri="http://schemas.openxmlformats.org/drawingml/2006/table">
            <a:tbl>
              <a:tblPr/>
              <a:tblGrid>
                <a:gridCol w="2166840"/>
                <a:gridCol w="1224000"/>
                <a:gridCol w="2519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Indicadores de Innovació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en Producto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Grado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Innovación</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Productores que adoptar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Times New Roman"/>
                        </a:rPr>
                        <a:t>la Innovación (en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Implantación recient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de variedades finas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Medi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46,5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Plantas con selecció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de clon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Alt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13,4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Plantas seleccionada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libres de viru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Alt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9,9%</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Plantas injertada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con pie american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Alt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Times New Roman"/>
                        </a:rPr>
                        <a:t>9,2%</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2401560" y="6055560"/>
            <a:ext cx="51901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Times New Roman"/>
              </a:rPr>
              <a:t>Fuente: Elaboración propia sobre la base de encuestas a empresas vitícolas (2007-2008)</a:t>
            </a:r>
            <a:endParaRPr b="0" lang="en-US" sz="1000" spc="-1" strike="noStrike">
              <a:solidFill>
                <a:srgbClr val="ffffff"/>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2:17:24Z</dcterms:created>
  <dc:creator>INTA</dc:creator>
  <dc:description/>
  <dc:language>en-US</dc:language>
  <cp:lastModifiedBy>INTA</cp:lastModifiedBy>
  <dcterms:modified xsi:type="dcterms:W3CDTF">2009-09-18T01:29:08Z</dcterms:modified>
  <cp:revision>581</cp:revision>
  <dc:subject/>
  <dc:title>PEI 2005-2015 Y PMP 2005-2007</dc:title>
</cp:coreProperties>
</file>