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CE4-F1A5-4B6C-89A9-D9E721D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B35-5894-43D6-BC3E-C45FCDB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A11-7193-4BD6-836C-085C486A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542-7226-4916-A7E0-06AE9B05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067-EED6-4188-995B-7E5794B9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7A2-AC22-4DBC-935D-BDD3B35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943-8E0C-40F9-A524-204F0C5E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16E-215D-4A25-96AD-FDA96E4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77A-2ABC-4852-8D7A-395AA14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584-BA97-4B24-AF15-21000AA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DFB-F17F-4374-AC24-6D2752B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A79-4414-4223-A6A6-DCE2E0A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D57-6B9F-4674-99B9-8140096A8F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1066680" y="2133720"/>
            <a:ext cx="716292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header"/>
          <p:cNvPicPr/>
          <p:nvPr/>
        </p:nvPicPr>
        <p:blipFill>
          <a:blip r:embed="rId1"/>
          <a:stretch/>
        </p:blipFill>
        <p:spPr>
          <a:xfrm>
            <a:off x="0" y="5791320"/>
            <a:ext cx="9048600" cy="82872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7"/>
          <p:cNvGrpSpPr/>
          <p:nvPr/>
        </p:nvGrpSpPr>
        <p:grpSpPr>
          <a:xfrm>
            <a:off x="152280" y="5562720"/>
            <a:ext cx="8915400" cy="152280"/>
            <a:chOff x="152280" y="5562720"/>
            <a:chExt cx="8915400" cy="152280"/>
          </a:xfrm>
        </p:grpSpPr>
        <p:pic>
          <p:nvPicPr>
            <p:cNvPr id="44" name="Picture 10" descr=""/>
            <p:cNvPicPr/>
            <p:nvPr/>
          </p:nvPicPr>
          <p:blipFill>
            <a:blip r:embed="rId2"/>
            <a:stretch/>
          </p:blipFill>
          <p:spPr>
            <a:xfrm>
              <a:off x="152280" y="5562720"/>
              <a:ext cx="89154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1" descr=""/>
            <p:cNvPicPr/>
            <p:nvPr/>
          </p:nvPicPr>
          <p:blipFill>
            <a:blip r:embed="rId3"/>
            <a:stretch/>
          </p:blipFill>
          <p:spPr>
            <a:xfrm>
              <a:off x="2238480" y="5568480"/>
              <a:ext cx="2104920" cy="1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2" descr=""/>
            <p:cNvPicPr/>
            <p:nvPr/>
          </p:nvPicPr>
          <p:blipFill>
            <a:blip r:embed="rId4"/>
            <a:stretch/>
          </p:blipFill>
          <p:spPr>
            <a:xfrm>
              <a:off x="4724280" y="5568480"/>
              <a:ext cx="2362320" cy="11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5" descr=""/>
          <p:cNvPicPr/>
          <p:nvPr/>
        </p:nvPicPr>
        <p:blipFill>
          <a:blip r:embed="rId5"/>
          <a:stretch/>
        </p:blipFill>
        <p:spPr>
          <a:xfrm>
            <a:off x="3276720" y="6553080"/>
            <a:ext cx="2752560" cy="19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3"/>
          <p:cNvSpPr/>
          <p:nvPr/>
        </p:nvSpPr>
        <p:spPr>
          <a:xfrm>
            <a:off x="838080" y="1949400"/>
            <a:ext cx="7239240" cy="11912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re la comparabilidad y la utilidad: los indicadores de innovación y el diseño de políticas C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>
            <a:off x="5410080" y="3657600"/>
            <a:ext cx="33530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na Suá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b469ff"/>
                </a:solidFill>
                <a:uFillTx/>
                <a:latin typeface="Arial"/>
              </a:rPr>
              <a:t>dsuarez@centroredes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ntro Redes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228600" y="257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actividades innovativas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82320" y="10666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07920" y="1707480"/>
            <a:ext cx="55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teracción y co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a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450720" y="1679400"/>
            <a:ext cx="380880" cy="380880"/>
            <a:chOff x="450720" y="1679400"/>
            <a:chExt cx="380880" cy="380880"/>
          </a:xfrm>
        </p:grpSpPr>
        <p:sp>
          <p:nvSpPr>
            <p:cNvPr id="245" name="Rectangle 7"/>
            <p:cNvSpPr/>
            <p:nvPr/>
          </p:nvSpPr>
          <p:spPr>
            <a:xfrm>
              <a:off x="450720" y="16794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"/>
            <p:cNvSpPr/>
            <p:nvPr/>
          </p:nvSpPr>
          <p:spPr>
            <a:xfrm>
              <a:off x="526680" y="17553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5877000" y="1298520"/>
            <a:ext cx="166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5645160" y="1346040"/>
            <a:ext cx="311040" cy="1324080"/>
          </a:xfrm>
          <a:custGeom>
            <a:avLst/>
            <a:gdLst>
              <a:gd name="textAreaLeft" fmla="*/ 198720 w 311040"/>
              <a:gd name="textAreaRight" fmla="*/ 311400 w 311040"/>
              <a:gd name="textAreaTop" fmla="*/ 34200 h 1324080"/>
              <a:gd name="textAreaBottom" fmla="*/ 1289880 h 13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914400" y="43282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os obstácul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proceso innov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2"/>
          <p:cNvGrpSpPr/>
          <p:nvPr/>
        </p:nvGrpSpPr>
        <p:grpSpPr>
          <a:xfrm>
            <a:off x="457200" y="4267080"/>
            <a:ext cx="380880" cy="380880"/>
            <a:chOff x="457200" y="4267080"/>
            <a:chExt cx="380880" cy="380880"/>
          </a:xfrm>
        </p:grpSpPr>
        <p:sp>
          <p:nvSpPr>
            <p:cNvPr id="251" name="Rectangle 13"/>
            <p:cNvSpPr/>
            <p:nvPr/>
          </p:nvSpPr>
          <p:spPr>
            <a:xfrm>
              <a:off x="457200" y="42670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533160" y="43430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5"/>
          <p:cNvSpPr/>
          <p:nvPr/>
        </p:nvSpPr>
        <p:spPr>
          <a:xfrm>
            <a:off x="5185440" y="41148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ógeno – Exó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 – meso - macro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6"/>
          <p:cNvSpPr/>
          <p:nvPr/>
        </p:nvSpPr>
        <p:spPr>
          <a:xfrm>
            <a:off x="4952880" y="4162320"/>
            <a:ext cx="304920" cy="5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4400 h 561960"/>
              <a:gd name="textAreaBottom" fmla="*/ 547560 h 5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914400" y="5730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s fuentes de financiamient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gastos en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457200" y="5668920"/>
            <a:ext cx="380880" cy="380880"/>
            <a:chOff x="457200" y="5668920"/>
            <a:chExt cx="380880" cy="380880"/>
          </a:xfrm>
        </p:grpSpPr>
        <p:sp>
          <p:nvSpPr>
            <p:cNvPr id="257" name="Rectangle 19"/>
            <p:cNvSpPr/>
            <p:nvPr/>
          </p:nvSpPr>
          <p:spPr>
            <a:xfrm>
              <a:off x="457200" y="566892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0"/>
            <p:cNvSpPr/>
            <p:nvPr/>
          </p:nvSpPr>
          <p:spPr>
            <a:xfrm>
              <a:off x="533160" y="574488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21"/>
          <p:cNvSpPr/>
          <p:nvPr/>
        </p:nvSpPr>
        <p:spPr>
          <a:xfrm>
            <a:off x="6400800" y="5380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s –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as – P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ment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2"/>
          <p:cNvSpPr/>
          <p:nvPr/>
        </p:nvSpPr>
        <p:spPr>
          <a:xfrm>
            <a:off x="6172200" y="5457960"/>
            <a:ext cx="304920" cy="86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2320 h 866520"/>
              <a:gd name="textAreaBottom" fmla="*/ 8442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382320" y="36576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bstác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907920" y="3079080"/>
            <a:ext cx="55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entes de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a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5"/>
          <p:cNvGrpSpPr/>
          <p:nvPr/>
        </p:nvGrpSpPr>
        <p:grpSpPr>
          <a:xfrm>
            <a:off x="450720" y="3051000"/>
            <a:ext cx="380880" cy="380880"/>
            <a:chOff x="450720" y="3051000"/>
            <a:chExt cx="380880" cy="380880"/>
          </a:xfrm>
        </p:grpSpPr>
        <p:sp>
          <p:nvSpPr>
            <p:cNvPr id="264" name="Rectangle 26"/>
            <p:cNvSpPr/>
            <p:nvPr/>
          </p:nvSpPr>
          <p:spPr>
            <a:xfrm>
              <a:off x="450720" y="30510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26680" y="31269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28"/>
          <p:cNvSpPr/>
          <p:nvPr/>
        </p:nvSpPr>
        <p:spPr>
          <a:xfrm>
            <a:off x="5875920" y="282240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9"/>
          <p:cNvSpPr/>
          <p:nvPr/>
        </p:nvSpPr>
        <p:spPr>
          <a:xfrm>
            <a:off x="5645160" y="2898720"/>
            <a:ext cx="311040" cy="838080"/>
          </a:xfrm>
          <a:custGeom>
            <a:avLst/>
            <a:gdLst>
              <a:gd name="textAreaLeft" fmla="*/ 198720 w 311040"/>
              <a:gd name="textAreaRight" fmla="*/ 311400 w 3110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381600" y="50292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228600" y="257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ultados del proceso innov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00960" y="11224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nov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831960" y="1762920"/>
            <a:ext cx="55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ip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nov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374760" y="1735200"/>
            <a:ext cx="380880" cy="380880"/>
            <a:chOff x="374760" y="1735200"/>
            <a:chExt cx="380880" cy="380880"/>
          </a:xfrm>
        </p:grpSpPr>
        <p:sp>
          <p:nvSpPr>
            <p:cNvPr id="274" name="Rectangle 7"/>
            <p:cNvSpPr/>
            <p:nvPr/>
          </p:nvSpPr>
          <p:spPr>
            <a:xfrm>
              <a:off x="374760" y="17352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450720" y="18111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9"/>
          <p:cNvSpPr/>
          <p:nvPr/>
        </p:nvSpPr>
        <p:spPr>
          <a:xfrm>
            <a:off x="4938120" y="259380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undidad (nuevos o mejo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cance (la firma, el mu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acto (participación en ve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4705200" y="2641680"/>
            <a:ext cx="311400" cy="866520"/>
          </a:xfrm>
          <a:custGeom>
            <a:avLst/>
            <a:gdLst>
              <a:gd name="textAreaLeft" fmla="*/ 199080 w 311400"/>
              <a:gd name="textAreaRight" fmla="*/ 311400 w 311400"/>
              <a:gd name="textAreaTop" fmla="*/ 22320 h 866520"/>
              <a:gd name="textAreaBottom" fmla="*/ 8442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838080" y="43282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t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380880" y="4267080"/>
            <a:ext cx="380880" cy="380880"/>
            <a:chOff x="380880" y="4267080"/>
            <a:chExt cx="380880" cy="380880"/>
          </a:xfrm>
        </p:grpSpPr>
        <p:sp>
          <p:nvSpPr>
            <p:cNvPr id="280" name="Rectangle 13"/>
            <p:cNvSpPr/>
            <p:nvPr/>
          </p:nvSpPr>
          <p:spPr>
            <a:xfrm>
              <a:off x="380880" y="42670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456840" y="43430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5"/>
          <p:cNvSpPr/>
          <p:nvPr/>
        </p:nvSpPr>
        <p:spPr>
          <a:xfrm>
            <a:off x="2288880" y="42354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icitadas – Obten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aís – en el ex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2057400" y="4282920"/>
            <a:ext cx="304920" cy="5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4400 h 561960"/>
              <a:gd name="textAreaBottom" fmla="*/ 547560 h 5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838080" y="580464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impacto del proceso inno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380880" y="5743440"/>
            <a:ext cx="380880" cy="380880"/>
            <a:chOff x="380880" y="5743440"/>
            <a:chExt cx="380880" cy="380880"/>
          </a:xfrm>
        </p:grpSpPr>
        <p:sp>
          <p:nvSpPr>
            <p:cNvPr id="286" name="Rectangle 19"/>
            <p:cNvSpPr/>
            <p:nvPr/>
          </p:nvSpPr>
          <p:spPr>
            <a:xfrm>
              <a:off x="380880" y="574344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456840" y="581940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21"/>
          <p:cNvSpPr/>
          <p:nvPr/>
        </p:nvSpPr>
        <p:spPr>
          <a:xfrm>
            <a:off x="4648320" y="525780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olución de las ventas Evolución de las 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leo (cantidad, estabilidad, calificación e 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2"/>
          <p:cNvSpPr/>
          <p:nvPr/>
        </p:nvSpPr>
        <p:spPr>
          <a:xfrm>
            <a:off x="4419720" y="5335560"/>
            <a:ext cx="304560" cy="13701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307440" y="36576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838080" y="2898000"/>
            <a:ext cx="55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racterístic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s innov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5"/>
          <p:cNvGrpSpPr/>
          <p:nvPr/>
        </p:nvGrpSpPr>
        <p:grpSpPr>
          <a:xfrm>
            <a:off x="380880" y="2822400"/>
            <a:ext cx="380880" cy="380880"/>
            <a:chOff x="380880" y="2822400"/>
            <a:chExt cx="380880" cy="380880"/>
          </a:xfrm>
        </p:grpSpPr>
        <p:sp>
          <p:nvSpPr>
            <p:cNvPr id="293" name="Rectangle 26"/>
            <p:cNvSpPr/>
            <p:nvPr/>
          </p:nvSpPr>
          <p:spPr>
            <a:xfrm>
              <a:off x="380880" y="28224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456840" y="28983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28"/>
          <p:cNvSpPr/>
          <p:nvPr/>
        </p:nvSpPr>
        <p:spPr>
          <a:xfrm>
            <a:off x="3426840" y="1353960"/>
            <a:ext cx="19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3193920" y="1430280"/>
            <a:ext cx="311400" cy="1066680"/>
          </a:xfrm>
          <a:custGeom>
            <a:avLst/>
            <a:gdLst>
              <a:gd name="textAreaLeft" fmla="*/ 199080 w 311400"/>
              <a:gd name="textAreaRight" fmla="*/ 311400 w 3114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306360" y="5105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228600" y="303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re la comparabilidad y la u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765720" y="402120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mplicancias de la 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304920" y="455436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osibilidad de comparar indicadores permite analizar con bases más sólidas la realidad de cada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mayor coincidencia de métodos y procedimientos mejora la calidad de la información disponible y las conclusiones que de ella se der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80748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mplicancias de la U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304920" y="198108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dición de los problemas estratégicos nacionales resulta un ejercicio clave para la comprensión de la realidad que se pretende modif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sponibilidad de información relevante (en tiempo y forma) constituye una herramienta clave para el diseño, implementación y monitoreo de las polític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380880" y="1523880"/>
            <a:ext cx="380880" cy="380880"/>
            <a:chOff x="380880" y="1523880"/>
            <a:chExt cx="380880" cy="380880"/>
          </a:xfrm>
        </p:grpSpPr>
        <p:sp>
          <p:nvSpPr>
            <p:cNvPr id="305" name="Rectangle 14"/>
            <p:cNvSpPr/>
            <p:nvPr/>
          </p:nvSpPr>
          <p:spPr>
            <a:xfrm>
              <a:off x="380880" y="15238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456840" y="15998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380880" y="4038480"/>
            <a:ext cx="380880" cy="380880"/>
            <a:chOff x="380880" y="4038480"/>
            <a:chExt cx="380880" cy="380880"/>
          </a:xfrm>
        </p:grpSpPr>
        <p:sp>
          <p:nvSpPr>
            <p:cNvPr id="308" name="Rectangle 17"/>
            <p:cNvSpPr/>
            <p:nvPr/>
          </p:nvSpPr>
          <p:spPr>
            <a:xfrm>
              <a:off x="380880" y="40384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8"/>
            <p:cNvSpPr/>
            <p:nvPr/>
          </p:nvSpPr>
          <p:spPr>
            <a:xfrm>
              <a:off x="456840" y="41144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0"/>
          <p:cNvSpPr/>
          <p:nvPr/>
        </p:nvSpPr>
        <p:spPr>
          <a:xfrm>
            <a:off x="1981080" y="2895480"/>
            <a:ext cx="762120" cy="3048120"/>
          </a:xfrm>
          <a:prstGeom prst="downArrow">
            <a:avLst>
              <a:gd name="adj1" fmla="val 50000"/>
              <a:gd name="adj2" fmla="val 9998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2819520" y="3276720"/>
            <a:ext cx="2590560" cy="2514600"/>
          </a:xfrm>
          <a:prstGeom prst="rect">
            <a:avLst/>
          </a:prstGeom>
          <a:gradFill rotWithShape="0">
            <a:gsLst>
              <a:gs pos="0">
                <a:srgbClr val="f5ebff">
                  <a:alpha val="30196"/>
                </a:srgbClr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5486400" y="2971800"/>
            <a:ext cx="762120" cy="3048120"/>
          </a:xfrm>
          <a:prstGeom prst="upArrow">
            <a:avLst>
              <a:gd name="adj1" fmla="val 50000"/>
              <a:gd name="adj2" fmla="val 9998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228600" y="303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indicadores de innovación y la política C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533520" y="1523880"/>
            <a:ext cx="380880" cy="380880"/>
            <a:chOff x="533520" y="1523880"/>
            <a:chExt cx="380880" cy="380880"/>
          </a:xfrm>
        </p:grpSpPr>
        <p:sp>
          <p:nvSpPr>
            <p:cNvPr id="316" name="Rectangle 5"/>
            <p:cNvSpPr/>
            <p:nvPr/>
          </p:nvSpPr>
          <p:spPr>
            <a:xfrm>
              <a:off x="533520" y="15238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09480" y="15998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038240" y="1459080"/>
            <a:ext cx="74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ece apropiado pensar en término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3733920" y="21337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809880" y="220968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5562720" y="2895480"/>
            <a:ext cx="761760" cy="3048120"/>
          </a:xfrm>
          <a:prstGeom prst="upArrow">
            <a:avLst>
              <a:gd name="adj1" fmla="val 50000"/>
              <a:gd name="adj2" fmla="val 100035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2666880" y="2787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juntos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048120" y="3429000"/>
            <a:ext cx="2133360" cy="368280"/>
          </a:xfrm>
          <a:prstGeom prst="rect">
            <a:avLst/>
          </a:prstGeom>
          <a:solidFill>
            <a:srgbClr val="b469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048120" y="4038480"/>
            <a:ext cx="213336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048120" y="4648320"/>
            <a:ext cx="2133360" cy="368280"/>
          </a:xfrm>
          <a:prstGeom prst="rect">
            <a:avLst/>
          </a:prstGeom>
          <a:solidFill>
            <a:srgbClr val="e2c5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048120" y="5257800"/>
            <a:ext cx="2133360" cy="368280"/>
          </a:xfrm>
          <a:prstGeom prst="rect">
            <a:avLst/>
          </a:prstGeom>
          <a:solidFill>
            <a:srgbClr val="f5eb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b-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79132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7913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62485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38088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9"/>
          <p:cNvSpPr/>
          <p:nvPr/>
        </p:nvSpPr>
        <p:spPr>
          <a:xfrm>
            <a:off x="1905120" y="2971800"/>
            <a:ext cx="761760" cy="3048120"/>
          </a:xfrm>
          <a:prstGeom prst="downArrow">
            <a:avLst>
              <a:gd name="adj1" fmla="val 50000"/>
              <a:gd name="adj2" fmla="val 100035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21337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21337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28600" y="303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ulación, medición y uso de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533520" y="1295280"/>
            <a:ext cx="380880" cy="380880"/>
            <a:chOff x="533520" y="1295280"/>
            <a:chExt cx="380880" cy="380880"/>
          </a:xfrm>
        </p:grpSpPr>
        <p:sp>
          <p:nvSpPr>
            <p:cNvPr id="337" name="Rectangle 7"/>
            <p:cNvSpPr/>
            <p:nvPr/>
          </p:nvSpPr>
          <p:spPr>
            <a:xfrm>
              <a:off x="533520" y="12952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"/>
            <p:cNvSpPr/>
            <p:nvPr/>
          </p:nvSpPr>
          <p:spPr>
            <a:xfrm>
              <a:off x="609480" y="13712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9"/>
          <p:cNvSpPr/>
          <p:nvPr/>
        </p:nvSpPr>
        <p:spPr>
          <a:xfrm>
            <a:off x="1038240" y="1143000"/>
            <a:ext cx="74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edición de cuestiones complejas no puede resolverse de manera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4114800" y="20574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4191120" y="213372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609480" y="2590920"/>
            <a:ext cx="784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encuesta no puede captar completamente el fenó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único set de indicadores no puede responder a la multiplicidad de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fenómeno dinámico no puede captarse siempre con los mismos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533520" y="4800600"/>
            <a:ext cx="380880" cy="380880"/>
            <a:chOff x="533520" y="4800600"/>
            <a:chExt cx="380880" cy="380880"/>
          </a:xfrm>
        </p:grpSpPr>
        <p:sp>
          <p:nvSpPr>
            <p:cNvPr id="344" name="Rectangle 14"/>
            <p:cNvSpPr/>
            <p:nvPr/>
          </p:nvSpPr>
          <p:spPr>
            <a:xfrm>
              <a:off x="533520" y="48006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609480" y="48765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6"/>
          <p:cNvSpPr/>
          <p:nvPr/>
        </p:nvSpPr>
        <p:spPr>
          <a:xfrm>
            <a:off x="1038240" y="4648320"/>
            <a:ext cx="74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iste una importante cantidad de información comparable y disponible, el desafío consiste en mejorarla, expandirla y combin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990720" y="1676520"/>
            <a:ext cx="7543800" cy="1752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838080" y="1796760"/>
            <a:ext cx="7239240" cy="149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udio sobre la disponibilidad de indicadores de innovación en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ultado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logo_ricyt"/>
          <p:cNvPicPr/>
          <p:nvPr/>
        </p:nvPicPr>
        <p:blipFill>
          <a:blip r:embed="rId1"/>
          <a:stretch/>
        </p:blipFill>
        <p:spPr>
          <a:xfrm>
            <a:off x="1447920" y="5724360"/>
            <a:ext cx="2428920" cy="752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OEI CAEU"/>
          <p:cNvPicPr/>
          <p:nvPr/>
        </p:nvPicPr>
        <p:blipFill>
          <a:blip r:embed="rId2"/>
          <a:stretch/>
        </p:blipFill>
        <p:spPr>
          <a:xfrm>
            <a:off x="4191120" y="5791320"/>
            <a:ext cx="1600200" cy="752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aecid"/>
          <p:cNvPicPr/>
          <p:nvPr/>
        </p:nvPicPr>
        <p:blipFill>
          <a:blip r:embed="rId3"/>
          <a:stretch/>
        </p:blipFill>
        <p:spPr>
          <a:xfrm>
            <a:off x="6172200" y="5648400"/>
            <a:ext cx="1219320" cy="855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228600" y="5410080"/>
            <a:ext cx="8839080" cy="152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352680" y="3886200"/>
            <a:ext cx="5562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Guillermo Anlló (CEP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Jesica De Angelis (Centro Re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iana Suárez (Centro Red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838080" y="609480"/>
            <a:ext cx="7543800" cy="60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28600" y="472320"/>
            <a:ext cx="72388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914400" y="2144880"/>
            <a:ext cx="7696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zar la disponibilidad de indicadores de innovación en Latin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zar las comparabilidad de la información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380880" y="2373480"/>
            <a:ext cx="381240" cy="380880"/>
            <a:chOff x="380880" y="2373480"/>
            <a:chExt cx="381240" cy="380880"/>
          </a:xfrm>
        </p:grpSpPr>
        <p:sp>
          <p:nvSpPr>
            <p:cNvPr id="358" name="Rectangle 6"/>
            <p:cNvSpPr/>
            <p:nvPr/>
          </p:nvSpPr>
          <p:spPr>
            <a:xfrm>
              <a:off x="380880" y="2373480"/>
              <a:ext cx="38124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 rot="5400000">
              <a:off x="418680" y="241128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57200" y="3973680"/>
            <a:ext cx="380880" cy="380880"/>
            <a:chOff x="457200" y="3973680"/>
            <a:chExt cx="380880" cy="380880"/>
          </a:xfrm>
        </p:grpSpPr>
        <p:sp>
          <p:nvSpPr>
            <p:cNvPr id="361" name="Rectangle 9"/>
            <p:cNvSpPr/>
            <p:nvPr/>
          </p:nvSpPr>
          <p:spPr>
            <a:xfrm>
              <a:off x="457200" y="3973680"/>
              <a:ext cx="38088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0"/>
            <p:cNvSpPr/>
            <p:nvPr/>
          </p:nvSpPr>
          <p:spPr>
            <a:xfrm rot="5400000">
              <a:off x="495000" y="401184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838080" y="609480"/>
            <a:ext cx="7543800" cy="60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228600" y="472320"/>
            <a:ext cx="72388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información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5638680" y="2089080"/>
            <a:ext cx="381240" cy="380880"/>
            <a:chOff x="5638680" y="2089080"/>
            <a:chExt cx="381240" cy="380880"/>
          </a:xfrm>
        </p:grpSpPr>
        <p:sp>
          <p:nvSpPr>
            <p:cNvPr id="366" name="Rectangle 5"/>
            <p:cNvSpPr/>
            <p:nvPr/>
          </p:nvSpPr>
          <p:spPr>
            <a:xfrm>
              <a:off x="5638680" y="2089080"/>
              <a:ext cx="38124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 rot="5400000">
              <a:off x="5676480" y="212688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7"/>
          <p:cNvSpPr/>
          <p:nvPr/>
        </p:nvSpPr>
        <p:spPr>
          <a:xfrm>
            <a:off x="5638680" y="20890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principios de la década pasada existen varios países que vienen realizando encuestas de innovación empres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7150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otros tantos que ya han hecho sus primeros ejerc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715000" y="4603680"/>
            <a:ext cx="380880" cy="380880"/>
            <a:chOff x="5715000" y="4603680"/>
            <a:chExt cx="380880" cy="380880"/>
          </a:xfrm>
        </p:grpSpPr>
        <p:sp>
          <p:nvSpPr>
            <p:cNvPr id="371" name="Rectangle 10"/>
            <p:cNvSpPr/>
            <p:nvPr/>
          </p:nvSpPr>
          <p:spPr>
            <a:xfrm>
              <a:off x="5715000" y="4603680"/>
              <a:ext cx="38088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1"/>
            <p:cNvSpPr/>
            <p:nvPr/>
          </p:nvSpPr>
          <p:spPr>
            <a:xfrm rot="5400000">
              <a:off x="5752800" y="464184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icture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50482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838080" y="45720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28600" y="350280"/>
            <a:ext cx="746748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diseño muestral y la pobla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523880"/>
          <a:ext cx="8458200" cy="49690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2514600"/>
                <a:gridCol w="1905120"/>
                <a:gridCol w="1143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ñ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es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gentina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2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s manufactur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s manufactur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-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ecimientos manufactur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ecimientos manufactur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4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4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s manufactur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mbia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-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ecimientos manufactur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s manufactur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ugu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s manufactur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Oval 64"/>
          <p:cNvSpPr/>
          <p:nvPr/>
        </p:nvSpPr>
        <p:spPr>
          <a:xfrm>
            <a:off x="3505320" y="2438280"/>
            <a:ext cx="2209680" cy="1219320"/>
          </a:xfrm>
          <a:prstGeom prst="ellipse">
            <a:avLst/>
          </a:prstGeom>
          <a:solidFill>
            <a:srgbClr val="cc0000">
              <a:alpha val="31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65"/>
          <p:cNvSpPr/>
          <p:nvPr/>
        </p:nvSpPr>
        <p:spPr>
          <a:xfrm>
            <a:off x="5638680" y="2971800"/>
            <a:ext cx="2286000" cy="2438280"/>
          </a:xfrm>
          <a:prstGeom prst="ellipse">
            <a:avLst/>
          </a:prstGeom>
          <a:solidFill>
            <a:srgbClr val="cc0000">
              <a:alpha val="31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838080" y="45720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28600" y="319680"/>
            <a:ext cx="74674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estiones de compar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76320" y="19810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tificación de las variables y parámetros de referencia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astos, ventas, emple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 por año y por período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guntas apreciativas y preguntas dicotómicas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operación y fuentes de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066680" y="1371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s formas de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"/>
          <p:cNvGrpSpPr/>
          <p:nvPr/>
        </p:nvGrpSpPr>
        <p:grpSpPr>
          <a:xfrm>
            <a:off x="609480" y="1447920"/>
            <a:ext cx="381240" cy="380880"/>
            <a:chOff x="609480" y="1447920"/>
            <a:chExt cx="381240" cy="380880"/>
          </a:xfrm>
        </p:grpSpPr>
        <p:sp>
          <p:nvSpPr>
            <p:cNvPr id="384" name="Rectangle 7"/>
            <p:cNvSpPr/>
            <p:nvPr/>
          </p:nvSpPr>
          <p:spPr>
            <a:xfrm>
              <a:off x="609480" y="1447920"/>
              <a:ext cx="38124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8"/>
            <p:cNvSpPr/>
            <p:nvPr/>
          </p:nvSpPr>
          <p:spPr>
            <a:xfrm rot="5400000">
              <a:off x="647280" y="148572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9"/>
          <p:cNvSpPr/>
          <p:nvPr/>
        </p:nvSpPr>
        <p:spPr>
          <a:xfrm>
            <a:off x="1143000" y="3581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obla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609480" y="3581280"/>
            <a:ext cx="381240" cy="380880"/>
            <a:chOff x="609480" y="3581280"/>
            <a:chExt cx="381240" cy="380880"/>
          </a:xfrm>
        </p:grpSpPr>
        <p:sp>
          <p:nvSpPr>
            <p:cNvPr id="388" name="Rectangle 11"/>
            <p:cNvSpPr/>
            <p:nvPr/>
          </p:nvSpPr>
          <p:spPr>
            <a:xfrm>
              <a:off x="609480" y="3581280"/>
              <a:ext cx="38124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2"/>
            <p:cNvSpPr/>
            <p:nvPr/>
          </p:nvSpPr>
          <p:spPr>
            <a:xfrm rot="5400000">
              <a:off x="647280" y="361908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13"/>
          <p:cNvSpPr/>
          <p:nvPr/>
        </p:nvSpPr>
        <p:spPr>
          <a:xfrm>
            <a:off x="152280" y="411480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guntas administradas al panel total, las firmas innovativas, las firmas innov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1430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difusión de l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609480" y="5029200"/>
            <a:ext cx="381240" cy="380880"/>
            <a:chOff x="609480" y="5029200"/>
            <a:chExt cx="381240" cy="380880"/>
          </a:xfrm>
        </p:grpSpPr>
        <p:sp>
          <p:nvSpPr>
            <p:cNvPr id="393" name="Rectangle 16"/>
            <p:cNvSpPr/>
            <p:nvPr/>
          </p:nvSpPr>
          <p:spPr>
            <a:xfrm>
              <a:off x="609480" y="5029200"/>
              <a:ext cx="38124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7"/>
            <p:cNvSpPr/>
            <p:nvPr/>
          </p:nvSpPr>
          <p:spPr>
            <a:xfrm rot="5400000">
              <a:off x="647280" y="5067000"/>
              <a:ext cx="380880" cy="304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18"/>
          <p:cNvSpPr/>
          <p:nvPr/>
        </p:nvSpPr>
        <p:spPr>
          <a:xfrm>
            <a:off x="152280" y="5530680"/>
            <a:ext cx="8991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s de publicación (informes y tabulados; valores absolutos y relativ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sificaciones (tamaño, sector, origen de capital, conducta innovativ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91440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8600" y="74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nsos y disensos sobre la medición de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14400" y="255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"/>
          <p:cNvGrpSpPr/>
          <p:nvPr/>
        </p:nvGrpSpPr>
        <p:grpSpPr>
          <a:xfrm>
            <a:off x="533520" y="2637000"/>
            <a:ext cx="380880" cy="380880"/>
            <a:chOff x="533520" y="2637000"/>
            <a:chExt cx="380880" cy="380880"/>
          </a:xfrm>
        </p:grpSpPr>
        <p:sp>
          <p:nvSpPr>
            <p:cNvPr id="54" name="Rectangle 7"/>
            <p:cNvSpPr/>
            <p:nvPr/>
          </p:nvSpPr>
          <p:spPr>
            <a:xfrm>
              <a:off x="533520" y="26370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609480" y="27129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AutoShape 9"/>
          <p:cNvSpPr/>
          <p:nvPr/>
        </p:nvSpPr>
        <p:spPr>
          <a:xfrm rot="16200000">
            <a:off x="3619440" y="25225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16200000">
            <a:off x="3695760" y="25988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191120" y="2559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dinámica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762120" y="3854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ara qué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533520" y="3855960"/>
            <a:ext cx="380880" cy="380880"/>
            <a:chOff x="533520" y="3855960"/>
            <a:chExt cx="380880" cy="380880"/>
          </a:xfrm>
        </p:grpSpPr>
        <p:sp>
          <p:nvSpPr>
            <p:cNvPr id="61" name="Rectangle 16"/>
            <p:cNvSpPr/>
            <p:nvPr/>
          </p:nvSpPr>
          <p:spPr>
            <a:xfrm>
              <a:off x="533520" y="385596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7"/>
            <p:cNvSpPr/>
            <p:nvPr/>
          </p:nvSpPr>
          <p:spPr>
            <a:xfrm>
              <a:off x="609480" y="393192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18"/>
          <p:cNvSpPr/>
          <p:nvPr/>
        </p:nvSpPr>
        <p:spPr>
          <a:xfrm rot="16200000">
            <a:off x="3619440" y="38174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 rot="16200000">
            <a:off x="3695760" y="38941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733920" y="36874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innovación es una herramienta para el 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914400" y="540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ómo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6"/>
          <p:cNvGrpSpPr/>
          <p:nvPr/>
        </p:nvGrpSpPr>
        <p:grpSpPr>
          <a:xfrm>
            <a:off x="533520" y="5410080"/>
            <a:ext cx="380880" cy="380880"/>
            <a:chOff x="533520" y="5410080"/>
            <a:chExt cx="380880" cy="380880"/>
          </a:xfrm>
        </p:grpSpPr>
        <p:sp>
          <p:nvSpPr>
            <p:cNvPr id="68" name="Rectangle 37"/>
            <p:cNvSpPr/>
            <p:nvPr/>
          </p:nvSpPr>
          <p:spPr>
            <a:xfrm>
              <a:off x="533520" y="54100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8"/>
            <p:cNvSpPr/>
            <p:nvPr/>
          </p:nvSpPr>
          <p:spPr>
            <a:xfrm>
              <a:off x="609480" y="54860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39"/>
          <p:cNvSpPr/>
          <p:nvPr/>
        </p:nvSpPr>
        <p:spPr>
          <a:xfrm rot="16200000">
            <a:off x="3619440" y="537156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0"/>
          <p:cNvSpPr/>
          <p:nvPr/>
        </p:nvSpPr>
        <p:spPr>
          <a:xfrm rot="16200000">
            <a:off x="3695760" y="54482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4191120" y="54244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cuestas de innovación empres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2743200" y="1370160"/>
            <a:ext cx="2666880" cy="459720"/>
          </a:xfrm>
          <a:prstGeom prst="rect">
            <a:avLst/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838080" y="44136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28600" y="303840"/>
            <a:ext cx="74674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información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914400" y="1371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atos 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57200" y="1447920"/>
            <a:ext cx="380880" cy="380880"/>
            <a:chOff x="457200" y="1447920"/>
            <a:chExt cx="380880" cy="380880"/>
          </a:xfrm>
        </p:grpSpPr>
        <p:sp>
          <p:nvSpPr>
            <p:cNvPr id="400" name="Rectangle 6"/>
            <p:cNvSpPr/>
            <p:nvPr/>
          </p:nvSpPr>
          <p:spPr>
            <a:xfrm>
              <a:off x="457200" y="1447920"/>
              <a:ext cx="38088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"/>
            <p:cNvSpPr/>
            <p:nvPr/>
          </p:nvSpPr>
          <p:spPr>
            <a:xfrm rot="5400000">
              <a:off x="495000" y="148608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380880" y="1981080"/>
          <a:ext cx="3733920" cy="2683080"/>
        </p:xfrm>
        <a:graphic>
          <a:graphicData uri="http://schemas.openxmlformats.org/drawingml/2006/table">
            <a:tbl>
              <a:tblPr/>
              <a:tblGrid>
                <a:gridCol w="3733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s de refe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uerz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ínculos / coope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tác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s de inform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s de financi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Text Box 20"/>
          <p:cNvSpPr/>
          <p:nvPr/>
        </p:nvSpPr>
        <p:spPr>
          <a:xfrm>
            <a:off x="4876920" y="1371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21"/>
          <p:cNvGrpSpPr/>
          <p:nvPr/>
        </p:nvGrpSpPr>
        <p:grpSpPr>
          <a:xfrm>
            <a:off x="4419720" y="1447920"/>
            <a:ext cx="380880" cy="380880"/>
            <a:chOff x="4419720" y="1447920"/>
            <a:chExt cx="380880" cy="380880"/>
          </a:xfrm>
        </p:grpSpPr>
        <p:sp>
          <p:nvSpPr>
            <p:cNvPr id="405" name="Rectangle 22"/>
            <p:cNvSpPr/>
            <p:nvPr/>
          </p:nvSpPr>
          <p:spPr>
            <a:xfrm>
              <a:off x="4419720" y="1447920"/>
              <a:ext cx="38088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3"/>
            <p:cNvSpPr/>
            <p:nvPr/>
          </p:nvSpPr>
          <p:spPr>
            <a:xfrm rot="5400000">
              <a:off x="4457520" y="148608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7" name=""/>
          <p:cNvGraphicFramePr/>
          <p:nvPr/>
        </p:nvGraphicFramePr>
        <p:xfrm>
          <a:off x="4343400" y="1981080"/>
          <a:ext cx="4800600" cy="294480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nsidad del ga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sas de inno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sas de vinculación / coope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sas de obstác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fuentes internas y exter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lnSpc>
                          <a:spcPct val="120000"/>
                        </a:lnSpc>
                        <a:spcBef>
                          <a:spcPts val="224"/>
                        </a:spcBef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ción del financi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 Box 36"/>
          <p:cNvSpPr/>
          <p:nvPr/>
        </p:nvSpPr>
        <p:spPr>
          <a:xfrm>
            <a:off x="2286000" y="5029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ota metod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7"/>
          <p:cNvGrpSpPr/>
          <p:nvPr/>
        </p:nvGrpSpPr>
        <p:grpSpPr>
          <a:xfrm>
            <a:off x="1828800" y="5105520"/>
            <a:ext cx="380880" cy="380880"/>
            <a:chOff x="1828800" y="5105520"/>
            <a:chExt cx="380880" cy="380880"/>
          </a:xfrm>
        </p:grpSpPr>
        <p:sp>
          <p:nvSpPr>
            <p:cNvPr id="410" name="Rectangle 38"/>
            <p:cNvSpPr/>
            <p:nvPr/>
          </p:nvSpPr>
          <p:spPr>
            <a:xfrm>
              <a:off x="1828800" y="5105520"/>
              <a:ext cx="380880" cy="380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39"/>
            <p:cNvSpPr/>
            <p:nvPr/>
          </p:nvSpPr>
          <p:spPr>
            <a:xfrm rot="5400000">
              <a:off x="1866600" y="514368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2" name=""/>
          <p:cNvGraphicFramePr/>
          <p:nvPr/>
        </p:nvGraphicFramePr>
        <p:xfrm>
          <a:off x="1828800" y="5549760"/>
          <a:ext cx="5638680" cy="73188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blación, muestra y presentación de los 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indent="266760">
                        <a:buClr>
                          <a:srgbClr val="cc0000"/>
                        </a:buClr>
                        <a:buSzPct val="11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ciones generales y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838080" y="44136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28600" y="303840"/>
            <a:ext cx="74674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tos y variable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7040" y="1295280"/>
          <a:ext cx="8658360" cy="1692360"/>
        </p:xfrm>
        <a:graphic>
          <a:graphicData uri="http://schemas.openxmlformats.org/drawingml/2006/table">
            <a:tbl>
              <a:tblPr/>
              <a:tblGrid>
                <a:gridCol w="720720"/>
                <a:gridCol w="560520"/>
                <a:gridCol w="855720"/>
                <a:gridCol w="560160"/>
                <a:gridCol w="619200"/>
                <a:gridCol w="677880"/>
                <a:gridCol w="679680"/>
                <a:gridCol w="658800"/>
                <a:gridCol w="660240"/>
                <a:gridCol w="673200"/>
                <a:gridCol w="658800"/>
                <a:gridCol w="674640"/>
                <a:gridCol w="65880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 de U$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76,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894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58,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44,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39,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89,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993,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262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878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045,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94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390,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641,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6,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2,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228600" y="3048120"/>
          <a:ext cx="8686800" cy="1692000"/>
        </p:xfrm>
        <a:graphic>
          <a:graphicData uri="http://schemas.openxmlformats.org/drawingml/2006/table">
            <a:tbl>
              <a:tblPr/>
              <a:tblGrid>
                <a:gridCol w="668160"/>
                <a:gridCol w="723960"/>
                <a:gridCol w="723960"/>
                <a:gridCol w="557280"/>
                <a:gridCol w="619200"/>
                <a:gridCol w="690480"/>
                <a:gridCol w="692280"/>
                <a:gridCol w="669960"/>
                <a:gridCol w="666720"/>
                <a:gridCol w="671400"/>
                <a:gridCol w="666720"/>
                <a:gridCol w="668520"/>
                <a:gridCol w="6681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4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11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7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83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3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62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37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55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84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9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1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9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72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8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1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4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7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28600" y="4842000"/>
          <a:ext cx="8686800" cy="1692000"/>
        </p:xfrm>
        <a:graphic>
          <a:graphicData uri="http://schemas.openxmlformats.org/drawingml/2006/table">
            <a:tbl>
              <a:tblPr/>
              <a:tblGrid>
                <a:gridCol w="1366920"/>
                <a:gridCol w="434880"/>
                <a:gridCol w="433440"/>
                <a:gridCol w="434880"/>
                <a:gridCol w="608040"/>
                <a:gridCol w="606600"/>
                <a:gridCol w="790560"/>
                <a:gridCol w="669960"/>
                <a:gridCol w="666720"/>
                <a:gridCol w="669960"/>
                <a:gridCol w="668160"/>
                <a:gridCol w="668520"/>
                <a:gridCol w="6681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s Innov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 de empres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2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838080" y="44136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228600" y="303840"/>
            <a:ext cx="74674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tos y variable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11280" y="1219320"/>
          <a:ext cx="7999200" cy="1692000"/>
        </p:xfrm>
        <a:graphic>
          <a:graphicData uri="http://schemas.openxmlformats.org/drawingml/2006/table">
            <a:tbl>
              <a:tblPr/>
              <a:tblGrid>
                <a:gridCol w="844560"/>
                <a:gridCol w="538200"/>
                <a:gridCol w="463320"/>
                <a:gridCol w="463680"/>
                <a:gridCol w="463680"/>
                <a:gridCol w="463320"/>
                <a:gridCol w="463680"/>
                <a:gridCol w="463320"/>
                <a:gridCol w="463680"/>
                <a:gridCol w="463680"/>
                <a:gridCol w="463320"/>
                <a:gridCol w="463680"/>
                <a:gridCol w="546120"/>
                <a:gridCol w="463680"/>
                <a:gridCol w="507960"/>
                <a:gridCol w="46332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 en I+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 de U$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09480" y="2965320"/>
          <a:ext cx="8001000" cy="1692360"/>
        </p:xfrm>
        <a:graphic>
          <a:graphicData uri="http://schemas.openxmlformats.org/drawingml/2006/table">
            <a:tbl>
              <a:tblPr/>
              <a:tblGrid>
                <a:gridCol w="746280"/>
                <a:gridCol w="476280"/>
                <a:gridCol w="473040"/>
                <a:gridCol w="476280"/>
                <a:gridCol w="474480"/>
                <a:gridCol w="474840"/>
                <a:gridCol w="474480"/>
                <a:gridCol w="476280"/>
                <a:gridCol w="474840"/>
                <a:gridCol w="474480"/>
                <a:gridCol w="474840"/>
                <a:gridCol w="476280"/>
                <a:gridCol w="557280"/>
                <a:gridCol w="475920"/>
                <a:gridCol w="520920"/>
                <a:gridCol w="47448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 en Bienes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 de U$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09480" y="4724280"/>
          <a:ext cx="8001000" cy="1692360"/>
        </p:xfrm>
        <a:graphic>
          <a:graphicData uri="http://schemas.openxmlformats.org/drawingml/2006/table">
            <a:tbl>
              <a:tblPr/>
              <a:tblGrid>
                <a:gridCol w="738360"/>
                <a:gridCol w="468360"/>
                <a:gridCol w="469800"/>
                <a:gridCol w="468360"/>
                <a:gridCol w="469800"/>
                <a:gridCol w="469800"/>
                <a:gridCol w="468360"/>
                <a:gridCol w="470160"/>
                <a:gridCol w="468000"/>
                <a:gridCol w="540000"/>
                <a:gridCol w="469800"/>
                <a:gridCol w="469800"/>
                <a:gridCol w="552600"/>
                <a:gridCol w="468360"/>
                <a:gridCol w="539640"/>
                <a:gridCol w="46980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 en Actividades de inno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 de U$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838080" y="441360"/>
            <a:ext cx="754380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228600" y="303840"/>
            <a:ext cx="74674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dicadores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28600" y="1295280"/>
          <a:ext cx="8678880" cy="1692360"/>
        </p:xfrm>
        <a:graphic>
          <a:graphicData uri="http://schemas.openxmlformats.org/drawingml/2006/table">
            <a:tbl>
              <a:tblPr/>
              <a:tblGrid>
                <a:gridCol w="1309680"/>
                <a:gridCol w="622440"/>
                <a:gridCol w="579240"/>
                <a:gridCol w="622440"/>
                <a:gridCol w="579240"/>
                <a:gridCol w="622440"/>
                <a:gridCol w="723960"/>
                <a:gridCol w="723960"/>
                <a:gridCol w="723600"/>
                <a:gridCol w="723960"/>
                <a:gridCol w="723960"/>
                <a:gridCol w="723960"/>
              </a:tblGrid>
              <a:tr h="30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 innovadoras de proc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/ panel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228600" y="3048120"/>
          <a:ext cx="8686800" cy="1692000"/>
        </p:xfrm>
        <a:graphic>
          <a:graphicData uri="http://schemas.openxmlformats.org/drawingml/2006/table">
            <a:tbl>
              <a:tblPr/>
              <a:tblGrid>
                <a:gridCol w="1351080"/>
                <a:gridCol w="598320"/>
                <a:gridCol w="596880"/>
                <a:gridCol w="598680"/>
                <a:gridCol w="596880"/>
                <a:gridCol w="598320"/>
                <a:gridCol w="723960"/>
                <a:gridCol w="723960"/>
                <a:gridCol w="725400"/>
                <a:gridCol w="723960"/>
                <a:gridCol w="725400"/>
                <a:gridCol w="723960"/>
              </a:tblGrid>
              <a:tr h="30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 innovadoras de 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/ panel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28600" y="4876920"/>
          <a:ext cx="8686800" cy="169380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30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 Innovadoras T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anel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380880" y="1295280"/>
          <a:ext cx="8534520" cy="1692360"/>
        </p:xfrm>
        <a:graphic>
          <a:graphicData uri="http://schemas.openxmlformats.org/drawingml/2006/table">
            <a:tbl>
              <a:tblPr/>
              <a:tblGrid>
                <a:gridCol w="838440"/>
                <a:gridCol w="761760"/>
                <a:gridCol w="638280"/>
                <a:gridCol w="579600"/>
                <a:gridCol w="579240"/>
                <a:gridCol w="577800"/>
                <a:gridCol w="617760"/>
                <a:gridCol w="657000"/>
                <a:gridCol w="657360"/>
                <a:gridCol w="657360"/>
                <a:gridCol w="655560"/>
                <a:gridCol w="657000"/>
                <a:gridCol w="65736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eso a Fondos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/gasto 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80880" y="3124080"/>
          <a:ext cx="8534520" cy="1694160"/>
        </p:xfrm>
        <a:graphic>
          <a:graphicData uri="http://schemas.openxmlformats.org/drawingml/2006/table">
            <a:tbl>
              <a:tblPr/>
              <a:tblGrid>
                <a:gridCol w="838440"/>
                <a:gridCol w="761760"/>
                <a:gridCol w="609840"/>
                <a:gridCol w="609480"/>
                <a:gridCol w="620640"/>
                <a:gridCol w="557280"/>
                <a:gridCol w="595440"/>
                <a:gridCol w="657000"/>
                <a:gridCol w="657360"/>
                <a:gridCol w="655560"/>
                <a:gridCol w="657360"/>
                <a:gridCol w="657000"/>
                <a:gridCol w="65736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operación y Vinculaciones con 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/ innovativ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248"/>
          <p:cNvSpPr/>
          <p:nvPr/>
        </p:nvSpPr>
        <p:spPr>
          <a:xfrm>
            <a:off x="990720" y="593640"/>
            <a:ext cx="7543800" cy="60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9"/>
          <p:cNvSpPr/>
          <p:nvPr/>
        </p:nvSpPr>
        <p:spPr>
          <a:xfrm>
            <a:off x="380880" y="456480"/>
            <a:ext cx="746784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dicadore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0880" y="4923000"/>
          <a:ext cx="8534520" cy="1720800"/>
        </p:xfrm>
        <a:graphic>
          <a:graphicData uri="http://schemas.openxmlformats.org/drawingml/2006/table">
            <a:tbl>
              <a:tblPr/>
              <a:tblGrid>
                <a:gridCol w="838440"/>
                <a:gridCol w="761760"/>
                <a:gridCol w="609840"/>
                <a:gridCol w="609480"/>
                <a:gridCol w="649440"/>
                <a:gridCol w="542880"/>
                <a:gridCol w="581040"/>
                <a:gridCol w="657000"/>
                <a:gridCol w="655920"/>
                <a:gridCol w="657000"/>
                <a:gridCol w="658800"/>
                <a:gridCol w="655560"/>
                <a:gridCol w="65736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ficultades de acceso al financia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  <a:tr h="21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/ innovativ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990720" y="1676520"/>
            <a:ext cx="7543800" cy="1752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838080" y="2315160"/>
            <a:ext cx="72392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www.ricy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400800" y="41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uchas Gra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1440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8600" y="74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nsos y disensos sobre la medición de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14400" y="255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533520" y="2637000"/>
            <a:ext cx="380880" cy="380880"/>
            <a:chOff x="533520" y="2637000"/>
            <a:chExt cx="380880" cy="380880"/>
          </a:xfrm>
        </p:grpSpPr>
        <p:sp>
          <p:nvSpPr>
            <p:cNvPr id="78" name="Rectangle 6"/>
            <p:cNvSpPr/>
            <p:nvPr/>
          </p:nvSpPr>
          <p:spPr>
            <a:xfrm>
              <a:off x="533520" y="26370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7"/>
            <p:cNvSpPr/>
            <p:nvPr/>
          </p:nvSpPr>
          <p:spPr>
            <a:xfrm>
              <a:off x="609480" y="27129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8"/>
          <p:cNvSpPr/>
          <p:nvPr/>
        </p:nvSpPr>
        <p:spPr>
          <a:xfrm rot="16200000">
            <a:off x="3619440" y="25225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 rot="16200000">
            <a:off x="3695760" y="25988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191120" y="2376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procesos innovativos y la dinámica empres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762120" y="3854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ara qué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533520" y="3855960"/>
            <a:ext cx="380880" cy="380880"/>
            <a:chOff x="533520" y="3855960"/>
            <a:chExt cx="380880" cy="380880"/>
          </a:xfrm>
        </p:grpSpPr>
        <p:sp>
          <p:nvSpPr>
            <p:cNvPr id="85" name="Rectangle 13"/>
            <p:cNvSpPr/>
            <p:nvPr/>
          </p:nvSpPr>
          <p:spPr>
            <a:xfrm>
              <a:off x="533520" y="385596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609480" y="393192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5"/>
          <p:cNvSpPr/>
          <p:nvPr/>
        </p:nvSpPr>
        <p:spPr>
          <a:xfrm rot="16200000">
            <a:off x="3619440" y="38174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 rot="16200000">
            <a:off x="3695760" y="38941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4038480" y="3885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ltiplicidad de 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914400" y="540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ómo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9"/>
          <p:cNvGrpSpPr/>
          <p:nvPr/>
        </p:nvGrpSpPr>
        <p:grpSpPr>
          <a:xfrm>
            <a:off x="533520" y="5410080"/>
            <a:ext cx="380880" cy="380880"/>
            <a:chOff x="533520" y="5410080"/>
            <a:chExt cx="380880" cy="380880"/>
          </a:xfrm>
        </p:grpSpPr>
        <p:sp>
          <p:nvSpPr>
            <p:cNvPr id="92" name="Rectangle 20"/>
            <p:cNvSpPr/>
            <p:nvPr/>
          </p:nvSpPr>
          <p:spPr>
            <a:xfrm>
              <a:off x="533520" y="54100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609480" y="54860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22"/>
          <p:cNvSpPr/>
          <p:nvPr/>
        </p:nvSpPr>
        <p:spPr>
          <a:xfrm rot="16200000">
            <a:off x="3619440" y="537156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 rot="16200000">
            <a:off x="3695760" y="54482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4191120" y="5256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ormación, variables e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743200" y="1370160"/>
            <a:ext cx="2666880" cy="459720"/>
          </a:xfrm>
          <a:prstGeom prst="rect">
            <a:avLst/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EN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227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procesos innovativos y la dinámica empres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228600" y="1599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videncia permite sostener 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533520" y="229932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firmas innovativas alcanzan un desempeño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76320" y="292464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xisten impactos diferenciales entre innov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6"/>
          <p:cNvSpPr/>
          <p:nvPr/>
        </p:nvSpPr>
        <p:spPr>
          <a:xfrm rot="16200000">
            <a:off x="495000" y="293328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7"/>
          <p:cNvSpPr/>
          <p:nvPr/>
        </p:nvSpPr>
        <p:spPr>
          <a:xfrm rot="16200000">
            <a:off x="571320" y="3009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495360" y="232416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/>
          <p:cNvSpPr/>
          <p:nvPr/>
        </p:nvSpPr>
        <p:spPr>
          <a:xfrm rot="16200000">
            <a:off x="571320" y="240012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304920" y="396144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unque toda innovación es buena (genera beneficios privados), no toda innovación es igualmente buena (combina beneficios privados con impactos positivos en el entorn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3886200" y="342900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2"/>
          <p:cNvSpPr/>
          <p:nvPr/>
        </p:nvSpPr>
        <p:spPr>
          <a:xfrm>
            <a:off x="3962520" y="350532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3"/>
          <p:cNvSpPr/>
          <p:nvPr/>
        </p:nvSpPr>
        <p:spPr>
          <a:xfrm>
            <a:off x="3859200" y="518148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3935520" y="525780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228600" y="58204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nalizar la conducta empres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838080"/>
            <a:ext cx="8381880" cy="15264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8600" y="227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ducta innovativa empres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543800" y="2895480"/>
            <a:ext cx="129528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2666880" y="640548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mpetenc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24080" y="106668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1905120" y="1604880"/>
            <a:ext cx="144756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. C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505320" y="1600200"/>
            <a:ext cx="198108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en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5638680" y="1604880"/>
            <a:ext cx="15242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228600" y="1604880"/>
            <a:ext cx="144792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838080" y="5877000"/>
            <a:ext cx="12956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RH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8"/>
          <p:cNvSpPr/>
          <p:nvPr/>
        </p:nvSpPr>
        <p:spPr>
          <a:xfrm>
            <a:off x="2209680" y="5872320"/>
            <a:ext cx="12956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1"/>
          <p:cNvSpPr/>
          <p:nvPr/>
        </p:nvSpPr>
        <p:spPr>
          <a:xfrm>
            <a:off x="7238880" y="1600200"/>
            <a:ext cx="15242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2"/>
          <p:cNvSpPr/>
          <p:nvPr/>
        </p:nvSpPr>
        <p:spPr>
          <a:xfrm>
            <a:off x="3581280" y="5872320"/>
            <a:ext cx="12956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4952880" y="5872320"/>
            <a:ext cx="12956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68580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6858000" y="2971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0e1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4"/>
          <p:cNvGrpSpPr/>
          <p:nvPr/>
        </p:nvGrpSpPr>
        <p:grpSpPr>
          <a:xfrm>
            <a:off x="152280" y="2008080"/>
            <a:ext cx="6629400" cy="3782880"/>
            <a:chOff x="152280" y="2008080"/>
            <a:chExt cx="6629400" cy="3782880"/>
          </a:xfrm>
        </p:grpSpPr>
        <p:sp>
          <p:nvSpPr>
            <p:cNvPr id="130" name="AutoShape 31"/>
            <p:cNvSpPr/>
            <p:nvPr/>
          </p:nvSpPr>
          <p:spPr>
            <a:xfrm rot="14464800">
              <a:off x="5445720" y="2245320"/>
              <a:ext cx="766800" cy="381240"/>
            </a:xfrm>
            <a:prstGeom prst="rightArrow">
              <a:avLst>
                <a:gd name="adj1" fmla="val 50000"/>
                <a:gd name="adj2" fmla="val 5028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7"/>
            <p:cNvSpPr/>
            <p:nvPr/>
          </p:nvSpPr>
          <p:spPr>
            <a:xfrm rot="16200000">
              <a:off x="3276360" y="540972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8"/>
            <p:cNvSpPr/>
            <p:nvPr/>
          </p:nvSpPr>
          <p:spPr>
            <a:xfrm rot="16200000">
              <a:off x="3352680" y="5333760"/>
              <a:ext cx="38088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0e1ff"/>
            </a:solidFill>
            <a:ln w="9360">
              <a:solidFill>
                <a:srgbClr val="b46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4"/>
            <p:cNvSpPr/>
            <p:nvPr/>
          </p:nvSpPr>
          <p:spPr>
            <a:xfrm rot="5400000">
              <a:off x="3200040" y="220968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5"/>
            <p:cNvSpPr/>
            <p:nvPr/>
          </p:nvSpPr>
          <p:spPr>
            <a:xfrm rot="5400000">
              <a:off x="3276720" y="2133720"/>
              <a:ext cx="38088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0e1ff"/>
            </a:solidFill>
            <a:ln w="9360">
              <a:solidFill>
                <a:srgbClr val="b46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8"/>
            <p:cNvGrpSpPr/>
            <p:nvPr/>
          </p:nvGrpSpPr>
          <p:grpSpPr>
            <a:xfrm>
              <a:off x="152280" y="2666880"/>
              <a:ext cx="6629400" cy="2590560"/>
              <a:chOff x="152280" y="2666880"/>
              <a:chExt cx="6629400" cy="2590560"/>
            </a:xfrm>
          </p:grpSpPr>
          <p:grpSp>
            <p:nvGrpSpPr>
              <p:cNvPr id="136" name="Group 76"/>
              <p:cNvGrpSpPr/>
              <p:nvPr/>
            </p:nvGrpSpPr>
            <p:grpSpPr>
              <a:xfrm>
                <a:off x="228600" y="2742840"/>
                <a:ext cx="6476400" cy="2395080"/>
                <a:chOff x="228600" y="2742840"/>
                <a:chExt cx="6476400" cy="2395080"/>
              </a:xfrm>
            </p:grpSpPr>
            <p:sp>
              <p:nvSpPr>
                <p:cNvPr id="137" name="AutoShape 60"/>
                <p:cNvSpPr/>
                <p:nvPr/>
              </p:nvSpPr>
              <p:spPr>
                <a:xfrm>
                  <a:off x="1904760" y="3885840"/>
                  <a:ext cx="914040" cy="380880"/>
                </a:xfrm>
                <a:prstGeom prst="rightArrow">
                  <a:avLst>
                    <a:gd name="adj1" fmla="val 50000"/>
                    <a:gd name="adj2" fmla="val 59995"/>
                  </a:avLst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62"/>
                <p:cNvSpPr/>
                <p:nvPr/>
              </p:nvSpPr>
              <p:spPr>
                <a:xfrm>
                  <a:off x="2895120" y="3646080"/>
                  <a:ext cx="1371240" cy="916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tividades de innov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63"/>
                <p:cNvSpPr/>
                <p:nvPr/>
              </p:nvSpPr>
              <p:spPr>
                <a:xfrm>
                  <a:off x="380520" y="2742840"/>
                  <a:ext cx="1371240" cy="368280"/>
                </a:xfrm>
                <a:prstGeom prst="rect">
                  <a:avLst/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ropósi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64"/>
                <p:cNvSpPr/>
                <p:nvPr/>
              </p:nvSpPr>
              <p:spPr>
                <a:xfrm>
                  <a:off x="380520" y="3580920"/>
                  <a:ext cx="1371240" cy="368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bjetiv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65"/>
                <p:cNvSpPr/>
                <p:nvPr/>
              </p:nvSpPr>
              <p:spPr>
                <a:xfrm>
                  <a:off x="228600" y="4495320"/>
                  <a:ext cx="1752120" cy="6426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inanciamiento e Inform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66"/>
                <p:cNvSpPr/>
                <p:nvPr/>
              </p:nvSpPr>
              <p:spPr>
                <a:xfrm>
                  <a:off x="2133360" y="3254040"/>
                  <a:ext cx="304200" cy="15541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</a:rPr>
                    <a:t>Obstácu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67"/>
                <p:cNvSpPr/>
                <p:nvPr/>
              </p:nvSpPr>
              <p:spPr>
                <a:xfrm>
                  <a:off x="5333760" y="3890520"/>
                  <a:ext cx="1371240" cy="368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Result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68"/>
                <p:cNvSpPr/>
                <p:nvPr/>
              </p:nvSpPr>
              <p:spPr>
                <a:xfrm>
                  <a:off x="5333760" y="2976120"/>
                  <a:ext cx="1371240" cy="368280"/>
                </a:xfrm>
                <a:prstGeom prst="rect">
                  <a:avLst/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fec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9"/>
                <p:cNvSpPr/>
                <p:nvPr/>
              </p:nvSpPr>
              <p:spPr>
                <a:xfrm rot="5400000">
                  <a:off x="913680" y="3123720"/>
                  <a:ext cx="228600" cy="38088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70"/>
                <p:cNvSpPr/>
                <p:nvPr/>
              </p:nvSpPr>
              <p:spPr>
                <a:xfrm>
                  <a:off x="837720" y="4038120"/>
                  <a:ext cx="380880" cy="304920"/>
                </a:xfrm>
                <a:prstGeom prst="upDownArrow">
                  <a:avLst>
                    <a:gd name="adj1" fmla="val 50000"/>
                    <a:gd name="adj2" fmla="val 19907"/>
                  </a:avLst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71"/>
                <p:cNvSpPr/>
                <p:nvPr/>
              </p:nvSpPr>
              <p:spPr>
                <a:xfrm>
                  <a:off x="4343040" y="3885840"/>
                  <a:ext cx="914040" cy="380880"/>
                </a:xfrm>
                <a:prstGeom prst="rightArrow">
                  <a:avLst>
                    <a:gd name="adj1" fmla="val 50000"/>
                    <a:gd name="adj2" fmla="val 59995"/>
                  </a:avLst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72"/>
                <p:cNvSpPr/>
                <p:nvPr/>
              </p:nvSpPr>
              <p:spPr>
                <a:xfrm>
                  <a:off x="4571640" y="3254040"/>
                  <a:ext cx="304560" cy="15541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</a:rPr>
                    <a:t>Obstácu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73"/>
                <p:cNvSpPr/>
                <p:nvPr/>
              </p:nvSpPr>
              <p:spPr>
                <a:xfrm rot="16200000">
                  <a:off x="5790600" y="3433320"/>
                  <a:ext cx="381240" cy="380520"/>
                </a:xfrm>
                <a:prstGeom prst="rightArrow">
                  <a:avLst>
                    <a:gd name="adj1" fmla="val 50000"/>
                    <a:gd name="adj2" fmla="val 25047"/>
                  </a:avLst>
                </a:prstGeom>
                <a:solidFill>
                  <a:srgbClr val="97e2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Rectangle 57"/>
              <p:cNvSpPr/>
              <p:nvPr/>
            </p:nvSpPr>
            <p:spPr>
              <a:xfrm>
                <a:off x="152280" y="2666880"/>
                <a:ext cx="6629400" cy="2590560"/>
              </a:xfrm>
              <a:prstGeom prst="rect">
                <a:avLst/>
              </a:prstGeom>
              <a:solidFill>
                <a:srgbClr val="f5eb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AutoShape 32"/>
            <p:cNvSpPr/>
            <p:nvPr/>
          </p:nvSpPr>
          <p:spPr>
            <a:xfrm rot="14464800">
              <a:off x="5524560" y="224316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0e1ff"/>
            </a:solidFill>
            <a:ln w="9360">
              <a:solidFill>
                <a:srgbClr val="b46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1"/>
          <p:cNvSpPr/>
          <p:nvPr/>
        </p:nvSpPr>
        <p:spPr>
          <a:xfrm>
            <a:off x="7238880" y="464832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2"/>
          <p:cNvSpPr/>
          <p:nvPr/>
        </p:nvSpPr>
        <p:spPr>
          <a:xfrm>
            <a:off x="7238880" y="510552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3"/>
          <p:cNvSpPr/>
          <p:nvPr/>
        </p:nvSpPr>
        <p:spPr>
          <a:xfrm>
            <a:off x="7238880" y="556272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6"/>
          <p:cNvSpPr/>
          <p:nvPr/>
        </p:nvSpPr>
        <p:spPr>
          <a:xfrm>
            <a:off x="7238880" y="601992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7"/>
          <p:cNvSpPr/>
          <p:nvPr/>
        </p:nvSpPr>
        <p:spPr>
          <a:xfrm>
            <a:off x="7238880" y="4191120"/>
            <a:ext cx="1752840" cy="368280"/>
          </a:xfrm>
          <a:prstGeom prst="rect">
            <a:avLst/>
          </a:prstGeom>
          <a:solidFill>
            <a:srgbClr val="f0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8"/>
          <p:cNvSpPr/>
          <p:nvPr/>
        </p:nvSpPr>
        <p:spPr>
          <a:xfrm rot="5400000">
            <a:off x="7886520" y="346716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9"/>
          <p:cNvSpPr/>
          <p:nvPr/>
        </p:nvSpPr>
        <p:spPr>
          <a:xfrm rot="5400000">
            <a:off x="7886520" y="3543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0e1ff"/>
          </a:solidFill>
          <a:ln w="9360">
            <a:solidFill>
              <a:srgbClr val="b46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76212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28600" y="227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encuestas de innovación como 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80880" y="1065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os analist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1752480" y="1839960"/>
            <a:ext cx="530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sponibilidad de información ha permitido confirmar y rechazar hipót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n de nueva información y de la actualización de la información pre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4038480" y="24512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1"/>
          <p:cNvSpPr/>
          <p:nvPr/>
        </p:nvSpPr>
        <p:spPr>
          <a:xfrm>
            <a:off x="4114800" y="25272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1752480" y="3886200"/>
            <a:ext cx="530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námica de funcionamiento de la academia ha generado una creciente producción de estudios compar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n información comparable inter-temporal e inter-nacion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4114800" y="46944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4191120" y="477036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7"/>
          <p:cNvGrpSpPr/>
          <p:nvPr/>
        </p:nvGrpSpPr>
        <p:grpSpPr>
          <a:xfrm>
            <a:off x="1219320" y="1905120"/>
            <a:ext cx="380880" cy="380880"/>
            <a:chOff x="1219320" y="1905120"/>
            <a:chExt cx="380880" cy="380880"/>
          </a:xfrm>
        </p:grpSpPr>
        <p:sp>
          <p:nvSpPr>
            <p:cNvPr id="169" name="Rectangle 38"/>
            <p:cNvSpPr/>
            <p:nvPr/>
          </p:nvSpPr>
          <p:spPr>
            <a:xfrm>
              <a:off x="1219320" y="190512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9"/>
            <p:cNvSpPr/>
            <p:nvPr/>
          </p:nvSpPr>
          <p:spPr>
            <a:xfrm>
              <a:off x="1295280" y="198108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1295280" y="3995640"/>
            <a:ext cx="380880" cy="380880"/>
            <a:chOff x="1295280" y="3995640"/>
            <a:chExt cx="380880" cy="380880"/>
          </a:xfrm>
        </p:grpSpPr>
        <p:sp>
          <p:nvSpPr>
            <p:cNvPr id="172" name="Rectangle 41"/>
            <p:cNvSpPr/>
            <p:nvPr/>
          </p:nvSpPr>
          <p:spPr>
            <a:xfrm>
              <a:off x="1295280" y="399564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42"/>
            <p:cNvSpPr/>
            <p:nvPr/>
          </p:nvSpPr>
          <p:spPr>
            <a:xfrm>
              <a:off x="1371240" y="407160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43"/>
          <p:cNvSpPr/>
          <p:nvPr/>
        </p:nvSpPr>
        <p:spPr>
          <a:xfrm>
            <a:off x="228600" y="62625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469ff"/>
                </a:solidFill>
                <a:latin typeface="Arial"/>
              </a:rPr>
              <a:t>Todo ello con nuevas formas de acceso y difusión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76212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" y="227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encuestas de innovación como 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80880" y="1141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os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14400" y="1905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 para el diseño, implementación y monitoreo de políticas nacionales y sub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n nueva información (asociada a surgimiento de nuevos problemas) y demandan vieja información (para evaluar impact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114800" y="243828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4191120" y="25146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838080" y="39625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mportancia del posicionamiento relativo y la imitación de objetivos conduce a monitorear además la evolución de los países de mayor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n información comparable en el plano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4087800" y="480060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4164120" y="4876920"/>
            <a:ext cx="636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e1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380880" y="1954080"/>
            <a:ext cx="380880" cy="380880"/>
            <a:chOff x="380880" y="1954080"/>
            <a:chExt cx="380880" cy="380880"/>
          </a:xfrm>
        </p:grpSpPr>
        <p:sp>
          <p:nvSpPr>
            <p:cNvPr id="185" name="Rectangle 13"/>
            <p:cNvSpPr/>
            <p:nvPr/>
          </p:nvSpPr>
          <p:spPr>
            <a:xfrm>
              <a:off x="380880" y="19540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456840" y="20300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380880" y="4038480"/>
            <a:ext cx="380880" cy="380880"/>
            <a:chOff x="380880" y="4038480"/>
            <a:chExt cx="380880" cy="380880"/>
          </a:xfrm>
        </p:grpSpPr>
        <p:sp>
          <p:nvSpPr>
            <p:cNvPr id="188" name="Rectangle 19"/>
            <p:cNvSpPr/>
            <p:nvPr/>
          </p:nvSpPr>
          <p:spPr>
            <a:xfrm>
              <a:off x="380880" y="40384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0"/>
            <p:cNvSpPr/>
            <p:nvPr/>
          </p:nvSpPr>
          <p:spPr>
            <a:xfrm>
              <a:off x="456840" y="41144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21"/>
          <p:cNvSpPr/>
          <p:nvPr/>
        </p:nvSpPr>
        <p:spPr>
          <a:xfrm>
            <a:off x="2286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469ff"/>
                </a:solidFill>
                <a:latin typeface="Arial"/>
              </a:rPr>
              <a:t>Toda esta información con representatividad nacional y local, actualizada y disponible en tiempo y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91440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28600" y="257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ómo medir: Información, variables e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382320" y="13716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nducta innovativa empres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914400" y="2482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termin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proceso inno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0"/>
          <p:cNvGrpSpPr/>
          <p:nvPr/>
        </p:nvGrpSpPr>
        <p:grpSpPr>
          <a:xfrm>
            <a:off x="457200" y="2468520"/>
            <a:ext cx="380880" cy="380880"/>
            <a:chOff x="457200" y="2468520"/>
            <a:chExt cx="380880" cy="380880"/>
          </a:xfrm>
        </p:grpSpPr>
        <p:sp>
          <p:nvSpPr>
            <p:cNvPr id="196" name="Rectangle 21"/>
            <p:cNvSpPr/>
            <p:nvPr/>
          </p:nvSpPr>
          <p:spPr>
            <a:xfrm>
              <a:off x="457200" y="246852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2"/>
            <p:cNvSpPr/>
            <p:nvPr/>
          </p:nvSpPr>
          <p:spPr>
            <a:xfrm>
              <a:off x="533160" y="254448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3"/>
          <p:cNvSpPr/>
          <p:nvPr/>
        </p:nvSpPr>
        <p:spPr>
          <a:xfrm>
            <a:off x="5186160" y="2039760"/>
            <a:ext cx="31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 p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ply pu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enaza de la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4952880" y="208764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914400" y="3672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proceso inno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6"/>
          <p:cNvGrpSpPr/>
          <p:nvPr/>
        </p:nvGrpSpPr>
        <p:grpSpPr>
          <a:xfrm>
            <a:off x="457200" y="3611520"/>
            <a:ext cx="380880" cy="380880"/>
            <a:chOff x="457200" y="3611520"/>
            <a:chExt cx="380880" cy="380880"/>
          </a:xfrm>
        </p:grpSpPr>
        <p:sp>
          <p:nvSpPr>
            <p:cNvPr id="202" name="Rectangle 27"/>
            <p:cNvSpPr/>
            <p:nvPr/>
          </p:nvSpPr>
          <p:spPr>
            <a:xfrm>
              <a:off x="457200" y="361152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8"/>
            <p:cNvSpPr/>
            <p:nvPr/>
          </p:nvSpPr>
          <p:spPr>
            <a:xfrm>
              <a:off x="533160" y="368748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29"/>
          <p:cNvSpPr/>
          <p:nvPr/>
        </p:nvSpPr>
        <p:spPr>
          <a:xfrm>
            <a:off x="5186520" y="3503520"/>
            <a:ext cx="28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erenciación de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0"/>
          <p:cNvSpPr/>
          <p:nvPr/>
        </p:nvSpPr>
        <p:spPr>
          <a:xfrm>
            <a:off x="4952880" y="3506760"/>
            <a:ext cx="304920" cy="6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6560 h 638280"/>
              <a:gd name="textAreaBottom" fmla="*/ 621720 h 6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914400" y="481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proceso inno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457200" y="4724280"/>
            <a:ext cx="380880" cy="380880"/>
            <a:chOff x="457200" y="4724280"/>
            <a:chExt cx="380880" cy="380880"/>
          </a:xfrm>
        </p:grpSpPr>
        <p:sp>
          <p:nvSpPr>
            <p:cNvPr id="208" name="Rectangle 33"/>
            <p:cNvSpPr/>
            <p:nvPr/>
          </p:nvSpPr>
          <p:spPr>
            <a:xfrm>
              <a:off x="457200" y="47242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4"/>
            <p:cNvSpPr/>
            <p:nvPr/>
          </p:nvSpPr>
          <p:spPr>
            <a:xfrm>
              <a:off x="533160" y="48002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35"/>
          <p:cNvSpPr/>
          <p:nvPr/>
        </p:nvSpPr>
        <p:spPr>
          <a:xfrm>
            <a:off x="5185080" y="4343400"/>
            <a:ext cx="172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ncu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6"/>
          <p:cNvSpPr/>
          <p:nvPr/>
        </p:nvSpPr>
        <p:spPr>
          <a:xfrm>
            <a:off x="4952880" y="4346640"/>
            <a:ext cx="304920" cy="1446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914400" y="61095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sult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proceso inno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9"/>
          <p:cNvGrpSpPr/>
          <p:nvPr/>
        </p:nvGrpSpPr>
        <p:grpSpPr>
          <a:xfrm>
            <a:off x="457200" y="6016680"/>
            <a:ext cx="380880" cy="380880"/>
            <a:chOff x="457200" y="6016680"/>
            <a:chExt cx="380880" cy="380880"/>
          </a:xfrm>
        </p:grpSpPr>
        <p:sp>
          <p:nvSpPr>
            <p:cNvPr id="214" name="Rectangle 40"/>
            <p:cNvSpPr/>
            <p:nvPr/>
          </p:nvSpPr>
          <p:spPr>
            <a:xfrm>
              <a:off x="457200" y="601668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1"/>
            <p:cNvSpPr/>
            <p:nvPr/>
          </p:nvSpPr>
          <p:spPr>
            <a:xfrm>
              <a:off x="533160" y="609264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42"/>
          <p:cNvSpPr/>
          <p:nvPr/>
        </p:nvSpPr>
        <p:spPr>
          <a:xfrm>
            <a:off x="5184720" y="579132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nov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3"/>
          <p:cNvSpPr/>
          <p:nvPr/>
        </p:nvSpPr>
        <p:spPr>
          <a:xfrm>
            <a:off x="4952880" y="5867280"/>
            <a:ext cx="304920" cy="83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914400"/>
            <a:ext cx="8381880" cy="152280"/>
          </a:xfrm>
          <a:prstGeom prst="rect">
            <a:avLst/>
          </a:prstGeom>
          <a:solidFill>
            <a:srgbClr val="f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28600" y="257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45720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actividades innovativa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82320" y="12924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fuerzos innov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907920" y="23137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gast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ctividades d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"/>
          <p:cNvGrpSpPr/>
          <p:nvPr/>
        </p:nvGrpSpPr>
        <p:grpSpPr>
          <a:xfrm>
            <a:off x="450720" y="2270160"/>
            <a:ext cx="380880" cy="380880"/>
            <a:chOff x="450720" y="2270160"/>
            <a:chExt cx="380880" cy="380880"/>
          </a:xfrm>
        </p:grpSpPr>
        <p:sp>
          <p:nvSpPr>
            <p:cNvPr id="223" name="Rectangle 7"/>
            <p:cNvSpPr/>
            <p:nvPr/>
          </p:nvSpPr>
          <p:spPr>
            <a:xfrm>
              <a:off x="450720" y="227016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526680" y="234612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9"/>
          <p:cNvSpPr/>
          <p:nvPr/>
        </p:nvSpPr>
        <p:spPr>
          <a:xfrm>
            <a:off x="5180400" y="1368360"/>
            <a:ext cx="308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+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enes d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cnología desincorp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eniería y diseño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 -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4946760" y="1415880"/>
            <a:ext cx="304560" cy="2179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914400" y="4633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os RRH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innov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2"/>
          <p:cNvGrpSpPr/>
          <p:nvPr/>
        </p:nvGrpSpPr>
        <p:grpSpPr>
          <a:xfrm>
            <a:off x="457200" y="4572000"/>
            <a:ext cx="380880" cy="380880"/>
            <a:chOff x="457200" y="4572000"/>
            <a:chExt cx="380880" cy="380880"/>
          </a:xfrm>
        </p:grpSpPr>
        <p:sp>
          <p:nvSpPr>
            <p:cNvPr id="229" name="Rectangle 13"/>
            <p:cNvSpPr/>
            <p:nvPr/>
          </p:nvSpPr>
          <p:spPr>
            <a:xfrm>
              <a:off x="457200" y="457200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533160" y="464796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5"/>
          <p:cNvSpPr/>
          <p:nvPr/>
        </p:nvSpPr>
        <p:spPr>
          <a:xfrm>
            <a:off x="5183640" y="441972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+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4952880" y="4467240"/>
            <a:ext cx="304920" cy="7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914400" y="5730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os RRH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la 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"/>
          <p:cNvGrpSpPr/>
          <p:nvPr/>
        </p:nvGrpSpPr>
        <p:grpSpPr>
          <a:xfrm>
            <a:off x="457200" y="5668920"/>
            <a:ext cx="380880" cy="380880"/>
            <a:chOff x="457200" y="5668920"/>
            <a:chExt cx="380880" cy="380880"/>
          </a:xfrm>
        </p:grpSpPr>
        <p:sp>
          <p:nvSpPr>
            <p:cNvPr id="235" name="Rectangle 19"/>
            <p:cNvSpPr/>
            <p:nvPr/>
          </p:nvSpPr>
          <p:spPr>
            <a:xfrm>
              <a:off x="457200" y="5668920"/>
              <a:ext cx="38088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533160" y="5744880"/>
              <a:ext cx="228600" cy="228600"/>
            </a:xfrm>
            <a:prstGeom prst="ellipse">
              <a:avLst/>
            </a:prstGeom>
            <a:solidFill>
              <a:srgbClr val="f0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1"/>
          <p:cNvSpPr/>
          <p:nvPr/>
        </p:nvSpPr>
        <p:spPr>
          <a:xfrm>
            <a:off x="5185080" y="548640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ci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4952880" y="5564160"/>
            <a:ext cx="304920" cy="8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2320 h 866880"/>
              <a:gd name="textAreaBottom" fmla="*/ 8445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307800" y="335268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pacidades innov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I</cp:lastModifiedBy>
  <dcterms:modified xsi:type="dcterms:W3CDTF">2009-09-17T17:07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