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5306-0B8B-407D-83B6-9596C024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8A3D-4E56-426F-BDCB-3FA3264A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7B79-377E-4C6E-BE97-DD2EDF78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7340-5387-4054-A2B2-1E206F8C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FA49-B38F-4815-8BEA-6A470934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A937-CA93-40D8-8D3E-16C59A32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89C6-DD0E-44B0-ADF4-DBC2E056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AAD3-365A-4340-A360-981A80FF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9ACE-D191-465B-B1FD-A7AA60F6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562C-B743-45A3-8EF0-9CD64FEC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F734-DEB1-4390-99E2-3DDDBF78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6DED-5D2D-4D13-BB11-4A0B5060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B849-7AB7-4CF8-AF3A-DE673DEA9E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RAMAS PRODUCTIVAS, INNOVACIÓN Y EMPL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nálisis sector primario a través del relevamiento de datos a productores vitíco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1. CONTRATOS DE COMPRA Y VE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ambio de cliente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(bodegas) 2001-2005: cambió o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riterios de selección de bodega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según calidad de la uva que v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ormalización de contrat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escritos o de pala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Jerarquía de cliente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duración de los contratos en función de la jerarqu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rogramación de compra-venta de uva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programación de ventas, tiempos de entrega, reprogramación de ventas y costos asoc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diciones que se pautan en los contratos y grado de satisfacció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por tipo de contrato y temas pac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enalidades por no cumplimiento de lo pac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2. RELACIONES DE COOPERACIÓN CON LA BODEGA NÚCL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laboración de la bodega núcleo con asistencia técnica y/o implementación de alguna innovación, según tipos de innovación o asis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mpacto de esta asistencia en el mejoramiento de la calidad de u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laboración de la bodega núcleo con la provisión de insumos u otras ayudas, según tipo de insumo o ayu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cceso al uso de infraestructura de laboratorios u otros de la bodega núcl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2. RELACIONES DE COOPERACIÓN CON LA BODEGA NÚCL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uniones técnica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con la bodega núcle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í o 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gramadas o 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recuencia en el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emas tra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ersonas que participa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Visitas de técnico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 la bodega núcleo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a la empresa proveedora de u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í o 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recuencia en el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Visitas de personal de la empresa proveedor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a la bodega núcl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í o 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recuencia en el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rigen de la vis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o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ersonal que asistió por categoría ocup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articipación en proyectos de experimentación o investigación conjunt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con la bodega núcl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í o 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ersonas que participaron por categoría ocup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ipo de experimentación o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2. RELACIONES DE COOPERACIÓN CON LA BODEGA NÚCL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irculación de información entre proveedor y bodega núcl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nformación por parte de la bodega, por t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nformación por parte del proveedor por t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3. VÍNCULOS CON OTRAS FIRMAS E INSTITU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laciones con proveedores de insumos, maquinarias o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í o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recibieron asistencia técnica o innovación tecnológica por 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laciones con otras empresas, consultores, instituciones de Ccia. y Téc., grupos privados (CREA), por temas para asistencia técnica y/o innovación tecn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cuerdos de cooperación con otras empresas nacionales o internacionales por 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D. ACTIVIDADES INNOVATIVAS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“permite conocer las principales innovaciones dentro de la empresa a nivel tecnológico y organizacional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1. INNOVACIONES TECNOLÓGICAS EN VIÑE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nejo diferencial de parce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uevas variedades implantadas en cantidad de 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lones o plantas injert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i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gulación del vigor o de la producción (raleo, desbrote, riego deficitar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canización (poda, despampanado, deshoje, cosec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ulveriz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trol de malez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lla antigranizo en cantidad de 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berturas herbác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ucha pasiva o activa contra hel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secha (carpa, caja, bi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diciones en el cul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D1. INNOVACIONES TECNOLÓGICAS 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N VIÑE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sesoramiento téc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í o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quién lo prov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sesoramiento en productos fitosani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í o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quién lo prov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plicación de medidas de higiene y seguridad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uentes de conocimiento para innovación por tipo de f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ticipación en experimentaciones o proyectos con otras organizaciones distintas a la bodega núcl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versiones en equipamiento e innovación realizada en los útlimos 5 años y a realizar en el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D2. C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ertificación de normas de calidad por tipo de nor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ertificación de B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mplementación de BPA sin cert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gistro de labores por tipo de labores regist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ultura organizacional orientada a c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. GESTIÓN DE RECURSOS HUMA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00000" y="1484280"/>
            <a:ext cx="755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FORMULARIO DE ENCUE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VEEDORES DE U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1. EMPLEO Y ORGANIZACIÓN DEL TRABA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tidad y evolución de personal permanente y temporario 2001-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tidad de personal permanente y temporario por tipo de trabajador, categoría ocupacional y sexo 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tidad de trajadores bajo Convenio Colectivo y Registrados en Rena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ficultades para obtener mano de obra con competencias partic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í o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ipo de dificult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ómo lo resu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1. EMPLEO Y ORGANIZACIÓN DEL TRABA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mbios en la organización del trabajo entre 2001-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í o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ipos de camb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mplementación de nuevas modalidades de trabajo, año de inicio, % de trabajadores que afecta y efectos en la comunicación inte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iveles de supervisión de los trabaja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uniones capataces y obr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í o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nificadas o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otivo de las reun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fectos sobrela calidad del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uniones productor/obr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í o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in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articipación de los obreros en la resolución de proble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olivalencia en los obr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ivel educativo del pers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rabajo en otras empresas: sí o no, con qué finalidad, en qué empr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2. RELACIONES LABO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egociaciones productor / personal por categoría ocupacional y tema negoc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dicionales en el salario (remunerativos y no remunerativos) por categoría ocup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alario medio neto por categoría ocup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ercerización de servicios de mano de obra para qué tarea cultural y cantidad de personas que contrata a través de empresas de servicios de man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F. CAPACI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STRATEGIAS DE CAPACI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brinda capaci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versión en capaci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tructura interna encargada de capaci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 quién ha recibido capacitación: bodega núcleo, otras bodegas clientes, provee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fluencia del productor sobre temas y metodología de capaci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ntidad de personal que recibió capacitación en 2006, según temas y categoría ocup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G. TICS EN LA T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ncorporación de TICs en la empresa entre 2001 y 2006 y acceso por categoría ocup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osee red y qué tipo de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Herramientas de software qu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oftware para registro de lab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ágina web, finalidad de la página y actu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A1. Datos generales de la empresa</a:t>
            </a:r>
            <a:br>
              <a:rPr sz="3200"/>
            </a:br>
            <a:br>
              <a:rPr sz="32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permite hacer una caracterización de los productores vitícolas y sus empresas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47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Datos de la empresa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ocalizació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nos permite ver la distribución geográfica y la vinculación de productores con territorios concr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ño de fundación/creació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empresas antiguas, recientes y nue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rigen del capital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local, nacional, extranjero o mi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ipo de empres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personal o persona jurí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amaño y estructura varietal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cantidad de fincas, cantidad de has, cantidad de has con vid (discriminado por fina y común y por varie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atos generales de los produ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- Dirección o gestión técnico-económic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onal, delegada o mix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dad del productor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Mayor, adulto, j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sidencia del productor en la finc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sí o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osibilidad de traspaso generacional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tiene familiar directo con el que comparte la gest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tros ingresos extraprediale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vive de la viticultura o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cio o proveedor como tercero de coope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ivel educativ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analfabeto, primaria, secundaria, terciaria, universitaria, posg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Umbral de conocimientos tecnológicos codificados en viticultur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títulos acadé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strategias de negocio y evolución de la empre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ductos y servicios hacia los que se orienta la empres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: uva, vinos, otros productos agropecuarios, turismo, en % sobre el total de ingresos y/o ve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ceso de reconvers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: desde 1998 a 2006, evolución de la superficie cultivada de uvas finas y comu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erfil productivo en 2006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: Variedades en has y qq cosech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inámica productiva entre 2001 y 2006: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volución en superficie por variedades según color y calidad enológica, en qq cosechados y en ingresos por venta de u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ntegración vertica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: producción de uvas y/o elaboración de vinos en bodega propia o de terceros en % del total de uvas cosechadas en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strategias comercial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:  Distribución relativa de la producción de uvas (por color y calidad enológica) según estrategia comercial: uva para vinificar, para mesa, elaboración de vino (bodega propia o de terceros), elaboración de mo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ambios introducidos en la empresa en la última décad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: en propietario, tamaño, incorporación de tecnologías duras y blandas, profesionalización, comercial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recimiento o no como proveedor de uvas en el mercado loca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: creció, se mantuvo o disminuyó. Explicitación de cau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B1. ESTRUCTURA DE COMPRA-VENTAS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“permite analizar las relaciones comerciales o relaciones precio con las bodegas núcle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strategias de ventas año 2006 y productividad de la empre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Ventas de uv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por variedad, terruño, edad del cultivo, color, calidad enológica, en quintales y precio por kg de uva vend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Ventas de vin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sólo en casos espe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roductividad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qq cosechados, rendimientos promedios de los 3 últimos años, % de pérdidas por granizo por localización, variedad, edad del cultivo, color y calidad en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. RELACIONES CON OTROS AGENTES DE LA T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15:14:03Z</dcterms:created>
  <dc:creator> </dc:creator>
  <dc:description/>
  <dc:language>en-US</dc:language>
  <cp:lastModifiedBy>aruiz</cp:lastModifiedBy>
  <dcterms:modified xsi:type="dcterms:W3CDTF">2008-07-29T21:29:38Z</dcterms:modified>
  <cp:revision>1</cp:revision>
  <dc:subject/>
  <dc:title>TRAMAS PRODUCTIVAS, INNOVACIÓN Y EMPLEO</dc:title>
</cp:coreProperties>
</file>